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A465-F4F3-4916-A537-60A5C1037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B9CF-848B-40DB-AE39-A1465E03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D04D-F520-4765-9B31-577E4394C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963F-9073-4C3A-B3AB-3A9322226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6349-1E05-4C62-9C2C-A3C3604E1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6388-FF5E-4DDB-B382-E92D7193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FA2B-E873-4C95-B15B-11C864DC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D513-D8E6-4B10-A84F-5B49B50A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9019-B58C-4023-8F8D-6FB6448D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635F-2AE0-483A-8695-3FF41210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411C-62F3-4781-AFA4-C6189090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47C5-7721-4D28-AD55-56FBCBCE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007F-58A3-41E8-8ABA-42DA80F9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0BF8-EED1-410E-A4AD-EFEEDABE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C5CA-46F4-41BD-8006-2AFD918D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2B25-D11C-4088-8674-30B502628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A001-5BF9-4F45-8D92-4ADE1CFCA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1148-170B-4D96-AF31-09BFAE07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F81B-A084-4484-8101-FD181A7C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9643-B091-42B7-AF17-0780F6B6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C37D-E60A-4CDA-8887-A8DF394E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D1E0-A509-4539-9300-3BB81CC3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062A-EDA6-443E-BAAB-E52D0981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FD14-09FC-42D0-8423-6B8ECA24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D1AD-65D1-4785-9371-D7C9C2C96729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15A1-E799-4BC6-85D3-CA61B74AEBA5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27920" y="838080"/>
            <a:ext cx="5956200" cy="1434600"/>
          </a:xfrm>
          <a:prstGeom prst="rect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aeaea"/>
                </a:solidFill>
                <a:latin typeface="Times New Roman"/>
              </a:rPr>
              <a:t>where &amp;when </a:t>
            </a:r>
            <a:r>
              <a:rPr b="0" lang="zh-CN" sz="4400" spc="-1" strike="noStrike">
                <a:solidFill>
                  <a:srgbClr val="eaeaea"/>
                </a:solidFill>
                <a:latin typeface="Times New Roman"/>
              </a:rPr>
              <a:t>在定语从句中作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aeaea"/>
                </a:solidFill>
                <a:latin typeface="Times New Roman"/>
              </a:rPr>
              <a:t>地点状语和时间状语的用法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0560" y="2743200"/>
            <a:ext cx="694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he building </a:t>
            </a: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where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 lives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i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very old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10080" y="4648320"/>
            <a:ext cx="1964880" cy="11912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Where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在定语从句中修饰一个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地点名词，作地点状语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17920" y="1727280"/>
            <a:ext cx="78206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8.Mother was worried because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little Alice was ill,especially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__father was away in Franc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A.when                   B.that 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C.during            D.if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472428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259092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Put the umbrella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re it was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1320" y="3757680"/>
            <a:ext cx="825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Put the books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re you took them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24360" y="1219320"/>
            <a:ext cx="1704600" cy="7034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定语从句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7600" y="1981080"/>
            <a:ext cx="8071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Put the book____it is when you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have finished reading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A.which         B.where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C.in which     D.at the plac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419112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39560" y="1498680"/>
            <a:ext cx="846216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When you read the book,you'd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better make a mark ___ you have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any questions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A.at which                B.at where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C.the place where     D.where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43600" y="518148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19320" y="1447920"/>
            <a:ext cx="687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aeaea"/>
                </a:solidFill>
                <a:latin typeface="Times New Roman"/>
              </a:rPr>
              <a:t>I’ll never forget the day </a:t>
            </a: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when</a:t>
            </a:r>
            <a:r>
              <a:rPr b="0" lang="zh-CN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I met you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3657600"/>
            <a:ext cx="6492960" cy="6426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When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修饰一个时间名词，作时间状语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1295280"/>
            <a:ext cx="82296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1.Can you tell me the name of the factory ___ you visited last week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what               B.where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/                      D.whe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952880"/>
            <a:ext cx="198144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1066680"/>
            <a:ext cx="79246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2.I can still remember the sitting-room___my mother and I used to sit in the evening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what          B.which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that            D.wher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472428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30760" y="1066680"/>
            <a:ext cx="8206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3.I shall never forget those year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___ I lived in the country with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the farmers ,____has a great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effect on my lif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that,which       B.when,which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which,that       D.when,who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4724280"/>
            <a:ext cx="35812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41000" y="1295280"/>
            <a:ext cx="8242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4.After living in Paris for fifty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years, he returned to the small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town ___ he grew up as a child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which          B.wher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that              D.whe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4267080"/>
            <a:ext cx="198144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6000" y="1219320"/>
            <a:ext cx="8529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5.She thought I was talking about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her daughter,___in fact,I was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talking about my daughter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whom            B.where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which            D.whil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87692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880" y="1295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6.It was an exciting moment for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hese football fans this year,___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for the first time in years their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eam won the World Cup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A.that               B.while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C.which            D.whe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571500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69960" y="1574640"/>
            <a:ext cx="761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7.I still remember the days___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we studied together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A.that                B.which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C.where             D.whe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457200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8T12:04:58Z</dcterms:created>
  <dc:creator>赵晨盼</dc:creator>
  <dc:description/>
  <dc:language>en-US</dc:language>
  <cp:lastModifiedBy>Legend User</cp:lastModifiedBy>
  <dcterms:modified xsi:type="dcterms:W3CDTF">2002-09-30T10:45:45Z</dcterms:modified>
  <cp:revision>4</cp:revision>
  <dc:subject/>
  <dc:title>PowerPoint 演示文稿</dc:title>
</cp:coreProperties>
</file>