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E120-F7B0-4C34-9BA3-FC6B3845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FAFF-3650-477C-AFC6-E7E5FC1B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CC9F-08C0-49AB-A4D4-57294DC4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1B8-CA96-46FC-90B5-E2091DCB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790E-62FE-41A4-BD4B-1CE94D4C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2324-188A-4ABF-BD21-0F16E8E3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FAA9-D2B0-4137-BB14-94A1F391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72F5-D801-43A1-B9F5-EA865115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41F3-B88F-4C96-AC52-43F7984E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84F9-FEED-499D-90C1-E672EA1F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E0C4-0FC0-4ECE-A6E3-7FB58D1D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A0E-8D79-4FDC-ADDA-9097051E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615F-F9F1-4F9A-9F8C-BCB75DCF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5A79-BD9C-41D6-8471-9A06D97F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6D3D-D483-47A4-BF76-4555DBFA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2158-E83D-454B-B249-D8A3EAA9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E99A-10CA-44AA-9DCC-7E3C93AE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F42-9742-4BBF-BF55-712F4480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CDC8-4F1C-46E8-A6FC-20DBE949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B335-9DE9-40BE-A091-C81DF902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29C1-07D5-4F11-AA26-AE11495B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EC2-A10D-497E-A7D8-E197F8F5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664D-6792-4EE7-9EF4-8053266A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AB2-0530-439B-8114-36038D79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EFFC-4F0C-4A98-890B-D0E986FCA77A}" type="slidenum"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B992-9C68-4200-8874-6F2D3AAE028A}" type="slidenum"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1066680"/>
            <a:ext cx="7772400" cy="825120"/>
          </a:xfrm>
          <a:prstGeom prst="rect">
            <a:avLst/>
          </a:prstGeom>
          <a:noFill/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在定语从句中的用法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3480" y="2590920"/>
            <a:ext cx="819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.Mr King was taken to hosp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is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legs were badly hurt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760" y="4419720"/>
            <a:ext cx="8446680" cy="1556280"/>
          </a:xfrm>
          <a:prstGeom prst="rect">
            <a:avLst/>
          </a:prstGeom>
          <a:noFill/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.Mr King,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hose legs were badly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urt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,was taken to hosp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1720" y="2057400"/>
            <a:ext cx="7785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7.Do you know Mrs Jackson,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___ daughter is a famous poet?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ich                  B.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who                     D.of 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4343400"/>
            <a:ext cx="236196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46600" y="3962520"/>
            <a:ext cx="8597880" cy="1556280"/>
          </a:xfrm>
          <a:prstGeom prst="rect">
            <a:avLst/>
          </a:prstGeom>
          <a:noFill/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.The boss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n whose department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Mr king worked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called at host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523880"/>
            <a:ext cx="927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.The boss called at the hosp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Mr King worked in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his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department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12480" y="1523880"/>
            <a:ext cx="6515640" cy="4480920"/>
          </a:xfrm>
          <a:prstGeom prst="rect">
            <a:avLst/>
          </a:prstGeom>
          <a:noFill/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取代 了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one’s,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表示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所属关系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在从句中作定语，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与名词连用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 =of which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，不能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省略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8800" y="1752480"/>
            <a:ext cx="77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.I'd like a room____ windows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look out over the sea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ose             B.of 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of which         D.in 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4038480"/>
            <a:ext cx="23623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8400" y="1828800"/>
            <a:ext cx="7768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.I'd like a room____ the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indows look out over the sea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ose             B.of 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of which         D.in 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876920"/>
            <a:ext cx="23623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2800" y="1523880"/>
            <a:ext cx="817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3.The river____are covered wit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trees is very long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ich banks        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B.of which banks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whose the banks  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D.the banks of 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943600"/>
            <a:ext cx="51055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44880" y="1905120"/>
            <a:ext cx="8800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4.The book,____the cover is green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belongs to the school library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of which       B.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that               D.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191120"/>
            <a:ext cx="236196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79800" y="1523880"/>
            <a:ext cx="8428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5.The old lady has two daughters,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____ are nurses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two of the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B.both of 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all of 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D.neither of the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4495680"/>
            <a:ext cx="380988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47000" y="1574640"/>
            <a:ext cx="7614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6.His parents wouldn’t let hi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marry anyone___ family was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poor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of whom            B.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of whose            D.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5181480"/>
            <a:ext cx="23623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9T01:12:59Z</dcterms:created>
  <dc:creator>Legend User</dc:creator>
  <dc:description/>
  <dc:language>en-US</dc:language>
  <cp:lastModifiedBy>Legend User</cp:lastModifiedBy>
  <dcterms:modified xsi:type="dcterms:W3CDTF">2002-09-30T12:15:59Z</dcterms:modified>
  <cp:revision>3</cp:revision>
  <dc:subject/>
  <dc:title>PowerPoint 演示文稿</dc:title>
</cp:coreProperties>
</file>