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FF9-E1C1-4BE6-AF17-937AA97A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0AC-C2F9-4869-AC39-E6F67A01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DD4-A58B-43BA-803C-BF75326A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B0D-3579-437B-B1E2-410712D2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9DA2-83F0-4D68-BB2D-07025BA1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9EB1-C861-4BAD-BF78-8642D70A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2C50-1881-499F-AF31-7A31092C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1526-7587-4D57-951D-6370101D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9391-72ED-4B3D-8FE1-F8A787D3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6BAD-3649-4664-8AC3-674D2C99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7C1B-711E-4AA2-B112-88E4DF9E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51A-FA10-45A7-BC51-2F80311B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DD23-776C-40AD-ABA9-C58D78DC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B08F-ED7F-4D07-98CD-1350CD4C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2EB7-BC77-47DD-82E3-3BAA4811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82DA-8C61-4489-8EBD-C889A931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4D2C-A507-4BE3-9C6B-3CEA933E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134-839F-43EF-9622-626C0DA0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10E-D3D5-45F5-8120-A3E09CF5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A14-48E8-4B0B-A68F-4A9BEC1C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D63-EB4B-4002-BC2B-EB13C4B0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824-AB3E-452B-ADE0-8BCC8BAF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D38-728B-48A7-ACFB-61A35B88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7DC-8934-42C2-8ABC-230389FD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CE98-D289-48F2-BB2A-05866F636B6F}" type="slidenum">
              <a:rPr b="0" lang="zh-CN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7215-E7FE-40E2-BDE6-A5430C604F88}" type="slidenum">
              <a:rPr b="0" lang="zh-CN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29800" y="1447920"/>
            <a:ext cx="42253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is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后面动词的形式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02400" y="2971800"/>
            <a:ext cx="420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is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后跟一个宾语从句，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达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与现实不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66ff33"/>
                </a:solidFill>
                <a:latin typeface="Times New Roman"/>
              </a:rPr>
              <a:t>与现实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</a:rPr>
              <a:t>相反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的愿望。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53560" y="1295280"/>
            <a:ext cx="7090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现在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don’t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know French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t is raining right now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2240" y="3500280"/>
            <a:ext cx="413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I knew French</a:t>
            </a:r>
            <a:r>
              <a:rPr b="0" lang="en-US" sz="4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53800" y="4149720"/>
            <a:ext cx="490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it weren’t raining 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right now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3200" y="990720"/>
            <a:ext cx="8004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过去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John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idn’t co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Mary couldn’t co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70480" y="3048120"/>
            <a:ext cx="426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John had com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809880"/>
            <a:ext cx="609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Mary could have come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9160" y="1066680"/>
            <a:ext cx="8309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将来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will not tell 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isn’t going to be her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6760" y="3276720"/>
            <a:ext cx="481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she would tell m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7560" y="3962520"/>
            <a:ext cx="66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he were going to be her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7:59:31Z</dcterms:created>
  <dc:creator>Legend User</dc:creator>
  <dc:description/>
  <dc:language>en-US</dc:language>
  <cp:lastModifiedBy>赵晨盼</cp:lastModifiedBy>
  <dcterms:modified xsi:type="dcterms:W3CDTF">2002-10-27T11:06:09Z</dcterms:modified>
  <cp:revision>3</cp:revision>
  <dc:subject/>
  <dc:title>PowerPoint 演示文稿</dc:title>
</cp:coreProperties>
</file>