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87C-74B2-4F7E-91BB-B6F3A14E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F95-620D-4024-B2DD-450E0F92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662-5C8C-460B-BCCF-6C9212EE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17A-C85E-4501-A4F9-9A0E9F58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253F-BF14-4543-90FF-1B0D3154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500-CB9D-4FA5-BD8F-DD51E779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6B99-6B02-4C30-8505-BE8CC6D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DBEA-5F46-4909-818A-9BED3EDE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CA3E-162E-406B-82B0-E5558CC3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0D5B-A414-49A1-9984-9E010255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C319-52E1-4DDC-BFB7-0BC919E3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286-CAC9-4B40-8248-33619AA8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EAED-916C-451A-B390-104F43E6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0A6B-3C3A-4C93-8CE6-A6C0AD4E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3677-91E0-4A30-AB13-E092D7B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B242-8D9B-40A3-B873-3B6A7EDE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CAE0-464B-4A3D-A78C-7743F3C7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CD4-C2C9-4F9F-9BB3-4D42B798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857-D042-4C51-980C-BC800BE0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B6F-0E7D-4AEB-913F-33433F69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6D7-0058-45D6-A4DA-D410AE03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15E-E16B-430A-A33C-A79D4BD6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75F-C494-478E-884E-D4B5FC1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A90-72E6-474E-88A2-9362C7FB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83D4-F202-43DF-9551-8B07A6513A9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668C-6649-4AF4-ACBC-E23E4F2569F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73600" y="762120"/>
            <a:ext cx="7970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You didn’t let me dr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we ___ in turn,you 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o 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drove;di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drove;woul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ere driving;woul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driven;wouldn’t have g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6019920"/>
            <a:ext cx="7924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240" y="1143000"/>
            <a:ext cx="705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0.---Has Tom been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New Yor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---No,but she wish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h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ould     B.will nex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         D.had nex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6386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1400" y="1295280"/>
            <a:ext cx="763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1.The two strangers t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s if the ___ friends for ye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71500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762120"/>
            <a:ext cx="7088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2.I’d rather you ___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yesterday.I’d rather you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re tomorr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didn’t go;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dn’t gone;should 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n’t gone;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didn’t go;should 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257800"/>
            <a:ext cx="4876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8200" y="1346040"/>
            <a:ext cx="7480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3.___ your help,I w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 finished the work ahe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of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ecause      B.But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ith            D.If I h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3434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23880"/>
            <a:ext cx="788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4.If only I ___ where he liv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know          B.have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knew          D.should 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733920"/>
            <a:ext cx="213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20400" y="762120"/>
            <a:ext cx="6683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5.---Why didn’t you bu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record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---I ___ but I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fford the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ould    B.would like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ou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181480"/>
            <a:ext cx="358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3160" y="1498680"/>
            <a:ext cx="87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6.___ it rain tomorrow,w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uld have to put off the vis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o the Yangpu Brid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re      B.Sh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   D.W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44956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01360" y="533520"/>
            <a:ext cx="8346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7.Jane’s pale face suggest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she __ ill,and her parent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uggested that she ___ a medic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examin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e…should 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as…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should be…h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was…h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952880"/>
            <a:ext cx="32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82360" y="1219320"/>
            <a:ext cx="827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.The monitor insists that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___ on duty the day befo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A.am     B.was    C.be    D.would 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96252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21880" y="4343400"/>
            <a:ext cx="6071760" cy="173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从句中的谓语动词所表示的动作尚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发生，用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hould+V”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，若表示“硬说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用陈述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6280" y="533520"/>
            <a:ext cx="7767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9.Most of the me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emanded(requested,required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the meeting __ till af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ri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n’t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not be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n’t be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not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952880"/>
            <a:ext cx="4114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240" y="304920"/>
            <a:ext cx="7090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if it ___ for the snow,w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___ the mountain yester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ere no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have climb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ere not;could clim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not bee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have climb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not been;could clim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724280"/>
            <a:ext cx="3886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2720" y="736560"/>
            <a:ext cx="7735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0.He came home with a sm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on his face,which sugges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he ___ w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 f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d lo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should hav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441972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2666880"/>
            <a:ext cx="253512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ugg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说明，表明，暗示”，宾语从句用陈述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3120" y="1600200"/>
            <a:ext cx="854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1V.The guard at the gate insis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everybody __ the ru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obeys       B.ob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ill obey   D.would ob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8098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3400" y="0"/>
            <a:ext cx="6247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.---If he ___,he ____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---Luckily he was sent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hospital immediate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.was warned;would not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.had been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ould not have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C.would be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ad not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D.would have been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ad not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733920"/>
            <a:ext cx="4190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7720" y="2209680"/>
            <a:ext cx="758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I wish I ____ you yester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een      B.did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seen     D.were to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5720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5000" y="1523880"/>
            <a:ext cx="7663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5.Without electricity hu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ife ____ quite difficult to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is                 B.will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257800"/>
            <a:ext cx="2895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1560" y="914400"/>
            <a:ext cx="7294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6.When a pencil is partly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 glass of water,it looks as 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t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reaks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s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ere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een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334120"/>
            <a:ext cx="358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88920" y="990720"/>
            <a:ext cx="6566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7.____ go down town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fternoon,please post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etter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Had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ere you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If you d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61722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6640" y="990720"/>
            <a:ext cx="765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8.I lost your address,otherw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or) I ___ you long befo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had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ve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vis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472428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600200"/>
            <a:ext cx="7767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9.I wish  I ___ how to transl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s sent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knew         B.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ve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0:59:03Z</dcterms:created>
  <dc:creator>Legend User</dc:creator>
  <dc:description/>
  <dc:language>en-US</dc:language>
  <cp:lastModifiedBy>Legend User</cp:lastModifiedBy>
  <dcterms:modified xsi:type="dcterms:W3CDTF">2002-10-05T01:29:53Z</dcterms:modified>
  <cp:revision>4</cp:revision>
  <dc:subject/>
  <dc:title>PowerPoint 演示文稿</dc:title>
</cp:coreProperties>
</file>