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BB0-6C18-43F1-B7D0-D0BDE635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FD0-DF08-4DAB-BD2E-EBE04C07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2C1-3831-4975-800A-0358D42B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B35-1E31-4149-A874-9F9AEB1F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18D-EB95-4DAB-8958-F9B761D2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AAE-231A-41EB-A340-3101072F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592-40D7-4A71-B8F8-93C830AB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646-679C-47D5-AFB4-2F6D3D55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512B-AB3A-475D-B95A-54E0E68F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C3F5-E246-40E0-81F8-B07CBED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F56-3472-49AA-B7FC-D16828D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D52-E6A9-4039-8663-B28A50F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413B-D798-4235-911D-1DF51F5A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0BB6-8CDC-4256-86A9-3F47862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AA0B-189F-465C-834F-6ABC0FDF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0AA-7CAD-4100-B8FD-ED48932B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311-86D9-4A04-8D64-CA11D808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6AE-EF57-4258-995C-41F887EC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626-B704-47BA-9D4A-9546FB1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F3C-20E5-405F-9492-DDA5020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703-7453-4B07-BE0A-054E3083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D05-63C0-4503-AE76-B77CD9B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CF8-7E08-44C9-9551-C5777E50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9DA-4532-433E-888A-426256E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08C-185A-4FB1-B7A3-39C2134968E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134C-FE7F-45BD-B18E-38D77FEB592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45640" y="981000"/>
            <a:ext cx="307764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</a:rPr>
              <a:t>insist </a:t>
            </a: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  <a:ea typeface="黑体"/>
              </a:rPr>
              <a:t>的用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565360"/>
            <a:ext cx="70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I insist that you </a:t>
            </a:r>
            <a:r>
              <a:rPr b="0" lang="zh-CN" sz="4800" spc="-1" strike="noStrike">
                <a:solidFill>
                  <a:srgbClr val="ff3300"/>
                </a:solidFill>
                <a:latin typeface="Arial Black"/>
              </a:rPr>
              <a:t>(should give)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my money bac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    “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黑体"/>
              </a:rPr>
              <a:t>坚决要求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476280"/>
            <a:ext cx="6861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came home with  a smile on his face, which suggested that he ___ work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fi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lo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084640"/>
            <a:ext cx="44276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637000"/>
            <a:ext cx="1944720" cy="1312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suggest“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表明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197000"/>
            <a:ext cx="779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The monitor insisted that I ___ on duty the day before yesterda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am     B. wa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C. be      D. w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284640"/>
            <a:ext cx="3095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620640"/>
            <a:ext cx="772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Jane’s pale face suggested that she ___ ill, and her parents suggested that  she ____a medical examinatio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… should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be… ha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365720"/>
            <a:ext cx="4427280" cy="57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628640"/>
            <a:ext cx="707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 insist that my money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be back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y insist that he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leave for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 Beijing tomorrow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0920" y="765000"/>
            <a:ext cx="23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s bac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8200" y="530064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leaves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1916280"/>
            <a:ext cx="70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insisted that his camel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had been</a:t>
            </a: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 stole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440" y="4162320"/>
            <a:ext cx="3126600" cy="82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 sh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teacher suggested that her students ____ a composition after schoo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it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o wri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o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had writte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500280"/>
            <a:ext cx="28814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79440" y="1803240"/>
            <a:ext cx="45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nsist; suggest;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765000"/>
            <a:ext cx="714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The guard at the gate insisted that everybody ____ the rule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obeys   B.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C. will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D.would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3573360"/>
            <a:ext cx="302400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620640"/>
            <a:ext cx="7724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boss insisted that John ___ unfit for his wor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as      B. i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C. should be   D. wer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81360"/>
            <a:ext cx="259236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4653000"/>
            <a:ext cx="5334840" cy="764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insist“</a:t>
            </a: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坚持说”，接陈述语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692280"/>
            <a:ext cx="79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The officer ordered (commanded) the damaged ____ before daw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must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ould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have been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716280"/>
            <a:ext cx="863640" cy="6494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476280"/>
            <a:ext cx="7508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suggested (advised) that the wounded ___ to the hospital as soon as possible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would 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5850000"/>
            <a:ext cx="3961080" cy="747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02:55Z</dcterms:created>
  <dc:creator>Legend User</dc:creator>
  <dc:description/>
  <dc:language>en-US</dc:language>
  <cp:lastModifiedBy>Legend User</cp:lastModifiedBy>
  <dcterms:modified xsi:type="dcterms:W3CDTF">2002-11-25T13:37:19Z</dcterms:modified>
  <cp:revision>6</cp:revision>
  <dc:subject/>
  <dc:title>幻灯片 1</dc:title>
</cp:coreProperties>
</file>