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9698-D423-4129-88D4-98EEBE69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25EF-540A-47C3-9857-094513DF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7583-4FBE-415B-8E28-35E5DF0E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4E35-1A53-4DFB-9E31-A912D034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E116-0575-4AC3-BC90-92701640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9A55-A865-436B-892E-8BC42E26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D3D0-1CD2-4573-90D5-6E492D4B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B018-B381-428C-AA96-0DF99615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4AD1-0151-4916-AE98-F7728A7B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3B2E-BB3E-4954-880D-EA9706C9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16C-09EA-41B7-B750-E891DE11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86E3-0224-43B3-B717-9A555DB7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1A53-FA73-4B67-84F7-D55C631797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228600"/>
            <a:ext cx="876312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anguage Point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I don’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enjoy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singing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nor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do I like compute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enjoy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+v-in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e.g.I really enjoy listening to classical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895480"/>
            <a:ext cx="876312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nor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either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引起句子或分句（在否定句后）说某人、某事与刚才提到过的相同，这时要用倒装语序，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更正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.g David isn’t here tonigh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_________.(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汤姆也是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5029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either/Nor is 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6T08:51:45Z</dcterms:created>
  <dc:creator>user</dc:creator>
  <dc:description/>
  <dc:language>en-US</dc:language>
  <cp:lastModifiedBy>zhangjunguang</cp:lastModifiedBy>
  <dcterms:modified xsi:type="dcterms:W3CDTF">2003-08-08T14:14:13Z</dcterms:modified>
  <cp:revision>8</cp:revision>
  <dc:subject/>
  <dc:title>PowerPoint 演示文稿</dc:title>
</cp:coreProperties>
</file>