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AE60-A133-4EC6-AE02-1FE78532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491-571E-4F75-AE86-EF79CCCD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3D97-7ED9-4F2D-9A2A-88248FD9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F85B-8BA1-4A3F-AFE0-06D66890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F9C-17E0-445B-9730-16D58153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E6FA-ADB4-45C4-A267-1E161D4D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A313-5B2C-4FBE-83AB-32782A13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9DE-84E0-47FB-9CAC-1CFA9697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223D-ED50-4BAC-BC8F-CC32966A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B83-41AC-4097-B541-9452C00F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F5BD-0A2D-4DA5-AFA8-90427BF3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314-6C05-4BD9-836B-4C234D66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36C7-5DF5-4161-90C9-57CFF4A0B9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52280"/>
            <a:ext cx="9296280" cy="47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连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wh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起时间从句时，通常译为“当…时候”。此时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当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nd th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 was working in the garden when I suddenly felt the pain in my stom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Frank was about to leave when he noticed the letter lying on the fl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We were doing our homework when the light went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13:29:47Z</dcterms:created>
  <dc:creator>zhangjunguang</dc:creator>
  <dc:description/>
  <dc:language>en-US</dc:language>
  <cp:lastModifiedBy>zhangjunguang</cp:lastModifiedBy>
  <dcterms:modified xsi:type="dcterms:W3CDTF">2003-08-06T13:39:23Z</dcterms:modified>
  <cp:revision>2</cp:revision>
  <dc:subject/>
  <dc:title>PowerPoint 演示文稿</dc:title>
</cp:coreProperties>
</file>