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94A-06F0-443E-BF43-2EE67D8C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24B-BD9B-45EE-B629-34D21EA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017-5FD3-4279-890B-AD70EE53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8C7-2F02-44A4-89C5-711A9A3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299-8D6B-456A-89BE-C482E2CA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9F8-CDB0-4F1C-BEC4-CB7257A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1CF-A8D0-4BDA-9D42-3214267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189-8865-42F6-BBF9-981A6AD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C36-3978-43CC-BD89-FCB042A4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637-5906-45E5-96C4-5F5FF87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521-0C50-4E3A-8A2B-BF4B5D2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232-47D8-4258-AC1B-ED5E1DE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6BF6-6262-4F99-AAE3-6206B7327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19240"/>
            <a:ext cx="89154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nt 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为“搜寻”、“寻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’ve been hunting for you ever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直在到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are hunting for a house to 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正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寻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租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45:12Z</dcterms:created>
  <dc:creator>zhangjunguang</dc:creator>
  <dc:description/>
  <dc:language>en-US</dc:language>
  <cp:lastModifiedBy>zhangjunguang</cp:lastModifiedBy>
  <dcterms:modified xsi:type="dcterms:W3CDTF">2003-08-06T13:45:30Z</dcterms:modified>
  <cp:revision>1</cp:revision>
  <dc:subject/>
  <dc:title>PowerPoint 演示文稿</dc:title>
</cp:coreProperties>
</file>