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26.gif" ContentType="image/gif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22.gif" ContentType="image/gif"/>
  <Override PartName="/ppt/media/image14.png" ContentType="image/png"/>
  <Override PartName="/ppt/media/image19.wmf" ContentType="image/x-wmf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5.wmf" ContentType="image/x-wmf"/>
  <Override PartName="/ppt/media/image21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EC3-7876-42F3-ABB5-48FEBE36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225-B1FF-41A0-B505-2E59CBC2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FAD-984C-481D-993A-1F41397C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B2A-1139-4359-8026-CB50C912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FCE-2A91-4B4B-BB0F-D3E8ADB2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275-57EB-4C55-9DF1-36C7FFB3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4D1-C390-45FD-A0E3-DC3236D4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E16-192B-42DA-9407-75690A87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63A-AF65-4B97-A317-7D54FB9C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D8F-9B06-49AB-9C8C-B69D04E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F0C-081C-4539-8235-2F8AA74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0EE-77B5-43BB-AA06-75EC114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6D97-82BD-4AFA-9539-A2BABA602E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wm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lesson1step%203%20langusage%20point2.ppt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lesson1step%203%20language%20points1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unit%201%20language%20point3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unit%201%20language%20point4.ppt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52480" y="1981080"/>
            <a:ext cx="6629400" cy="3262320"/>
            <a:chOff x="1752480" y="1981080"/>
            <a:chExt cx="6629400" cy="3262320"/>
          </a:xfrm>
        </p:grpSpPr>
        <p:sp>
          <p:nvSpPr>
            <p:cNvPr id="43" name=""/>
            <p:cNvSpPr txBox="1"/>
            <p:nvPr/>
          </p:nvSpPr>
          <p:spPr>
            <a:xfrm>
              <a:off x="1752480" y="1981080"/>
              <a:ext cx="6629400" cy="1447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889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Unit1</a:t>
              </a:r>
              <a:endParaRPr b="1" lang="en-US" sz="40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889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Good Friends</a:t>
              </a:r>
              <a:endParaRPr b="1" lang="en-US" sz="40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00400" y="4724280"/>
              <a:ext cx="3276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CSUMI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76320"/>
            <a:ext cx="8839440" cy="67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ll in the blanks using the words and phrases you have learnt in this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My friend is_______. He never tells 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I like pop music. She likes ______ music, but we are goo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I think a good friend should not only share happiness, but also      ________ with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Although Father and I often ______ with each other, we are good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Many people keep dogs as pets because dogs are regarded as ______ friends to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If you were alone on a deserted island, you would have to learn to ____ ____   water an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 The young man is very ____ _  history. He reads books about it almost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 She is a ____ girl. She is never afraid of an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 There will be many people at the theatre, so we will go there early__ _____ ___ get good s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 If someone is quick in mind and action, we say he is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28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2286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a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nt 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n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 order  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6324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LOB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76320"/>
            <a:ext cx="8839080" cy="62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rect Speech             Indirect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adventure stories,” said Joh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ohn said that he liked reading adventure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don’t enjoy computers,” Sarah said to her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arah told her friends that she didn’t enjoy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n”, have you seen my blue notebook? Peter as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eter asked Ann if she had seen his blue note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can you co that?” Mary said to A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ry asked Ann how she could do t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fference does it make?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eter asked Jim what difference it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191120"/>
            <a:ext cx="761760" cy="380880"/>
          </a:xfrm>
          <a:custGeom>
            <a:avLst/>
            <a:gdLst>
              <a:gd name="textAreaLeft" fmla="*/ 95040 w 761760"/>
              <a:gd name="textAreaRight" fmla="*/ 666720 w 761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9600" y="1828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1880" y="2971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52280"/>
            <a:ext cx="761760" cy="381240"/>
          </a:xfrm>
          <a:custGeom>
            <a:avLst/>
            <a:gdLst>
              <a:gd name="textAreaLeft" fmla="*/ 95040 w 761760"/>
              <a:gd name="textAreaRight" fmla="*/ 666720 w 7617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257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685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EDIT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76320"/>
            <a:ext cx="91440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eckpoi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ammar Direct and Indirect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When you change a sentence from Direct Speech to Indirect Speech, you sometimes change the verb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broke your CD player.”        He told me that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You often need to change pronoun froms in order to keep the same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e you sure you didn’t do anything to this?”          He asked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You do not change the tense when reporting things that are alway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friend in need is a friend indeed,” Mother said to me.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ther told me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4382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886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5334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11160"/>
            <a:ext cx="9144000" cy="6834240"/>
            <a:chOff x="0" y="11160"/>
            <a:chExt cx="9144000" cy="6834240"/>
          </a:xfrm>
        </p:grpSpPr>
        <p:pic>
          <p:nvPicPr>
            <p:cNvPr id="109" name="2" descr="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9144000" cy="68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E-MAIL7" descr=""/>
            <p:cNvPicPr/>
            <p:nvPr/>
          </p:nvPicPr>
          <p:blipFill>
            <a:blip r:embed="rId2"/>
            <a:stretch/>
          </p:blipFill>
          <p:spPr>
            <a:xfrm>
              <a:off x="4267080" y="4343400"/>
              <a:ext cx="251460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5029200" y="1600200"/>
              <a:ext cx="30481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Chasm"/>
                </a:rPr>
                <a:t>e-mail</a:t>
              </a:r>
              <a:endPara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hasm"/>
                <a:ea typeface="Chasm"/>
              </a:endParaRPr>
            </a:p>
          </p:txBody>
        </p:sp>
        <p:pic>
          <p:nvPicPr>
            <p:cNvPr id="112" name="BD04914_" descr=""/>
            <p:cNvPicPr/>
            <p:nvPr/>
          </p:nvPicPr>
          <p:blipFill>
            <a:blip r:embed="rId3"/>
            <a:stretch/>
          </p:blipFill>
          <p:spPr>
            <a:xfrm>
              <a:off x="228600" y="1523880"/>
              <a:ext cx="3886200" cy="26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gif009" descr=""/>
            <p:cNvPicPr/>
            <p:nvPr/>
          </p:nvPicPr>
          <p:blipFill>
            <a:blip r:embed="rId4"/>
            <a:stretch/>
          </p:blipFill>
          <p:spPr>
            <a:xfrm>
              <a:off x="304920" y="4343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D21" descr=""/>
            <p:cNvPicPr/>
            <p:nvPr/>
          </p:nvPicPr>
          <p:blipFill>
            <a:blip r:embed="rId5"/>
            <a:stretch/>
          </p:blipFill>
          <p:spPr>
            <a:xfrm>
              <a:off x="2133720" y="5181480"/>
              <a:ext cx="11570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D26" descr=""/>
            <p:cNvPicPr/>
            <p:nvPr/>
          </p:nvPicPr>
          <p:blipFill>
            <a:blip r:embed="rId6"/>
            <a:stretch/>
          </p:blipFill>
          <p:spPr>
            <a:xfrm>
              <a:off x="7848720" y="4572000"/>
              <a:ext cx="577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D48" descr=""/>
            <p:cNvPicPr/>
            <p:nvPr/>
          </p:nvPicPr>
          <p:blipFill>
            <a:blip r:embed="rId7"/>
            <a:stretch/>
          </p:blipFill>
          <p:spPr>
            <a:xfrm>
              <a:off x="5867280" y="685800"/>
              <a:ext cx="125748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D34" descr=""/>
            <p:cNvPicPr/>
            <p:nvPr/>
          </p:nvPicPr>
          <p:blipFill>
            <a:blip r:embed="rId8"/>
            <a:stretch/>
          </p:blipFill>
          <p:spPr>
            <a:xfrm>
              <a:off x="1981080" y="228600"/>
              <a:ext cx="18669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D24" descr=""/>
          <p:cNvPicPr/>
          <p:nvPr/>
        </p:nvPicPr>
        <p:blipFill>
          <a:blip r:embed="rId1"/>
          <a:stretch/>
        </p:blipFill>
        <p:spPr>
          <a:xfrm>
            <a:off x="76320" y="3348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19" name="D27" descr=""/>
          <p:cNvPicPr/>
          <p:nvPr/>
        </p:nvPicPr>
        <p:blipFill>
          <a:blip r:embed="rId2"/>
          <a:stretch/>
        </p:blipFill>
        <p:spPr>
          <a:xfrm>
            <a:off x="7924680" y="763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E-MAIL2" descr=""/>
          <p:cNvPicPr/>
          <p:nvPr/>
        </p:nvPicPr>
        <p:blipFill>
          <a:blip r:embed="rId3"/>
          <a:stretch/>
        </p:blipFill>
        <p:spPr>
          <a:xfrm>
            <a:off x="990720" y="1195560"/>
            <a:ext cx="7010280" cy="5406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81280" y="2430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E-m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J2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80880"/>
            <a:ext cx="8839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Kind   honest   brave   loyal   happy   wise   stro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eautiful   handsome   rich   smart   fu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should a good friend be lik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qualities should a good friend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hould they be funny, smart and stro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CEXPDT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8534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What doesn’t John 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What does Joe think of music and skiing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doesn’t enjoy singing,nor does he like compu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34340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Joe rock music is ok,and so is ski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5920" y="4478400"/>
            <a:ext cx="76176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cloze-nex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2590920"/>
            <a:ext cx="7621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J20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76320"/>
            <a:ext cx="8686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Peter is often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lution: I think Peter should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532240"/>
            <a:ext cx="87631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Mary usually 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lution: I think Mary should________________________________ 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9528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894200"/>
            <a:ext cx="87631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________________________________________________.           Solution:________________________________________________ 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CINDST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42800"/>
            <a:ext cx="876312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 knife    a box of matches   a mirror   a radio   a frying pan   a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 hammer    a book     a saw     an umbrella    a rope       a com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I think that ____________would be the most useful, Because I could use it to ___________________, to ______________and to 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 also think that _____________________would be useful, because I could use it to _________________, to __________________and to 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87440" y="457200"/>
            <a:ext cx="8656560" cy="5791320"/>
            <a:chOff x="487440" y="457200"/>
            <a:chExt cx="8656560" cy="5791320"/>
          </a:xfrm>
        </p:grpSpPr>
        <p:pic>
          <p:nvPicPr>
            <p:cNvPr id="61" name="Forest%20Gump" descr=""/>
            <p:cNvPicPr/>
            <p:nvPr/>
          </p:nvPicPr>
          <p:blipFill>
            <a:blip r:embed="rId1"/>
            <a:stretch/>
          </p:blipFill>
          <p:spPr>
            <a:xfrm>
              <a:off x="487440" y="2209680"/>
              <a:ext cx="3322440" cy="40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Tom%20Hanks1" descr=""/>
            <p:cNvPicPr/>
            <p:nvPr/>
          </p:nvPicPr>
          <p:blipFill>
            <a:blip r:embed="rId2"/>
            <a:stretch/>
          </p:blipFill>
          <p:spPr>
            <a:xfrm>
              <a:off x="4191120" y="2590920"/>
              <a:ext cx="4952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23880" y="457200"/>
              <a:ext cx="6782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600" spc="-1" strike="noStrike">
                  <a:solidFill>
                    <a:srgbClr val="ff0000"/>
                  </a:solidFill>
                  <a:latin typeface="Times New Roman"/>
                </a:rPr>
                <a:t>Tom Hanks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5120" y="24382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Froest Gu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380880"/>
            <a:ext cx="8915400" cy="6400800"/>
            <a:chOff x="0" y="380880"/>
            <a:chExt cx="8915400" cy="6400800"/>
          </a:xfrm>
        </p:grpSpPr>
        <p:pic>
          <p:nvPicPr>
            <p:cNvPr id="66" name="cast%20away3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4800600" cy="640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4952880" y="838080"/>
              <a:ext cx="3962520" cy="5257800"/>
              <a:chOff x="4952880" y="838080"/>
              <a:chExt cx="3962520" cy="5257800"/>
            </a:xfrm>
          </p:grpSpPr>
          <p:pic>
            <p:nvPicPr>
              <p:cNvPr id="68" name="cast%20away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838080"/>
                <a:ext cx="39625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cast%20away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320" y="31680"/>
            <a:ext cx="9201960" cy="6867000"/>
            <a:chOff x="76320" y="31680"/>
            <a:chExt cx="9201960" cy="6867000"/>
          </a:xfrm>
        </p:grpSpPr>
        <p:pic>
          <p:nvPicPr>
            <p:cNvPr id="71" name="cast%20away1" descr=""/>
            <p:cNvPicPr/>
            <p:nvPr/>
          </p:nvPicPr>
          <p:blipFill>
            <a:blip r:embed="rId1"/>
            <a:stretch/>
          </p:blipFill>
          <p:spPr>
            <a:xfrm>
              <a:off x="76320" y="31680"/>
              <a:ext cx="6248160" cy="39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cast%20away2" descr=""/>
            <p:cNvPicPr/>
            <p:nvPr/>
          </p:nvPicPr>
          <p:blipFill>
            <a:blip r:embed="rId2"/>
            <a:stretch/>
          </p:blipFill>
          <p:spPr>
            <a:xfrm>
              <a:off x="4292640" y="3975120"/>
              <a:ext cx="477504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 rot="733800">
              <a:off x="306360" y="4402080"/>
              <a:ext cx="36529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Cas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21021600">
              <a:off x="6477120" y="1447560"/>
              <a:ext cx="2666880" cy="182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95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Awa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CRICEP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6320"/>
            <a:ext cx="91440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oes Chuck Noland come to a deserted is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order to survive on the island alone, what does he need to lea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What does he understand at l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For us, what lesson we can learn from Chu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493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e day Chuck is on a flight across the Pacific Ocean when suddenly his plane cr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86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need to learn how to collect water, hunt for food, and make fire. The most difficult challenge is how to survive without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59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understand that friendship is about feelings and that you must give as much as you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56386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lesson we can learn from Chuck and all  the others who have unusual friends is that friends are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help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009800"/>
            <a:ext cx="60948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help-nex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3200400"/>
            <a:ext cx="609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8:33:14Z</dcterms:created>
  <dc:creator>user</dc:creator>
  <dc:description/>
  <dc:language>en-US</dc:language>
  <cp:lastModifiedBy> </cp:lastModifiedBy>
  <dcterms:modified xsi:type="dcterms:W3CDTF">2004-08-15T03:05:06Z</dcterms:modified>
  <cp:revision>37</cp:revision>
  <dc:subject/>
  <dc:title>PowerPoint 演示文稿</dc:title>
</cp:coreProperties>
</file>