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E48-0A90-4D10-B82A-F0F6BFB1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D63-DC03-4516-B3F3-0D37AAF8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E07-3995-4D49-B404-50B2297A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710-4005-4B7A-B8B9-5AE49A8F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8C9-A995-40BD-9189-56C2647A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896-8724-4BC3-96A3-AC57BE21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DA5-36F0-4A00-B4B0-7764CB82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7BB-FCB6-49F8-8D4C-FA8A2B8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93E-F181-4193-8235-E9B6DFAC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631-3872-4DB6-A56B-22F3EBFF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687-81B9-4722-AB92-EBA24473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69B-3636-4627-AF83-C8F0B06C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B730-4A96-4492-903D-B442ECC25C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6868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起的句子或分句（在肯定句后），说某人、某事与刚才提到的相同，这时也用倒装语序。如有助动词或情态动词，把它放在主语之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n can dance beautifully,    and_______________________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姐姐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ock music. _______________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我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a headache.       ______________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我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1240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can her s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do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have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2:09:20Z</dcterms:created>
  <dc:creator>user</dc:creator>
  <dc:description/>
  <dc:language>en-US</dc:language>
  <cp:lastModifiedBy>zhangjunguang</cp:lastModifiedBy>
  <dcterms:modified xsi:type="dcterms:W3CDTF">2003-08-06T06:12:36Z</dcterms:modified>
  <cp:revision>8</cp:revision>
  <dc:subject/>
  <dc:title>PowerPoint 演示文稿</dc:title>
</cp:coreProperties>
</file>