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940-BC89-42E2-9604-8ACED6B9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BE443-9D27-4693-8930-1DEAD6EE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95BD6-9867-40F9-8058-2575D6A2E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FA12E-9F0C-408D-B1C1-BDA2A6E56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7E9E-D313-4FB4-8D67-192BA9449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7DB-02D8-4D11-AD37-3B783D90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89DD1-0EE3-43DB-A493-E7EF43A8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9ED4-7A00-4976-AEBA-716F033F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CF4C-4BD2-4F01-9DB2-D12841BE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C296-2071-4A5E-9056-6695C4026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2378-9461-4AC4-95B0-1A396FC01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CCE3-26F6-4DBC-9169-2A947EB91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B48F-1E20-4379-8C15-A21B7B9184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microsoft.com/china/billgates/" TargetMode="External"/><Relationship Id="rId2" Type="http://schemas.openxmlformats.org/officeDocument/2006/relationships/hyperlink" Target="http://it.sohu.com/itpeople/Bill_Gates.html" TargetMode="External"/><Relationship Id="rId3" Type="http://schemas.openxmlformats.org/officeDocument/2006/relationships/hyperlink" Target="http://it.sohu.com/itpeople/Bill_Gates.html" TargetMode="External"/><Relationship Id="rId4" Type="http://schemas.openxmlformats.org/officeDocument/2006/relationships/hyperlink" Target="http://it.sohu.com/itpeople/Bill_Gates.html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hyperlink" Target="http://www.microsoft.com/billgates/speedofthought/" TargetMode="External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743200" y="5105160"/>
            <a:ext cx="4191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宋体"/>
              </a:rPr>
              <a:t>英语教研组  孙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533160" y="1447560"/>
            <a:ext cx="8305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Times New Roman"/>
                <a:ea typeface="华文细黑"/>
              </a:rPr>
              <a:t>合肥市第十一中学多媒体公开课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2895480"/>
            <a:ext cx="853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5400" spc="-1" strike="noStrike">
                <a:solidFill>
                  <a:srgbClr val="990099"/>
                </a:solidFill>
                <a:latin typeface="Times New Roman"/>
                <a:ea typeface="华文琥珀"/>
              </a:rPr>
              <a:t>欢迎各位评委光临指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837720" y="2438280"/>
            <a:ext cx="7543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99"/>
                </a:solidFill>
                <a:latin typeface="Arial Narrow"/>
                <a:ea typeface="华文细黑"/>
              </a:rPr>
              <a:t>Wb Leeson90.Ex3 in the exercise book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790800" y="4143240"/>
            <a:ext cx="4057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ff"/>
                </a:solidFill>
                <a:latin typeface="Berlin Sans FB"/>
              </a:rPr>
              <a:t>Good Bye!</a:t>
            </a:r>
            <a:r>
              <a:rPr b="0" lang="en-US" sz="5400" spc="-1" strike="noStrike">
                <a:solidFill>
                  <a:srgbClr val="3333ff"/>
                </a:solidFill>
                <a:latin typeface="Wingdings"/>
                <a:ea typeface="Wingdings"/>
              </a:rPr>
              <a:t>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JEFC  SB  2B   </a:t>
            </a:r>
            <a:br>
              <a:rPr sz="4000"/>
            </a:br>
            <a:r>
              <a:rPr b="0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UNIT 23   A famous pers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4876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zh-CN" sz="4800" spc="-1" strike="noStrike">
                <a:solidFill>
                  <a:srgbClr val="990099"/>
                </a:solidFill>
                <a:latin typeface="Arial"/>
                <a:ea typeface="MS Mincho"/>
              </a:rPr>
              <a:t>BILL  GATE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billbio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752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vision:    Ask  and  answ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5029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’s the name of the book Jim and his father are talking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usiness @ The Speed of Thou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es Mr Green think of the book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’s an interesting boo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is the book abou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It tells us how computer technology can solve business problems in new w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Is the book popula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, it’s very popul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Are you interested in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 (No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Because …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1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华文细黑"/>
                <a:ea typeface="华文细黑"/>
              </a:rPr>
              <a:t>Pre-read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do you know about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American  Seattle   clever   computer manager much money  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What can you learn from Bill Gat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Love his work and work h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99"/>
                </a:solidFill>
                <a:latin typeface="Arial Narrow"/>
                <a:ea typeface="华文细黑"/>
              </a:rPr>
              <a:t>Do you want to be person like Bill Gates? Why or why no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3333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 Narrow"/>
                <a:ea typeface="华文细黑"/>
              </a:rPr>
              <a:t>Yes(No). Because…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illg-1" descr=""/>
          <p:cNvPicPr/>
          <p:nvPr/>
        </p:nvPicPr>
        <p:blipFill>
          <a:blip r:embed="rId1"/>
          <a:stretch/>
        </p:blipFill>
        <p:spPr>
          <a:xfrm>
            <a:off x="838080" y="4114800"/>
            <a:ext cx="7848720" cy="213372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71800" y="4191120"/>
            <a:ext cx="6172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  <a:ea typeface="华文细黑"/>
              </a:rPr>
              <a:t>Seattle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 Washington  future  in the future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large  spend  unusual  in the end    work out software  program  Harvard  unversity  develo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BASIC  microcomputer  Microsoft too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 Narrow"/>
              </a:rPr>
              <a:t>Personal    improve   golf  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细黑"/>
                <a:ea typeface="华文细黑"/>
              </a:rPr>
              <a:t>Background:</a:t>
            </a:r>
            <a:r>
              <a:rPr b="0" lang="zh-CN" sz="2000" spc="-1" strike="noStrike">
                <a:solidFill>
                  <a:srgbClr val="808000"/>
                </a:solidFill>
                <a:latin typeface="Times New Roman"/>
              </a:rPr>
              <a:t>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1"/>
              </a:rPr>
              <a:t>微软中文主页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2"/>
              </a:rPr>
              <a:t>搜狐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BILL GATES </a:t>
            </a:r>
            <a:r>
              <a:rPr b="0" lang="zh-CN" sz="2000" spc="-1" strike="noStrike" u="sng">
                <a:solidFill>
                  <a:srgbClr val="0033cc"/>
                </a:solidFill>
                <a:uFillTx/>
                <a:latin typeface="Times New Roman"/>
                <a:hlinkClick r:id="rId4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955800"/>
            <a:ext cx="815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2120" y="2286000"/>
            <a:ext cx="40384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bo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grow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favourit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th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sea" descr=""/>
          <p:cNvPicPr/>
          <p:nvPr/>
        </p:nvPicPr>
        <p:blipFill>
          <a:blip r:embed="rId5"/>
          <a:stretch/>
        </p:blipFill>
        <p:spPr>
          <a:xfrm>
            <a:off x="4952880" y="2209680"/>
            <a:ext cx="2286000" cy="1649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5562720" y="3809880"/>
            <a:ext cx="108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eatt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billbio3" descr=""/>
          <p:cNvPicPr/>
          <p:nvPr/>
        </p:nvPicPr>
        <p:blipFill>
          <a:blip r:embed="rId6"/>
          <a:stretch/>
        </p:blipFill>
        <p:spPr>
          <a:xfrm>
            <a:off x="4952880" y="419112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562720" y="586728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cienti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7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57200" y="1752120"/>
            <a:ext cx="502920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13 years old    play w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e interested in   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Work out   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Only 17      4,200 doll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COMPUTER" descr=""/>
          <p:cNvPicPr/>
          <p:nvPr/>
        </p:nvPicPr>
        <p:blipFill>
          <a:blip r:embed="rId1"/>
          <a:stretch/>
        </p:blipFill>
        <p:spPr>
          <a:xfrm>
            <a:off x="5791320" y="106668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66" name="SOFT" descr=""/>
          <p:cNvPicPr/>
          <p:nvPr/>
        </p:nvPicPr>
        <p:blipFill>
          <a:blip r:embed="rId2"/>
          <a:stretch/>
        </p:blipFill>
        <p:spPr>
          <a:xfrm>
            <a:off x="5867280" y="3429000"/>
            <a:ext cx="2362320" cy="17524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6096600" y="2895480"/>
            <a:ext cx="191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ld compu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01880" y="5181480"/>
            <a:ext cx="129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8458200" y="59436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1760" y="2057040"/>
            <a:ext cx="38098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BASIC lau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In  1975  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99"/>
                </a:solidFill>
                <a:latin typeface="Arial"/>
              </a:rPr>
              <a:t>Microsof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images" descr=""/>
          <p:cNvPicPr/>
          <p:nvPr/>
        </p:nvPicPr>
        <p:blipFill>
          <a:blip r:embed="rId1"/>
          <a:stretch/>
        </p:blipFill>
        <p:spPr>
          <a:xfrm>
            <a:off x="4800600" y="914400"/>
            <a:ext cx="1676520" cy="2438280"/>
          </a:xfrm>
          <a:prstGeom prst="rect">
            <a:avLst/>
          </a:prstGeom>
          <a:ln w="0">
            <a:noFill/>
          </a:ln>
        </p:spPr>
      </p:pic>
      <p:pic>
        <p:nvPicPr>
          <p:cNvPr id="74" name="basicfuture002" descr=""/>
          <p:cNvPicPr/>
          <p:nvPr/>
        </p:nvPicPr>
        <p:blipFill>
          <a:blip r:embed="rId2"/>
          <a:stretch/>
        </p:blipFill>
        <p:spPr>
          <a:xfrm>
            <a:off x="6934320" y="914400"/>
            <a:ext cx="1676160" cy="2438280"/>
          </a:xfrm>
          <a:prstGeom prst="rect">
            <a:avLst/>
          </a:prstGeom>
          <a:ln w="0">
            <a:noFill/>
          </a:ln>
        </p:spPr>
      </p:pic>
      <p:pic>
        <p:nvPicPr>
          <p:cNvPr id="75" name="05-21billceosummit" descr=""/>
          <p:cNvPicPr/>
          <p:nvPr/>
        </p:nvPicPr>
        <p:blipFill>
          <a:blip r:embed="rId3"/>
          <a:stretch/>
        </p:blipFill>
        <p:spPr>
          <a:xfrm>
            <a:off x="6934320" y="3733920"/>
            <a:ext cx="1676160" cy="2361960"/>
          </a:xfrm>
          <a:prstGeom prst="rect">
            <a:avLst/>
          </a:prstGeom>
          <a:ln w="0">
            <a:noFill/>
          </a:ln>
        </p:spPr>
      </p:pic>
      <p:pic>
        <p:nvPicPr>
          <p:cNvPr id="76" name="billbio2a" descr=""/>
          <p:cNvPicPr/>
          <p:nvPr/>
        </p:nvPicPr>
        <p:blipFill>
          <a:blip r:embed="rId4"/>
          <a:stretch/>
        </p:blipFill>
        <p:spPr>
          <a:xfrm>
            <a:off x="4800600" y="3809880"/>
            <a:ext cx="1676520" cy="24386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5029200" y="327672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394040" y="33526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ff"/>
                </a:solidFill>
                <a:latin typeface="Times New Roman"/>
              </a:rPr>
              <a:t>BAS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00600" y="6172200"/>
            <a:ext cx="16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is frie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161480" y="62485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croso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5"/>
          <a:stretch/>
        </p:blipFill>
        <p:spPr>
          <a:xfrm>
            <a:off x="8610480" y="6248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细黑"/>
                <a:ea typeface="华文细黑"/>
              </a:rPr>
              <a:t>Read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In 1999  wrote a b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Business @ the Speed of Thou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1994  marri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enjoy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990099"/>
                </a:solidFill>
                <a:latin typeface="Arial"/>
              </a:rPr>
              <a:t>reading golf bri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Gates" descr=""/>
          <p:cNvPicPr/>
          <p:nvPr/>
        </p:nvPicPr>
        <p:blipFill>
          <a:blip r:embed="rId1"/>
          <a:stretch/>
        </p:blipFill>
        <p:spPr>
          <a:xfrm>
            <a:off x="7010280" y="3124080"/>
            <a:ext cx="1676520" cy="2590920"/>
          </a:xfrm>
          <a:prstGeom prst="rect">
            <a:avLst/>
          </a:prstGeom>
          <a:ln w="0">
            <a:noFill/>
          </a:ln>
        </p:spPr>
      </p:pic>
      <p:pic>
        <p:nvPicPr>
          <p:cNvPr id="87" name="_1046397832_03022801" descr=""/>
          <p:cNvPicPr/>
          <p:nvPr/>
        </p:nvPicPr>
        <p:blipFill>
          <a:blip r:embed="rId2"/>
          <a:stretch/>
        </p:blipFill>
        <p:spPr>
          <a:xfrm>
            <a:off x="4876920" y="3124080"/>
            <a:ext cx="1752480" cy="25909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091920" y="2209680"/>
            <a:ext cx="127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33cc"/>
                </a:solidFill>
                <a:uFillTx/>
                <a:latin typeface="Times New Roman"/>
                <a:hlinkClick r:id="rId3"/>
              </a:rPr>
              <a:t>未来时速主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83818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5f2f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ract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8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Name: Bill G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Date of birth: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Favourate  subject at school: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Hobbies: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What Gates did at  17: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3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75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4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In 1999:_____________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9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Arial Narrow"/>
              </a:rPr>
              <a:t>Additional information:____________________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05320" y="16002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Octorber 28,19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15000" y="2057400"/>
            <a:ext cx="196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science ma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734280" y="2666880"/>
            <a:ext cx="285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Play with comp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15520" y="3124080"/>
            <a:ext cx="439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Worked out a software pro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971800" y="3657600"/>
            <a:ext cx="443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He went to Harverd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69640" y="4114800"/>
            <a:ext cx="516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He began a company called Microsof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968560" y="4648320"/>
            <a:ext cx="408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</a:rPr>
              <a:t>Bill merried Melinda French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975040" y="5105520"/>
            <a:ext cx="459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Business @ the Speed of Though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72000" y="57150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Tow children……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8T13:22:52Z</dcterms:created>
  <dc:creator>孙强</dc:creator>
  <dc:description/>
  <dc:language>en-US</dc:language>
  <cp:lastModifiedBy>孙强</cp:lastModifiedBy>
  <dcterms:modified xsi:type="dcterms:W3CDTF">2003-06-04T13:31:22Z</dcterms:modified>
  <cp:revision>64</cp:revision>
  <dc:subject/>
  <dc:title>合肥市第十一中学多媒体公开课</dc:title>
</cp:coreProperties>
</file>