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jpeg" ContentType="image/jpeg"/>
  <Override PartName="/ppt/media/image10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C3C-65E8-47CD-A7DE-E86AEA8B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D97-1E85-4FBE-BA5D-AE9DA755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6EB-1857-4D8F-83CA-61EE86D1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64AA-DF5A-4860-AD11-E8C2F56C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DBFD-4BC4-4671-9B86-B7A2CF26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B252-556E-4949-BF8D-11658055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5C0E-6E10-4F05-BBEB-3F69FE27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5398-90F6-4583-AEAF-21438465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8BCA-06FA-416C-9190-AD913437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F737-D24C-4E86-AF9B-308D62DD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1CE8-160C-447C-8ECA-B048258D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F176-DBA6-4A68-84AE-487FAC1B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4DBD-CCEC-4F56-955D-FE310D3F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4D05-37BA-4A95-BF4D-2B9E0835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8AE4-BA9D-4F1B-914E-2C1AAEF0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7F78-52F9-4727-983E-ACAA5564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9800-9FF2-4394-9820-4B686D6A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81F-0273-4FE3-9431-D39A6C28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BCD-2AC7-425B-A5C9-C79B6DE0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B135-BB6F-416B-BA7F-E613B024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CE3-A4DC-4408-8809-CB68A7E4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C35-33CE-4439-8413-F216A98B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2B8-2CC7-4209-99C8-6CBC2F8C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008-1764-42EA-B535-B9283477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DEA7-DE3D-451B-8C3B-32C4B4CFEBBE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83E3-DD0B-4831-9BF3-9A810101C67E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124080" y="685800"/>
            <a:ext cx="2667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032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4419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1116360"/>
            <a:ext cx="73785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7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328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329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330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Yes . I’d like to bye two tickets for Shanghai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. ________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Next Frida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Let me see. FlighCA982____________.     There are still tickets for yo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. ______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TR00116_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849600" cy="1268280"/>
          </a:xfrm>
          <a:prstGeom prst="rect">
            <a:avLst/>
          </a:prstGeom>
          <a:ln w="0">
            <a:noFill/>
          </a:ln>
        </p:spPr>
      </p:pic>
      <p:pic>
        <p:nvPicPr>
          <p:cNvPr id="295" name="BL00526_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 wo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ve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l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o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sh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i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y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可爱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冷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热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钓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他（ 宾格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再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晴朗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lovely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44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It’s a lovely day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Yes, it is. Nice and sunny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91320" y="2214360"/>
            <a:ext cx="2976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NA01064_" descr=""/>
          <p:cNvPicPr/>
          <p:nvPr/>
        </p:nvPicPr>
        <p:blipFill>
          <a:blip r:embed="rId1"/>
          <a:stretch/>
        </p:blipFill>
        <p:spPr>
          <a:xfrm>
            <a:off x="5383080" y="1600200"/>
            <a:ext cx="3760920" cy="4040280"/>
          </a:xfrm>
          <a:prstGeom prst="rect">
            <a:avLst/>
          </a:prstGeom>
          <a:ln w="0">
            <a:noFill/>
          </a:ln>
        </p:spPr>
      </p:pic>
      <p:pic>
        <p:nvPicPr>
          <p:cNvPr id="303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981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It’s cold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Yes 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40160" y="23619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SO00305_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159360" cy="3460680"/>
          </a:xfrm>
          <a:prstGeom prst="rect">
            <a:avLst/>
          </a:prstGeom>
          <a:ln w="0">
            <a:noFill/>
          </a:ln>
        </p:spPr>
      </p:pic>
      <p:pic>
        <p:nvPicPr>
          <p:cNvPr id="308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It’s hot,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isn’t it</a:t>
            </a: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E00542_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413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a little windy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5362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Lovely weather, isn’t it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Yes. But a little windy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5880" y="2209680"/>
            <a:ext cx="2671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l1523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146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  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a lovely day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2.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a nice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95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It’s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</a:rPr>
              <a:t>a fine day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, isn’t i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Look, he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’s fishing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34120" y="2214360"/>
            <a:ext cx="3433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l1522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429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_______________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Look,____________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SO00483_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84464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13:35:59Z</dcterms:created>
  <dc:creator>jxh</dc:creator>
  <dc:description/>
  <dc:language>en-US</dc:language>
  <cp:lastModifiedBy>jxh</cp:lastModifiedBy>
  <dcterms:modified xsi:type="dcterms:W3CDTF">2001-12-23T15:17:58Z</dcterms:modified>
  <cp:revision>3</cp:revision>
  <dc:subject/>
  <dc:title>PowerPoint 演示文稿</dc:title>
</cp:coreProperties>
</file>