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247-251C-48B2-B913-6BFAF339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686-13B4-47C1-8C58-3F31FDF9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A36-AB41-441C-9E49-E0B36995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5FCB-94B0-4628-A905-B9FE48C0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DFF-0FDC-45F3-B0E9-F7EFEA19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EFB0-86F1-4171-B712-4B7DF55E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D0A-D837-48A0-85FA-F1FD2ABA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E91-BACB-4BB3-A83F-19542016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764-A3CD-4023-90A5-C97A9B7F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750-8AED-4AE3-9607-8BEEBAD6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B09-1B9A-41DF-8089-9D0BEAAB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432-2A69-4794-9902-1B8D740D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9423-7D88-4CA3-A78A-6681039A8A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3240" y="954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wn  vt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5080" y="77616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67920" y="138600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himself in the river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3640" y="205740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eat flood drowned many hou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000" y="289548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rowning man / a drowned 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3610080"/>
            <a:ext cx="39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 … from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520" y="4191120"/>
            <a:ext cx="85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avy rain yesterday prevented us ( from) co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43520" y="4875120"/>
            <a:ext cx="434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… (from)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op… (from)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keep.. from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8720" y="39996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side 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0240" y="44784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颠倒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杂乱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4760" y="10666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g upside down from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1752480"/>
            <a:ext cx="61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y turned the room upside d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5640" y="2438280"/>
            <a:ext cx="55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cond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828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分钟都很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8920" y="36576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minute cou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1240" y="4267080"/>
            <a:ext cx="41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ep /bear ..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1840" y="4952880"/>
            <a:ext cx="50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keep these rules in m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320" y="557676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that the petrol can only last 2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8000" y="17136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anic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3808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ase of fire, don’t pan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0" y="1630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0800" y="169056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in a p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3320" y="24382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rowd was in a pan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2000" y="31240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phoned the doctor in pani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4160" y="396252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calm adj.v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34360" y="4038480"/>
            <a:ext cx="45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a calm, cloudless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6200" y="4800600"/>
            <a:ext cx="70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lways keeps/stays calm 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5480" y="55530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go to calm the pat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2560" y="5553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557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3400" y="399960"/>
            <a:ext cx="32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d   ( 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0" y="120960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didn’t respond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94360" y="190512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hasn’t responded to treatment y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41360" y="254484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s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8400" y="3276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/gave no response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8400" y="4038480"/>
            <a:ext cx="64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cries for  help met with no respon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0440" y="480060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respon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7640" y="5562720"/>
            <a:ext cx="67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opened the door in response to a kno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080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282600"/>
            <a:ext cx="19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0" y="863640"/>
            <a:ext cx="48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you witness the accid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6440" y="162576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ness to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。。。 作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720" y="223524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witnessed to seeing that man take the m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960" y="276876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ness     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3800" y="3290760"/>
            <a:ext cx="75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e found the witness to the murder c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374796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a witness to the accid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6560" y="429732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 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w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8520" y="48769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mas is on the way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6320" y="541008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on the way to getting wel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7120" y="59436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on the way to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5:31Z</dcterms:modified>
  <cp:revision>6</cp:revision>
  <dc:subject/>
  <dc:title>PowerPoint Presentation</dc:title>
</cp:coreProperties>
</file>