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jpeg" ContentType="image/jpeg"/>
  <Override PartName="/ppt/media/image3.jpeg" ContentType="image/jpeg"/>
  <Override PartName="/ppt/media/click.wav" ContentType="audio/x-wav"/>
  <Override PartName="/ppt/media/hammer.wav" ContentType="audio/x-wav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D93C0-FA7D-4A51-A469-00E5F7F73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267920"/>
            <a:ext cx="77724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914400" y="3807720"/>
            <a:ext cx="77724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28B0D-ED79-46F4-8F05-4C370A668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14400" y="1267920"/>
            <a:ext cx="37926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97080" y="1267920"/>
            <a:ext cx="37926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914400" y="3807720"/>
            <a:ext cx="37926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897080" y="3807720"/>
            <a:ext cx="37926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4818E-85C2-4AE1-96D3-DDAB72FED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14400" y="1267920"/>
            <a:ext cx="250236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542400" y="1267920"/>
            <a:ext cx="250236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170040" y="1267920"/>
            <a:ext cx="250236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914400" y="3807720"/>
            <a:ext cx="250236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542400" y="3807720"/>
            <a:ext cx="250236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170040" y="3807720"/>
            <a:ext cx="250236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6FAD4-2D02-4C54-8356-5611D620D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68E5E-AE7C-496E-9DB4-50239F365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14400" y="1267920"/>
            <a:ext cx="7772400" cy="48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9FF59-5278-495C-AF5A-BCB2036E3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267920"/>
            <a:ext cx="77724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14360-E0C6-4AB6-8C33-97DE3AF85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267920"/>
            <a:ext cx="37926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267920"/>
            <a:ext cx="37926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6460C-A747-41A8-8F82-68329ED61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4C4D5-6854-4AC6-B362-B2A175F9D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426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BBE89-0BD9-480C-8351-733CCF9FC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267920"/>
            <a:ext cx="37926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97080" y="1267920"/>
            <a:ext cx="37926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400" y="3807720"/>
            <a:ext cx="37926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535BF-3471-4D9A-B7C8-BE89666EA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914400" y="1267920"/>
            <a:ext cx="7772400" cy="48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6DA54-5D56-47F8-94F5-1B7FB87A0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267920"/>
            <a:ext cx="37926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267920"/>
            <a:ext cx="37926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97080" y="3807720"/>
            <a:ext cx="37926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8C9A7-B277-48B6-AA50-D65E1FF4B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267920"/>
            <a:ext cx="37926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267920"/>
            <a:ext cx="37926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07720"/>
            <a:ext cx="77724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D91CE-406B-451B-B61A-DEE96655C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267920"/>
            <a:ext cx="77724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914400" y="3807720"/>
            <a:ext cx="77724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F3F61-3FD2-424E-9A65-2681A34F7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267920"/>
            <a:ext cx="37926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97080" y="1267920"/>
            <a:ext cx="37926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14400" y="3807720"/>
            <a:ext cx="37926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97080" y="3807720"/>
            <a:ext cx="37926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467B7-BF58-4650-9E8E-1C79AF743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400" y="1267920"/>
            <a:ext cx="250236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42400" y="1267920"/>
            <a:ext cx="250236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70040" y="1267920"/>
            <a:ext cx="250236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914400" y="3807720"/>
            <a:ext cx="250236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42400" y="3807720"/>
            <a:ext cx="250236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70040" y="3807720"/>
            <a:ext cx="250236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5531D-EDBB-4013-835D-4C6302217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14400" y="1267920"/>
            <a:ext cx="77724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51DA9-7D54-4BEA-916D-73CBF16AE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400" y="1267920"/>
            <a:ext cx="37926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97080" y="1267920"/>
            <a:ext cx="37926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26DB8-68E1-4063-8393-11A145A3F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05726-1BB6-48B9-821E-D2338733A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426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E38B7-2D56-4AAD-9A1C-FFB1599E3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14400" y="1267920"/>
            <a:ext cx="37926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7080" y="1267920"/>
            <a:ext cx="37926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14400" y="3807720"/>
            <a:ext cx="37926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03E07-0153-42D9-BBEA-E4D14F6D5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267920"/>
            <a:ext cx="37926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267920"/>
            <a:ext cx="37926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897080" y="3807720"/>
            <a:ext cx="37926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FC506-0714-418D-BD1F-944CEC170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267920"/>
            <a:ext cx="37926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267920"/>
            <a:ext cx="37926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14400" y="3807720"/>
            <a:ext cx="77724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E3449-6D41-4F3E-87EC-98D6730D7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609480" cy="48769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539640" y="1125360"/>
            <a:ext cx="8305920" cy="182520"/>
            <a:chOff x="539640" y="1125360"/>
            <a:chExt cx="8305920" cy="182520"/>
          </a:xfrm>
        </p:grpSpPr>
        <p:sp>
          <p:nvSpPr>
            <p:cNvPr id="2" name=""/>
            <p:cNvSpPr/>
            <p:nvPr/>
          </p:nvSpPr>
          <p:spPr>
            <a:xfrm>
              <a:off x="7016760" y="1125360"/>
              <a:ext cx="1828800" cy="18252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9640" y="1201680"/>
              <a:ext cx="8305920" cy="0"/>
            </a:xfrm>
            <a:prstGeom prst="line">
              <a:avLst/>
            </a:prstGeom>
            <a:ln w="1908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14400" y="1267920"/>
            <a:ext cx="77724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1F4B4-C08E-4DC8-A1DF-6444D03A734B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7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49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3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62490-E4B7-4C9F-AE45-1329926DE256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9109080" y="6491160"/>
            <a:ext cx="66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Created by </a:t>
            </a:r>
            <a:r>
              <a:rPr b="1" i="1" lang="zh-CN" sz="1800" spc="-1" strike="noStrike">
                <a:solidFill>
                  <a:srgbClr val="0000ff"/>
                </a:solidFill>
                <a:latin typeface="Arial"/>
              </a:rPr>
              <a:t>Dreamskier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E-mail: </a:t>
            </a:r>
            <a:r>
              <a:rPr b="0" lang="zh-CN" sz="1800" spc="-1" strike="noStrike" u="sng">
                <a:solidFill>
                  <a:srgbClr val="0000ff"/>
                </a:solidFill>
                <a:uFillTx/>
                <a:latin typeface="Arial"/>
              </a:rPr>
              <a:t>dreamskier@sina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4.jpeg"/><Relationship Id="rId3" Type="http://schemas.openxmlformats.org/officeDocument/2006/relationships/slide" Target="slide5.xm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audio" Target="../media/click.wav"/><Relationship Id="rId3" Type="http://schemas.openxmlformats.org/officeDocument/2006/relationships/audio" Target="../media/click.wav"/><Relationship Id="rId4" Type="http://schemas.openxmlformats.org/officeDocument/2006/relationships/audio" Target="../media/click.wav"/><Relationship Id="rId5" Type="http://schemas.openxmlformats.org/officeDocument/2006/relationships/audio" Target="../media/click.wav"/><Relationship Id="rId6" Type="http://schemas.openxmlformats.org/officeDocument/2006/relationships/audio" Target="../media/click.wav"/><Relationship Id="rId7" Type="http://schemas.openxmlformats.org/officeDocument/2006/relationships/audio" Target="../media/click.wav"/><Relationship Id="rId8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hammer.wav"/><Relationship Id="rId2" Type="http://schemas.openxmlformats.org/officeDocument/2006/relationships/audio" Target="../media/hammer.wav"/><Relationship Id="rId3" Type="http://schemas.openxmlformats.org/officeDocument/2006/relationships/audio" Target="../media/hammer.wav"/><Relationship Id="rId4" Type="http://schemas.openxmlformats.org/officeDocument/2006/relationships/audio" Target="../media/hammer.wav"/><Relationship Id="rId5" Type="http://schemas.openxmlformats.org/officeDocument/2006/relationships/audio" Target="../media/hammer.wav"/><Relationship Id="rId6" Type="http://schemas.openxmlformats.org/officeDocument/2006/relationships/audio" Target="../media/hammer.wav"/><Relationship Id="rId7" Type="http://schemas.openxmlformats.org/officeDocument/2006/relationships/audio" Target="../media/hammer.wav"/><Relationship Id="rId8" Type="http://schemas.openxmlformats.org/officeDocument/2006/relationships/audio" Target="../media/hammer.wav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4.jpeg"/><Relationship Id="rId3" Type="http://schemas.openxmlformats.org/officeDocument/2006/relationships/slide" Target="slide5.xm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2003623157341501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4771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914400" y="533520"/>
            <a:ext cx="7467480" cy="198108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Unit  5   Advertising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81080" y="2895480"/>
            <a:ext cx="4572000" cy="1008360"/>
          </a:xfrm>
          <a:prstGeom prst="rect">
            <a:avLst/>
          </a:prstGeom>
          <a:gradFill rotWithShape="0">
            <a:gsLst>
              <a:gs pos="0">
                <a:srgbClr val="ff66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1" lang="en-US" sz="6000" spc="-1" strike="noStrike">
                <a:solidFill>
                  <a:srgbClr val="003399"/>
                </a:solidFill>
                <a:latin typeface="Times New Roman"/>
              </a:rPr>
              <a:t>Lesson   1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-152280"/>
            <a:ext cx="9144000" cy="83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</a:t>
            </a:r>
            <a:r>
              <a:rPr b="0" lang="zh-CN" sz="3200" spc="-1" strike="noStrike">
                <a:solidFill>
                  <a:srgbClr val="0033cc"/>
                </a:solidFill>
                <a:latin typeface="Times New Roman"/>
              </a:rPr>
              <a:t>11.  The following could be an advertisement except________. </a:t>
            </a:r>
            <a:r>
              <a:rPr b="0" lang="zh-CN" sz="3200" spc="-1" strike="noStrike">
                <a:solidFill>
                  <a:srgbClr val="0033cc"/>
                </a:solidFill>
                <a:latin typeface="Times New Roman"/>
              </a:rPr>
              <a:t>　　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A. mail                               B. ne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C.  a sign outside a shop    D. products free of charge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</a:t>
            </a:r>
            <a:r>
              <a:rPr b="0" lang="zh-CN" sz="3200" spc="-1" strike="noStrike">
                <a:solidFill>
                  <a:srgbClr val="0033cc"/>
                </a:solidFill>
                <a:latin typeface="Times New Roman"/>
              </a:rPr>
              <a:t>12.  In this text,  the writer does not tell us________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A.  advertisements can be used in tourism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B.  balloons can be used to advert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C.  advertising may make a product cheap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D.  advertisement in Europe is more comm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than that in As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495680" y="220968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38080" y="5562720"/>
            <a:ext cx="571680" cy="53316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533520" y="609480"/>
            <a:ext cx="8458200" cy="62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Times New Roman"/>
              </a:rPr>
              <a:t>13.Why can good advertisements reduce the price of produc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A.Repeated advertising increases product sales and therefore increases product sales and therefore increases production.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B.The more products are made, the less the cost is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C.Advertising costs little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D.Both A and 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4419720"/>
            <a:ext cx="533520" cy="53316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0"/>
            <a:ext cx="70102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Step 3.language poi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28600" y="685800"/>
            <a:ext cx="891540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0033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330033"/>
                </a:solidFill>
                <a:latin typeface="宋体"/>
              </a:rPr>
              <a:t>．</a:t>
            </a:r>
            <a:r>
              <a:rPr b="1" lang="zh-CN" sz="2800" spc="-1" strike="noStrike">
                <a:solidFill>
                  <a:srgbClr val="330033"/>
                </a:solidFill>
                <a:latin typeface="Times New Roman"/>
              </a:rPr>
              <a:t>The development of radio,television</a:t>
            </a:r>
            <a:r>
              <a:rPr b="1" lang="zh-CN" sz="2800" spc="-1" strike="noStrike">
                <a:solidFill>
                  <a:srgbClr val="330033"/>
                </a:solidFill>
                <a:latin typeface="宋体"/>
              </a:rPr>
              <a:t>，</a:t>
            </a:r>
            <a:r>
              <a:rPr b="1" lang="zh-CN" sz="2800" spc="-1" strike="noStrike">
                <a:solidFill>
                  <a:srgbClr val="330033"/>
                </a:solidFill>
                <a:latin typeface="Times New Roman"/>
              </a:rPr>
              <a:t>cinema</a:t>
            </a:r>
            <a:r>
              <a:rPr b="1" lang="zh-CN" sz="2800" spc="-1" strike="noStrike">
                <a:solidFill>
                  <a:srgbClr val="330033"/>
                </a:solidFill>
                <a:latin typeface="宋体"/>
              </a:rPr>
              <a:t>，</a:t>
            </a:r>
            <a:r>
              <a:rPr b="1" lang="zh-CN" sz="2800" spc="-1" strike="noStrike">
                <a:solidFill>
                  <a:srgbClr val="330033"/>
                </a:solidFill>
                <a:latin typeface="Times New Roman"/>
              </a:rPr>
              <a:t>magazines and newspapers</a:t>
            </a:r>
            <a:r>
              <a:rPr b="1" lang="zh-CN" sz="28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has gone hand in hand with</a:t>
            </a:r>
            <a:r>
              <a:rPr b="1" lang="zh-CN" sz="28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330033"/>
                </a:solidFill>
                <a:latin typeface="Times New Roman"/>
              </a:rPr>
              <a:t>development of advertising</a:t>
            </a:r>
            <a:r>
              <a:rPr b="1" lang="zh-CN" sz="2800" spc="-1" strike="noStrike">
                <a:solidFill>
                  <a:srgbClr val="330033"/>
                </a:solidFill>
                <a:latin typeface="宋体"/>
              </a:rPr>
              <a:t>．无线电、电视、电影、杂志和报纸的发展同广告业的发展是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齐头并进</a:t>
            </a:r>
            <a:r>
              <a:rPr b="1" lang="zh-CN" sz="2800" spc="-1" strike="noStrike">
                <a:solidFill>
                  <a:srgbClr val="330033"/>
                </a:solidFill>
                <a:latin typeface="宋体"/>
              </a:rPr>
              <a:t>的</a:t>
            </a:r>
            <a:r>
              <a:rPr b="1" lang="zh-CN" sz="2800" spc="-1" strike="noStrike">
                <a:solidFill>
                  <a:srgbClr val="990033"/>
                </a:solidFill>
                <a:latin typeface="宋体"/>
              </a:rPr>
              <a:t>。</a:t>
            </a:r>
            <a:r>
              <a:rPr b="1" lang="zh-CN" sz="2800" spc="-1" strike="noStrike">
                <a:solidFill>
                  <a:srgbClr val="990033"/>
                </a:solidFill>
                <a:latin typeface="Times New Roman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04920" y="2666880"/>
            <a:ext cx="883908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go hand in hand with</a:t>
            </a: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表示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与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……</a:t>
            </a: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密切相关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”</a:t>
            </a: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，相当于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go together with</a:t>
            </a: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，其中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go with</a:t>
            </a: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表示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相配，随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……</a:t>
            </a: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而来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”</a:t>
            </a: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之意。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hand in hand</a:t>
            </a: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为副词短语，表示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手牵着手，密切联系，和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……</a:t>
            </a: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一道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”</a:t>
            </a: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之意，后面常加介词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with</a:t>
            </a: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，再加名词。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e</a:t>
            </a: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．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g</a:t>
            </a: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．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6320" y="5240160"/>
            <a:ext cx="9144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0033"/>
                </a:solidFill>
                <a:latin typeface="Times New Roman"/>
              </a:rPr>
              <a:t>①</a:t>
            </a:r>
            <a:r>
              <a:rPr b="1" lang="zh-CN" sz="2800" spc="-1" strike="noStrike">
                <a:solidFill>
                  <a:srgbClr val="330033"/>
                </a:solidFill>
                <a:latin typeface="Times New Roman"/>
              </a:rPr>
              <a:t>Money doesn’t always go hand in hand with happiness</a:t>
            </a:r>
            <a:r>
              <a:rPr b="1" lang="zh-CN" sz="2800" spc="-1" strike="noStrike">
                <a:solidFill>
                  <a:srgbClr val="330033"/>
                </a:solidFill>
                <a:latin typeface="宋体"/>
              </a:rPr>
              <a:t>．</a:t>
            </a:r>
            <a:r>
              <a:rPr b="1" lang="zh-CN" sz="2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219320" y="6064200"/>
            <a:ext cx="76197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金钱并不总是同幸福密切相关。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304920" y="609480"/>
            <a:ext cx="8458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②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gnorance and poverty often go hand in hand</a:t>
            </a:r>
            <a:r>
              <a:rPr b="1" lang="zh-CN" sz="3200" spc="-1" strike="noStrike">
                <a:solidFill>
                  <a:srgbClr val="990033"/>
                </a:solidFill>
                <a:latin typeface="宋体"/>
              </a:rPr>
              <a:t>．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143000" y="1447920"/>
            <a:ext cx="746748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宋体"/>
              </a:rPr>
              <a:t>愚昧和贫穷总是紧密地联结在一起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914400" y="2362320"/>
            <a:ext cx="77724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③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 have no tapes to go with the book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219320" y="3276720"/>
            <a:ext cx="7619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我没有这本书配套的磁带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914400" y="4267080"/>
            <a:ext cx="769608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④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and in hand with reading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e has developing the habit of making notes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．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914400" y="5562720"/>
            <a:ext cx="762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在阅读的同时，他养成了做笔记的习惯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406440" y="317520"/>
            <a:ext cx="911232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. hand in hand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in hand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t hand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与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by hand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38080" y="1143000"/>
            <a:ext cx="938556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hand in hand ---</a:t>
            </a:r>
            <a:r>
              <a:rPr b="0" lang="zh-CN" sz="3200" spc="-1" strike="noStrike">
                <a:solidFill>
                  <a:srgbClr val="ff3300"/>
                </a:solidFill>
                <a:latin typeface="宋体"/>
              </a:rPr>
              <a:t>手牵手，携手，共同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57200" y="1981080"/>
            <a:ext cx="929484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in hand---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在手里／手边，进行中，掌握中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80880" y="2625840"/>
            <a:ext cx="929484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at hand ---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在手边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常与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close , near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连用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68280" y="3276720"/>
            <a:ext cx="93852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by hand ---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用手工做，由专人递送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3857760"/>
            <a:ext cx="929664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I always keep a dictionary _____________  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②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Her sweater is knitted _____________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．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   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③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They walked ______________ in the garden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．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④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The police had the riot(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暴动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)____________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．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715000" y="3809880"/>
            <a:ext cx="227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in/at h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181480" y="4343400"/>
            <a:ext cx="255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by h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505320" y="5105520"/>
            <a:ext cx="26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hand in h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400800" y="5715000"/>
            <a:ext cx="209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in h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685800" y="1219320"/>
            <a:ext cx="8229600" cy="37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would say=used to say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过去的习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Often he 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would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take a seat at the back before the lecture beg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There 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used to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be a hospital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过去持续的状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He will not have the money to spend on books as he 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used to.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以前经常（现在不了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Word formation: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413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joke+ing+ly=joking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66ff"/>
                </a:solidFill>
                <a:latin typeface="Arial"/>
              </a:rPr>
              <a:t>smilingly; surprisingly; understandingly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spcAft>
                <a:spcPts val="524"/>
              </a:spcAft>
              <a:buClr>
                <a:srgbClr val="b2b2b2"/>
              </a:buClr>
              <a:buSzPct val="90000"/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She explained the whole story and her boss nodded </a:t>
            </a:r>
            <a:r>
              <a:rPr b="1" i="1" lang="zh-CN" sz="2800" spc="-1" strike="noStrike">
                <a:solidFill>
                  <a:srgbClr val="0066ff"/>
                </a:solidFill>
                <a:latin typeface="Arial"/>
              </a:rPr>
              <a:t>understandingly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她解释了事情的全部经过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她的上司理解地点着头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spcAft>
                <a:spcPts val="524"/>
              </a:spcAft>
              <a:buClr>
                <a:srgbClr val="b2b2b2"/>
              </a:buClr>
              <a:buSzPct val="90000"/>
              <a:buFont typeface="Arial"/>
              <a:buAutoNum type="alphaL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The musician smiled </a:t>
            </a:r>
            <a:r>
              <a:rPr b="1" i="1" lang="zh-CN" sz="2800" spc="-1" strike="noStrike">
                <a:solidFill>
                  <a:srgbClr val="0066ff"/>
                </a:solidFill>
                <a:latin typeface="Arial"/>
              </a:rPr>
              <a:t>approvingly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while the little girl was playing the pian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女孩弹奏钢琴时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位音乐家赞许地微笑着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Word formation: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60128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spcAft>
                <a:spcPts val="524"/>
              </a:spcAft>
              <a:buClr>
                <a:srgbClr val="b2b2b2"/>
              </a:buClr>
              <a:buSzPct val="90000"/>
              <a:buFont typeface="Arial"/>
              <a:buAutoNum type="alphaL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>
                <a:solidFill>
                  <a:srgbClr val="0066ff"/>
                </a:solidFill>
                <a:latin typeface="Arial"/>
              </a:rPr>
              <a:t>Surprisingly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, the weather report on the evening before the storm said there would be strong winds, but not a hurrica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spcAft>
                <a:spcPts val="524"/>
              </a:spcAft>
              <a:buClr>
                <a:srgbClr val="b2b2b2"/>
              </a:buClr>
              <a:buSzPct val="90000"/>
              <a:buFont typeface="Arial"/>
              <a:buAutoNum type="alphaL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He replied </a:t>
            </a:r>
            <a:r>
              <a:rPr b="0" i="1" lang="zh-CN" sz="2800" spc="-1" strike="noStrike">
                <a:solidFill>
                  <a:srgbClr val="0066ff"/>
                </a:solidFill>
                <a:latin typeface="Arial"/>
              </a:rPr>
              <a:t>laughingly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, “Aren’t you making the same mistakes?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他大笑着回答说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”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不是也犯同样的错误吗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?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762120" y="22860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4. think up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think out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85800" y="990720"/>
            <a:ext cx="769608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think up ---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设想、构思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(creat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85800" y="1828800"/>
            <a:ext cx="769608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think out ---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仔细思考并研究出（计划等），或者想透问题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(work ou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066680" y="3497400"/>
            <a:ext cx="76964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57200" y="3048120"/>
            <a:ext cx="8381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 have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thought up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two ways to solve the problem of dealing with the waste in front of our hou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04920" y="4724280"/>
            <a:ext cx="883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y spent a whole week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thinking ou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the contract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80880" y="5486400"/>
            <a:ext cx="9144000" cy="191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risoner tried to think up a plan for escap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think up, think out, think over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33160" y="1521000"/>
            <a:ext cx="84582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751"/>
              </a:spcBef>
              <a:spcAft>
                <a:spcPts val="56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000" spc="-1" strike="noStrike">
                <a:solidFill>
                  <a:srgbClr val="000000"/>
                </a:solidFill>
                <a:latin typeface="Arial"/>
              </a:rPr>
              <a:t>think up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指想出来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虚构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51"/>
              </a:spcBef>
              <a:spcAft>
                <a:spcPts val="56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000" spc="-1" strike="noStrike">
                <a:solidFill>
                  <a:srgbClr val="000000"/>
                </a:solidFill>
                <a:latin typeface="Arial"/>
              </a:rPr>
              <a:t>think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zh-CN" sz="3000" spc="-1" strike="noStrike">
                <a:solidFill>
                  <a:srgbClr val="000000"/>
                </a:solidFill>
                <a:latin typeface="Arial"/>
              </a:rPr>
              <a:t>out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: consider carefully and make a plan for(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仔细思考并制定计划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51"/>
              </a:spcBef>
              <a:spcAft>
                <a:spcPts val="56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000" spc="-1" strike="noStrike">
                <a:solidFill>
                  <a:srgbClr val="000000"/>
                </a:solidFill>
                <a:latin typeface="Arial"/>
              </a:rPr>
              <a:t>think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zh-CN" sz="3000" spc="-1" strike="noStrike">
                <a:solidFill>
                  <a:srgbClr val="000000"/>
                </a:solidFill>
                <a:latin typeface="Arial"/>
              </a:rPr>
              <a:t>over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也有仔细思考之意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但只着重思考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不涉及结果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而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think up, think out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着重于结果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51"/>
              </a:spcBef>
              <a:spcAft>
                <a:spcPts val="561"/>
              </a:spcAft>
              <a:buClr>
                <a:srgbClr val="b2b2b2"/>
              </a:buClr>
              <a:buSzPct val="90000"/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We have </a:t>
            </a:r>
            <a:r>
              <a:rPr b="0" lang="zh-CN" sz="3000" spc="-1" strike="noStrike">
                <a:solidFill>
                  <a:srgbClr val="ff3300"/>
                </a:solidFill>
                <a:latin typeface="Arial"/>
              </a:rPr>
              <a:t>thought</a:t>
            </a:r>
            <a:r>
              <a:rPr b="0" lang="zh-CN" sz="3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carefully </a:t>
            </a:r>
            <a:r>
              <a:rPr b="0" lang="zh-CN" sz="3000" spc="-1" strike="noStrike">
                <a:solidFill>
                  <a:srgbClr val="ff3300"/>
                </a:solidFill>
                <a:latin typeface="Arial"/>
              </a:rPr>
              <a:t>over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 your proposal of yesterday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51"/>
              </a:spcBef>
              <a:spcAft>
                <a:spcPts val="561"/>
              </a:spcAft>
              <a:buClr>
                <a:srgbClr val="b2b2b2"/>
              </a:buClr>
              <a:buSzPct val="90000"/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Who can </a:t>
            </a:r>
            <a:r>
              <a:rPr b="0" lang="zh-CN" sz="3000" spc="-1" strike="noStrike">
                <a:solidFill>
                  <a:srgbClr val="ff3300"/>
                </a:solidFill>
                <a:latin typeface="Arial"/>
              </a:rPr>
              <a:t>think out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 the solution to the problem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51"/>
              </a:spcBef>
              <a:spcAft>
                <a:spcPts val="561"/>
              </a:spcAft>
              <a:buClr>
                <a:srgbClr val="b2b2b2"/>
              </a:buClr>
              <a:buSzPct val="90000"/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Delighted, the girls </a:t>
            </a:r>
            <a:r>
              <a:rPr b="0" lang="zh-CN" sz="3000" spc="-1" strike="noStrike">
                <a:solidFill>
                  <a:srgbClr val="ff3300"/>
                </a:solidFill>
                <a:latin typeface="Arial"/>
              </a:rPr>
              <a:t>thought up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 many good idea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476360" y="1125360"/>
            <a:ext cx="6408720" cy="426564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2209680" y="380880"/>
            <a:ext cx="575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an</a:t>
            </a: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advertis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5516640"/>
            <a:ext cx="2808360" cy="863640"/>
          </a:xfrm>
          <a:prstGeom prst="wedgeEllipseCallout">
            <a:avLst>
              <a:gd name="adj1" fmla="val 9523"/>
              <a:gd name="adj2" fmla="val -73898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duc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50920" y="3141720"/>
            <a:ext cx="2808360" cy="863640"/>
          </a:xfrm>
          <a:prstGeom prst="wedgeEllipseCallout">
            <a:avLst>
              <a:gd name="adj1" fmla="val 38805"/>
              <a:gd name="adj2" fmla="val -79777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549360"/>
            <a:ext cx="3203640" cy="863640"/>
          </a:xfrm>
          <a:prstGeom prst="wedgeEllipseCallout">
            <a:avLst>
              <a:gd name="adj1" fmla="val 37560"/>
              <a:gd name="adj2" fmla="val 160847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cri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419640" y="4768920"/>
            <a:ext cx="5724360" cy="1324080"/>
          </a:xfrm>
          <a:prstGeom prst="wedgeEllipseCallout">
            <a:avLst>
              <a:gd name="adj1" fmla="val -19328"/>
              <a:gd name="adj2" fmla="val -178898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otograph of the produ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6" repeatCount="3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" dur="500" autoRev="1" fill="hold"/>
                                        <p:tgtEl>
                                          <p:spTgt spid="10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0" y="15228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5. try out     try 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1066680"/>
            <a:ext cx="883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try out---v.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试验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,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考验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,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提炼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. 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指试验 试用某种机器、理论、方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228600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try on---v.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试穿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,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试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04920" y="2971800"/>
            <a:ext cx="8076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idea sounds fine ,but we need to try it out in pract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04920" y="4267080"/>
            <a:ext cx="853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new medicine is being tried out on anima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33520" y="5029200"/>
            <a:ext cx="78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f you like the shoes, why not try them 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04920" y="5867280"/>
            <a:ext cx="8762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y are trying out new teaching metho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52280" y="685800"/>
            <a:ext cx="9144000" cy="29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Isn't it time you made someone's life a bit easier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It’s (high) time sb did sth /should do sth.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虚拟语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是某人作某事的时候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Is it time you got things ready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0" y="3581280"/>
            <a:ext cx="91440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It's time you gave it up.=It's time you should give it up.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你放弃的时候到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5592600"/>
            <a:ext cx="914400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It's time you told him the truth.=It's time you should told him the truth.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到告诉他事实的时候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914400" y="4830480"/>
            <a:ext cx="777240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picture may be seen in an ad in the form of TV, cinema, magazine, newspapers, large boards (billboards)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474920" y="549360"/>
            <a:ext cx="6553080" cy="401148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29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" dur="500" autoRev="1" fill="hold"/>
                                        <p:tgtEl>
                                          <p:spTgt spid="10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0033"/>
                </a:solidFill>
                <a:latin typeface="Times New Roman"/>
              </a:rPr>
              <a:t>Step 1 Note making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1268280"/>
            <a:ext cx="777240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11920" indent="-511920">
              <a:lnSpc>
                <a:spcPct val="80000"/>
              </a:lnSpc>
              <a:spcAft>
                <a:spcPts val="1687"/>
              </a:spcAft>
              <a:buClr>
                <a:srgbClr val="0066ff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How can you advertise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1920" indent="0">
              <a:lnSpc>
                <a:spcPct val="80000"/>
              </a:lnSpc>
              <a:spcAft>
                <a:spcPts val="16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By using radio, TV, cinema, magazine, newspapers, large boards, signs, balloons, messages pulled behind planes and so o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80000"/>
              </a:lnSpc>
              <a:spcAft>
                <a:spcPts val="1687"/>
              </a:spcAft>
              <a:buClr>
                <a:srgbClr val="0066ff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What can you advertise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1920" indent="0">
              <a:lnSpc>
                <a:spcPct val="80000"/>
              </a:lnSpc>
              <a:spcAft>
                <a:spcPts val="16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Products, services, political leaders in the western countries, etc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80000"/>
              </a:lnSpc>
              <a:spcAft>
                <a:spcPts val="1687"/>
              </a:spcAft>
              <a:buClr>
                <a:srgbClr val="0066ff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Results of advertising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80000"/>
              </a:lnSpc>
              <a:spcAft>
                <a:spcPts val="1687"/>
              </a:spcAft>
              <a:buClr>
                <a:srgbClr val="990033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It increases product sales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80000"/>
              </a:lnSpc>
              <a:spcAft>
                <a:spcPts val="1687"/>
              </a:spcAft>
              <a:buClr>
                <a:srgbClr val="990033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It reduces pric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8080" y="22356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ff"/>
                </a:solidFill>
                <a:latin typeface="Times New Roman"/>
              </a:rPr>
              <a:t>People’s job in an advertising firm: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134136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06520" indent="0">
              <a:lnSpc>
                <a:spcPct val="90000"/>
              </a:lnSpc>
              <a:spcBef>
                <a:spcPts val="751"/>
              </a:spcBef>
              <a:spcAft>
                <a:spcPts val="13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330033"/>
                </a:solidFill>
                <a:latin typeface="Arial"/>
              </a:rPr>
              <a:t>How are ads made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90000"/>
              </a:lnSpc>
              <a:spcBef>
                <a:spcPts val="751"/>
              </a:spcBef>
              <a:spcAft>
                <a:spcPts val="1312"/>
              </a:spcAft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A company goes to an advertising firm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90000"/>
              </a:lnSpc>
              <a:spcBef>
                <a:spcPts val="751"/>
              </a:spcBef>
              <a:spcAft>
                <a:spcPts val="1312"/>
              </a:spcAft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(People’s jobs) in an advertising fir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90000"/>
              </a:lnSpc>
              <a:spcBef>
                <a:spcPts val="751"/>
              </a:spcBef>
              <a:spcAft>
                <a:spcPts val="1312"/>
              </a:spcAft>
              <a:buClr>
                <a:srgbClr val="b2b2b2"/>
              </a:buClr>
              <a:buSzPct val="90000"/>
              <a:buFont typeface="Wingdings" charset="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One person </a:t>
            </a:r>
            <a:r>
              <a:rPr b="0" i="1" lang="zh-CN" sz="3000" spc="-1" strike="noStrike" u="sng">
                <a:solidFill>
                  <a:srgbClr val="ff0000"/>
                </a:solidFill>
                <a:uFillTx/>
                <a:latin typeface="Arial"/>
              </a:rPr>
              <a:t>is in charge of the programm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90000"/>
              </a:lnSpc>
              <a:spcBef>
                <a:spcPts val="751"/>
              </a:spcBef>
              <a:spcAft>
                <a:spcPts val="1312"/>
              </a:spcAft>
              <a:buClr>
                <a:srgbClr val="b2b2b2"/>
              </a:buClr>
              <a:buSzPct val="90000"/>
              <a:buFont typeface="Wingdings" charset="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One person </a:t>
            </a:r>
            <a:r>
              <a:rPr b="0" i="1" lang="zh-CN" sz="3000" spc="-1" strike="noStrike" u="sng">
                <a:solidFill>
                  <a:srgbClr val="ff0000"/>
                </a:solidFill>
                <a:uFillTx/>
                <a:latin typeface="Arial"/>
              </a:rPr>
              <a:t>thinks up an ide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90000"/>
              </a:lnSpc>
              <a:spcBef>
                <a:spcPts val="751"/>
              </a:spcBef>
              <a:spcAft>
                <a:spcPts val="1312"/>
              </a:spcAft>
              <a:buClr>
                <a:srgbClr val="b2b2b2"/>
              </a:buClr>
              <a:buSzPct val="90000"/>
              <a:buFont typeface="Wingdings" charset="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One person </a:t>
            </a:r>
            <a:r>
              <a:rPr b="0" i="1" lang="zh-CN" sz="3000" spc="-1" strike="noStrike" u="sng">
                <a:solidFill>
                  <a:srgbClr val="ff0000"/>
                </a:solidFill>
                <a:uFillTx/>
                <a:latin typeface="Arial"/>
              </a:rPr>
              <a:t>buys space or tim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90000"/>
              </a:lnSpc>
              <a:spcBef>
                <a:spcPts val="751"/>
              </a:spcBef>
              <a:spcAft>
                <a:spcPts val="1312"/>
              </a:spcAft>
              <a:buClr>
                <a:srgbClr val="b2b2b2"/>
              </a:buClr>
              <a:buSzPct val="90000"/>
              <a:buFont typeface="Wingdings" charset="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One person </a:t>
            </a:r>
            <a:r>
              <a:rPr b="0" i="1" lang="zh-CN" sz="3000" spc="-1" strike="noStrike" u="sng">
                <a:solidFill>
                  <a:srgbClr val="ff0000"/>
                </a:solidFill>
                <a:uFillTx/>
                <a:latin typeface="Arial"/>
              </a:rPr>
              <a:t>writes the tex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90000"/>
              </a:lnSpc>
              <a:spcBef>
                <a:spcPts val="751"/>
              </a:spcBef>
              <a:spcAft>
                <a:spcPts val="1312"/>
              </a:spcAft>
              <a:buClr>
                <a:srgbClr val="b2b2b2"/>
              </a:buClr>
              <a:buSzPct val="90000"/>
              <a:buFont typeface="Wingdings" charset="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One person </a:t>
            </a:r>
            <a:r>
              <a:rPr b="0" i="1" lang="zh-CN" sz="3000" spc="-1" strike="noStrike" u="sng">
                <a:solidFill>
                  <a:srgbClr val="ff0000"/>
                </a:solidFill>
                <a:uFillTx/>
                <a:latin typeface="Arial"/>
              </a:rPr>
              <a:t>designs the advertisemen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87480" y="152280"/>
            <a:ext cx="90565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Step 2. Reading comprehens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762120"/>
            <a:ext cx="9144000" cy="608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The author thinks that advertisements ________.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. are welcome by everybody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B. will increase the cost of products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C. have bad influence on people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D. can win more customers for a company 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. In Paragraph 1, which word does the writer use to express his idea that advertising is common?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. Developed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B. Popular.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C. Proved.              D. Increase.  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. According to the text, advertisements may be used in ________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. everythin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　　　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B election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C. scientific research         D. education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781680" y="685800"/>
            <a:ext cx="70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157640" y="3505320"/>
            <a:ext cx="439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543800" y="3581280"/>
            <a:ext cx="61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914400" y="5486400"/>
            <a:ext cx="43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0"/>
            <a:ext cx="9372600" cy="74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4. How many means of advertising are mentioned in the text?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. 7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B. 9       C   1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　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D. 13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5. Which paragraph talks about the purpose of advertising?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. Paragraph 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B. Paragraph 2.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C. Paragraph 3.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D. Paragraphs 4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6. When an advertising company makes advertisements, which happens first?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A. Having a meeting.  B. Collecting information.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C. Writing a tex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D.Designing the advertis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897360" y="990720"/>
            <a:ext cx="75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68360" y="2666880"/>
            <a:ext cx="75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068720" y="4876920"/>
            <a:ext cx="65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04920" y="380880"/>
            <a:ext cx="8839080" cy="768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7. What does “interview” mean in the last paragraph?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A. See.   B. Select.    C. Visit.    D. Ask question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8. What can we infer from Paragraph 2?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. Only a few things can be advertised.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B. It is difficult to use printed things for advertisements.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C. Political advertisements can only be seen in USA.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D. Advertisements are everywhere for so many thing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638680" y="12952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685800" y="5562720"/>
            <a:ext cx="533520" cy="60948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914400" y="1066680"/>
            <a:ext cx="7696080" cy="49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9. How many steps are there in making an advertisement?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. 4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. 5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. 6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. 7.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0. When the advertisement is ready, it is shown only to a part of the country as a (an)______.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. review                      B. tes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. performance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. inter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477120" y="205740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800600" y="47242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1T15:55:07Z</dcterms:created>
  <dc:creator>幻想的天空</dc:creator>
  <dc:description/>
  <dc:language>en-US</dc:language>
  <cp:lastModifiedBy>w</cp:lastModifiedBy>
  <dcterms:modified xsi:type="dcterms:W3CDTF">2004-08-23T15:43:35Z</dcterms:modified>
  <cp:revision>144</cp:revision>
  <dc:subject/>
  <dc:title>幻灯片 1</dc:title>
</cp:coreProperties>
</file>