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2F3-1B4F-4ADB-A571-A4005222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B64-CF3C-47B0-9DD5-24EAA7E2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7CD-250C-4DD4-8C66-B43E4D9B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4EB-1B59-4E06-9795-65F95107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FF0-21CC-451C-8C66-7C94A29E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6E1-1AAA-40A5-ACAD-6BA6DBBE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B66-03ED-4BCE-8C9F-E879ED60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4AB-6100-41D3-846E-23E1EE6A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CD5-485F-4E3F-8890-0024258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32C-2F32-4CA4-968E-F4C3D1EE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AF7-1402-4ADF-A40C-A104C96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52B-015B-4B91-A611-E6D63AD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84C4-B05B-423D-B910-C354A6473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首页大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9360" y="914400"/>
            <a:ext cx="6727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lay a ga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Today is Sunday . Liu Mei is very busy toda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Her mother is not at home . So she has to 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lot of  things  . What does she have to do ?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you gu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3600" y="29718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oes she have to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819520"/>
          <a:ext cx="8001000" cy="2819160"/>
        </p:xfrm>
        <a:graphic>
          <a:graphicData uri="http://schemas.openxmlformats.org/drawingml/2006/table">
            <a:tbl>
              <a:tblPr/>
              <a:tblGrid>
                <a:gridCol w="1398600"/>
                <a:gridCol w="2602080"/>
                <a:gridCol w="1299960"/>
                <a:gridCol w="27003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She / He  has to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33160" y="137160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ind out three thing your friends have to do at hom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rite down their answers in the for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首页大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865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9720" y="304920"/>
            <a:ext cx="415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do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s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tidy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9240" y="213372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in Tao :      tidy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510516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0320" y="281952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ruce :        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4840" y="3571920"/>
            <a:ext cx="49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James :        do his home work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1040" y="4343400"/>
            <a:ext cx="54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ucy :          help with the cook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320" y="510552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Kate :          look after the bab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1040" y="586728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m :          do the wash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1640" y="21924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Ann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040" y="83808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 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7840" y="1447920"/>
            <a:ext cx="57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some shopping with her Momm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4479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(Mumm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7120" y="205740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ing her friends to her part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760" y="289548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Mommy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5680" y="33526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some shopp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392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are for the foo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720" y="41497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k the mea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52680"/>
            <a:ext cx="3124080" cy="1219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0560" y="4714920"/>
            <a:ext cx="53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friends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400" y="52228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y the presents for 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400" y="5680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 to her part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181480"/>
            <a:ext cx="3657600" cy="129564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图1-400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3414600"/>
          </a:xfrm>
          <a:prstGeom prst="rect">
            <a:avLst/>
          </a:prstGeom>
          <a:ln w="0">
            <a:noFill/>
          </a:ln>
        </p:spPr>
      </p:pic>
      <p:pic>
        <p:nvPicPr>
          <p:cNvPr id="69" name="图1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0200" y="11937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y can’t she co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0200" y="152388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her Momm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640" y="190512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she have to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2000" y="2286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with the wash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120" y="266688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s she coming l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30481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will come if she ca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143000"/>
            <a:ext cx="5333760" cy="2362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800" y="3776760"/>
            <a:ext cx="844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ere’s Meim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can’t come .She has to help her Momm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at does she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has to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elp with the washing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Is s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’ll come if s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Oh well , Let’s ask Wei Hua instea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2-400" descr=""/>
          <p:cNvPicPr/>
          <p:nvPr/>
        </p:nvPicPr>
        <p:blipFill>
          <a:blip r:embed="rId2"/>
          <a:stretch/>
        </p:blipFill>
        <p:spPr>
          <a:xfrm flipH="1">
            <a:off x="-360" y="2133720"/>
            <a:ext cx="3048120" cy="259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9" name="图3-400" descr=""/>
          <p:cNvPicPr/>
          <p:nvPr/>
        </p:nvPicPr>
        <p:blipFill>
          <a:blip r:embed="rId3"/>
          <a:stretch/>
        </p:blipFill>
        <p:spPr>
          <a:xfrm>
            <a:off x="3048120" y="2133720"/>
            <a:ext cx="3047760" cy="2624040"/>
          </a:xfrm>
          <a:prstGeom prst="rect">
            <a:avLst/>
          </a:prstGeom>
          <a:ln w="0">
            <a:noFill/>
          </a:ln>
        </p:spPr>
      </p:pic>
      <p:pic>
        <p:nvPicPr>
          <p:cNvPr id="80" name="图4-400" descr=""/>
          <p:cNvPicPr/>
          <p:nvPr/>
        </p:nvPicPr>
        <p:blipFill>
          <a:blip r:embed="rId4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5-400" descr=""/>
          <p:cNvPicPr/>
          <p:nvPr/>
        </p:nvPicPr>
        <p:blipFill>
          <a:blip r:embed="rId2"/>
          <a:stretch/>
        </p:blipFill>
        <p:spPr>
          <a:xfrm>
            <a:off x="2666880" y="1657440"/>
            <a:ext cx="3962520" cy="3543120"/>
          </a:xfrm>
          <a:prstGeom prst="rect">
            <a:avLst/>
          </a:prstGeom>
          <a:ln w="0">
            <a:noFill/>
          </a:ln>
        </p:spPr>
      </p:pic>
      <p:pic>
        <p:nvPicPr>
          <p:cNvPr id="86" name="图5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19376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he have to do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0200" y="1523880"/>
            <a:ext cx="50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I’m not sure . I think he may hav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finish his homewor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143000"/>
            <a:ext cx="5333760" cy="129528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960" y="2971800"/>
            <a:ext cx="8737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ere’s Li L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 can’t make it today. He has to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I’m not sure . I think he may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ave to help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 in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Is 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’ll come if 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Oh well , we’ll have to ask Zhang Li instea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8-400" descr=""/>
          <p:cNvPicPr/>
          <p:nvPr/>
        </p:nvPicPr>
        <p:blipFill>
          <a:blip r:embed="rId2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pic>
        <p:nvPicPr>
          <p:cNvPr id="93" name="图7-400" descr=""/>
          <p:cNvPicPr/>
          <p:nvPr/>
        </p:nvPicPr>
        <p:blipFill>
          <a:blip r:embed="rId3"/>
          <a:stretch/>
        </p:blipFill>
        <p:spPr>
          <a:xfrm>
            <a:off x="2971800" y="2133720"/>
            <a:ext cx="3124080" cy="262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6-400" descr=""/>
          <p:cNvPicPr/>
          <p:nvPr/>
        </p:nvPicPr>
        <p:blipFill>
          <a:blip r:embed="rId4"/>
          <a:stretch/>
        </p:blipFill>
        <p:spPr>
          <a:xfrm>
            <a:off x="0" y="2133720"/>
            <a:ext cx="29718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1720" y="1828800"/>
            <a:ext cx="336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re the twin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0640" y="3886200"/>
            <a:ext cx="21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s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| Sh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1:33:02Z</dcterms:created>
  <dc:creator>eetdc</dc:creator>
  <dc:description/>
  <dc:language>en-US</dc:language>
  <cp:lastModifiedBy>wb</cp:lastModifiedBy>
  <dcterms:modified xsi:type="dcterms:W3CDTF">2001-04-30T05:36:36Z</dcterms:modified>
  <cp:revision>18</cp:revision>
  <dc:subject/>
  <dc:title>PowerPoint 演示文稿</dc:title>
</cp:coreProperties>
</file>