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9EFD-B35B-4373-BAC2-C4A08700E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9DE3-A0CE-4026-9828-51E661752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5015-4EF4-4998-9656-E70592A82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90C7-CEC4-4BC7-9587-346A169AA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360B-D110-4CAB-B630-B6C217055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8A06-DADC-4146-A7D2-78127EB51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F052-66EE-424C-8189-2F6B223F4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212D-C3DB-4E88-937F-0C4177FB3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7F44-7DC3-4919-B562-121D2EAA0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2667-0B3F-425A-88FA-BF52D3D6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3E18-CC87-483F-B328-C57B9315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4D57-B063-4287-B344-7F9DC4EA0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919B7-756E-4977-8FC3-80E2944A266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simple%20present&amp;present%20continuous.ppt#Slide 1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59640" y="1916280"/>
            <a:ext cx="4143240" cy="32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9999"/>
                </a:solidFill>
                <a:uFillTx/>
                <a:latin typeface="Times New Roman"/>
                <a:ea typeface="隶书"/>
                <a:hlinkClick r:id="rId1"/>
              </a:rPr>
              <a:t>一般现在时和现在进行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Times New Roman"/>
                <a:ea typeface="隶书"/>
              </a:rPr>
              <a:t>一般过去时和过去进行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Times New Roman"/>
                <a:ea typeface="隶书"/>
              </a:rPr>
              <a:t>现在完成时和现在完成进行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Times New Roman"/>
                <a:ea typeface="隶书"/>
              </a:rPr>
              <a:t>过去完成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Times New Roman"/>
                <a:ea typeface="隶书"/>
              </a:rPr>
              <a:t>过去将来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" action="ppaction://hlinkshowjump?jump=endshow"/>
          </p:cNvPr>
          <p:cNvSpPr/>
          <p:nvPr/>
        </p:nvSpPr>
        <p:spPr>
          <a:xfrm>
            <a:off x="7164360" y="5229360"/>
            <a:ext cx="792360" cy="682560"/>
          </a:xfrm>
          <a:custGeom>
            <a:avLst/>
            <a:gdLst>
              <a:gd name="textAreaLeft" fmla="*/ 43920 w 792360"/>
              <a:gd name="textAreaRight" fmla="*/ 748440 w 79236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25073" h="21600">
                <a:moveTo>
                  <a:pt x="0" y="0"/>
                </a:moveTo>
                <a:lnTo>
                  <a:pt x="25073" y="0"/>
                </a:lnTo>
                <a:lnTo>
                  <a:pt x="25073" y="21600"/>
                </a:lnTo>
                <a:lnTo>
                  <a:pt x="0" y="21600"/>
                </a:lnTo>
                <a:close/>
              </a:path>
              <a:path fill="lightenLess" w="25073" h="21600">
                <a:moveTo>
                  <a:pt x="0" y="0"/>
                </a:moveTo>
                <a:lnTo>
                  <a:pt x="25073" y="0"/>
                </a:lnTo>
                <a:lnTo>
                  <a:pt x="23673" y="1400"/>
                </a:lnTo>
                <a:lnTo>
                  <a:pt x="1400" y="1400"/>
                </a:lnTo>
                <a:close/>
              </a:path>
              <a:path fill="darken" w="25073" h="21600">
                <a:moveTo>
                  <a:pt x="25073" y="0"/>
                </a:moveTo>
                <a:lnTo>
                  <a:pt x="25073" y="21600"/>
                </a:lnTo>
                <a:lnTo>
                  <a:pt x="23673" y="20200"/>
                </a:lnTo>
                <a:lnTo>
                  <a:pt x="23673" y="1400"/>
                </a:lnTo>
                <a:close/>
              </a:path>
              <a:path fill="darkenLess" w="25073" h="21600">
                <a:moveTo>
                  <a:pt x="250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73" y="20200"/>
                </a:lnTo>
                <a:close/>
              </a:path>
              <a:path fill="lighten" w="250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73" h="21600">
                <a:moveTo>
                  <a:pt x="16035" y="10800"/>
                </a:moveTo>
                <a:lnTo>
                  <a:pt x="5530" y="17806"/>
                </a:lnTo>
                <a:lnTo>
                  <a:pt x="5530" y="3794"/>
                </a:lnTo>
                <a:close/>
              </a:path>
              <a:path fill="darken" w="25073" h="21600">
                <a:moveTo>
                  <a:pt x="17881" y="3794"/>
                </a:moveTo>
                <a:lnTo>
                  <a:pt x="17881" y="17806"/>
                </a:lnTo>
                <a:lnTo>
                  <a:pt x="19543" y="17806"/>
                </a:lnTo>
                <a:lnTo>
                  <a:pt x="19543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7T03:50:37Z</dcterms:created>
  <dc:creator>李徐琴</dc:creator>
  <dc:description/>
  <dc:language>en-US</dc:language>
  <cp:lastModifiedBy>Legend User</cp:lastModifiedBy>
  <dcterms:modified xsi:type="dcterms:W3CDTF">2002-11-24T10:07:14Z</dcterms:modified>
  <cp:revision>3</cp:revision>
  <dc:subject/>
  <dc:title>幻灯片 1</dc:title>
</cp:coreProperties>
</file>