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511-F31E-40A8-A4FE-76971B45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B74-7476-4755-9EC1-B0DB7DF7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D2C-D14C-49D4-B812-30AC44F4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9704-1AA2-4391-8D22-C16E829A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420-EA80-49A7-B2C8-C3E877F8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4EF-062D-486B-9814-ACD73832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1A7-7430-473A-B644-DC09DD03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C83-29E1-4F0B-9E86-9F676935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CC3-E6B8-430F-93F0-A189D41E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B47-A0F8-45B8-A3F7-8C66DE54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23A-1C29-434A-A329-8746422B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970D-D452-4B55-AED2-4129E667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3518-B428-466C-897E-A8AA6CECEC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5640" y="171360"/>
            <a:ext cx="42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Unit      8     first   aid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37120" y="52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4520" y="838080"/>
            <a:ext cx="58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学目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了解在各种意外的紧急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30200" y="14479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练习用英语知识表达应该做和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8440" y="19810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学习并运用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6560" y="24638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93320" y="2529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一篇有关顺序表达方式的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04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材分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9880"/>
            <a:ext cx="839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单元的中心话题是意外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技能和语言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要围绕急救这一中心话题进行设计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热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rming  up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六幅图片导入新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学生针对这些图片思考一些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6386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67080" y="3581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6600" y="371520"/>
            <a:ext cx="537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谈论这些问题的情况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想到那些生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激发学生的学习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发生在医院里的情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男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腿部受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另一个小女孩误喝了墨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设计了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笔记形式的问题填空和填缺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的是训练学生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获取急救方面的信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3240" y="3343320"/>
            <a:ext cx="556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口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eakin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继续围绕在家里如何确保家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训练学生听的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说出更多的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发真实性的交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3920" y="485640"/>
            <a:ext cx="595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前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e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立了三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学生讨论选择哪种提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可以各自表达自己的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下面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下伏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2711520"/>
            <a:ext cx="49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阅读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ead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救主要介绍一些常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记住这方面的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24200" y="3809880"/>
            <a:ext cx="529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后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st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呈现三幅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用 课文所学的知识说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中的人物正在如何运用急救知识救助伤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360" y="5334120"/>
            <a:ext cx="40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问题是复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01124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1000" y="533520"/>
            <a:ext cx="613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言学习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anguage  study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词汇和语汇两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汇部分设计了五个情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学生加深对新词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解和记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指导学生养成通过语境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语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是一个故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通过上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境内容选择所给的词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深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9800" y="2971800"/>
            <a:ext cx="68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法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掌握对将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   这三种情况的假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有虚拟语气在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句的用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ggest,recomm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有三大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语境填上合适的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虚拟语气连接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题改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63680" y="60948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些练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利于学生从理论到实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序渐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比较牢固地掌握这部分的语法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8920" y="1735200"/>
            <a:ext cx="63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综合技能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tegrating   skill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部分谈如何处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soning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如何进行急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分组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写作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运用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序的短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2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81120" y="4311720"/>
            <a:ext cx="50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学习建议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ips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如何做一个急救箱的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本单元的话题服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5360" y="5454720"/>
            <a:ext cx="57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复习要点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eckpo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习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造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型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5480" y="86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课时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6800" y="1924200"/>
            <a:ext cx="164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0520" y="1917720"/>
            <a:ext cx="5839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rming-up and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 and 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1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2 and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07:53Z</dcterms:modified>
  <cp:revision>12</cp:revision>
  <dc:subject/>
  <dc:title>PowerPoint Presentation</dc:title>
</cp:coreProperties>
</file>