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7F3-BB91-4CA1-8949-6C07646B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543-2441-4AFF-A8E4-6108BEE5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C39-FC13-443D-A555-CF26AE77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56C-CCB3-4EBA-B032-BCB8DDA8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588-650F-4889-B94E-798E437D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53C-A325-405E-99B8-997954F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888-1F15-4DC3-9EE6-5B7EF6E1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68D-5ACF-4E62-8543-C10786A6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E9B-4F08-4B40-9903-E7AFDEF2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176-9148-46BC-9D44-6D8A9AD9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B53-F0A6-4369-B10C-D0AA61A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47A-0553-460A-B095-F331772D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758A-8919-4016-A8D7-2DE04D7D1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临 江 中 学       江 建 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gy</cp:lastModifiedBy>
  <dcterms:modified xsi:type="dcterms:W3CDTF">2004-12-20T13:29:55Z</dcterms:modified>
  <cp:revision>25</cp:revision>
  <dc:subject/>
  <dc:title>PowerPoint Presentation</dc:title>
</cp:coreProperties>
</file>