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.gif" ContentType="image/gif"/>
  <Override PartName="/ppt/media/image12.jpeg" ContentType="image/jpe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14.jpeg" ContentType="image/jpeg"/>
  <Override PartName="/ppt/media/image5.gif" ContentType="image/gif"/>
  <Override PartName="/ppt/media/image6.gif" ContentType="image/gif"/>
  <Override PartName="/ppt/media/image2.gif" ContentType="image/gif"/>
  <Override PartName="/ppt/media/image10.jpeg" ContentType="image/jpeg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709D-124C-40D9-A85B-50E5A83D4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277D-24B4-491E-B51C-917AC757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0A0B-5EED-4DE2-9897-8DEC5AA7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7F9E-EFEC-4F40-8930-CCD73D9D9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D4AF-7AD4-46D5-81E8-EDDFCB3E8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234-3635-4D3B-BD0B-8DC4E00CC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7D99-A54C-4758-A9C1-05AF9E92C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6A00-65B0-4890-9DC0-C516B465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DB99-F934-4FAD-A594-ABD3D16D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9EF-4C91-41D9-9125-097250A4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A485-B718-4CEF-B301-E0B8428DD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16AE-1127-4078-AB31-22544E4D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4BE3-467A-403C-9BB8-69CD95CF2D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838080"/>
            <a:ext cx="4800600" cy="459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sson 58  What is a healthy die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251460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32767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pa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962520"/>
            <a:ext cx="2895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4648320"/>
            <a:ext cx="289584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nguag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54100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6095880"/>
            <a:ext cx="289584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RX_007" descr=""/>
          <p:cNvPicPr/>
          <p:nvPr/>
        </p:nvPicPr>
        <p:blipFill>
          <a:blip r:embed="rId1"/>
          <a:stretch/>
        </p:blipFill>
        <p:spPr>
          <a:xfrm>
            <a:off x="5257800" y="2819520"/>
            <a:ext cx="1523880" cy="3276360"/>
          </a:xfrm>
          <a:prstGeom prst="rect">
            <a:avLst/>
          </a:prstGeom>
          <a:ln w="0">
            <a:noFill/>
          </a:ln>
        </p:spPr>
      </p:pic>
      <p:pic>
        <p:nvPicPr>
          <p:cNvPr id="49" name="RW_002" descr=""/>
          <p:cNvPicPr/>
          <p:nvPr/>
        </p:nvPicPr>
        <p:blipFill>
          <a:blip r:embed="rId2"/>
          <a:stretch/>
        </p:blipFill>
        <p:spPr>
          <a:xfrm>
            <a:off x="7467480" y="609480"/>
            <a:ext cx="106704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7924680" y="624852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J_001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6858000" cy="4572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57600" y="838080"/>
            <a:ext cx="1600200" cy="52056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71600" y="1981080"/>
            <a:ext cx="6172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.Revise the names of illnes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2.Ask some students to act the dialo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RY_044" descr=""/>
          <p:cNvPicPr/>
          <p:nvPr/>
        </p:nvPicPr>
        <p:blipFill>
          <a:blip r:embed="rId2"/>
          <a:stretch/>
        </p:blipFill>
        <p:spPr>
          <a:xfrm>
            <a:off x="7620120" y="228600"/>
            <a:ext cx="1333440" cy="1486080"/>
          </a:xfrm>
          <a:prstGeom prst="rect">
            <a:avLst/>
          </a:prstGeom>
          <a:ln w="0">
            <a:noFill/>
          </a:ln>
        </p:spPr>
      </p:pic>
      <p:pic>
        <p:nvPicPr>
          <p:cNvPr id="55" name="RY_402" descr=""/>
          <p:cNvPicPr/>
          <p:nvPr/>
        </p:nvPicPr>
        <p:blipFill>
          <a:blip r:embed="rId3"/>
          <a:stretch/>
        </p:blipFill>
        <p:spPr>
          <a:xfrm>
            <a:off x="0" y="4724280"/>
            <a:ext cx="2324160" cy="2133720"/>
          </a:xfrm>
          <a:prstGeom prst="rect">
            <a:avLst/>
          </a:prstGeom>
          <a:ln w="0">
            <a:noFill/>
          </a:ln>
        </p:spPr>
      </p:pic>
      <p:sp>
        <p:nvSpPr>
          <p:cNvPr id="56" name="">
            <a:hlinkClick r:id="" action="ppaction://hlinkshowjump?jump=firstslide"/>
          </p:cNvPr>
          <p:cNvSpPr/>
          <p:nvPr/>
        </p:nvSpPr>
        <p:spPr>
          <a:xfrm>
            <a:off x="7772400" y="5181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86000" y="609480"/>
            <a:ext cx="3581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Pr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1430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1.Tell me some names of Chinese food and Wester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365760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85800" y="2133720"/>
          <a:ext cx="7707240" cy="3149640"/>
        </p:xfrm>
        <a:graphic>
          <a:graphicData uri="http://schemas.openxmlformats.org/drawingml/2006/table">
            <a:tbl>
              <a:tblPr/>
              <a:tblGrid>
                <a:gridCol w="3809880"/>
                <a:gridCol w="3897360"/>
              </a:tblGrid>
              <a:tr h="11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uit,green veget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aozi, noodles,spring rolls,et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ato crisps,butter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eam ,sweets  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colate,soft drinks and mea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</a:tr>
            </a:tbl>
          </a:graphicData>
        </a:graphic>
      </p:graphicFrame>
      <p:pic>
        <p:nvPicPr>
          <p:cNvPr id="61" name="SG_014" descr=""/>
          <p:cNvPicPr/>
          <p:nvPr/>
        </p:nvPicPr>
        <p:blipFill>
          <a:blip r:embed="rId1"/>
          <a:stretch/>
        </p:blipFill>
        <p:spPr>
          <a:xfrm>
            <a:off x="2209680" y="5349960"/>
            <a:ext cx="1295640" cy="1508040"/>
          </a:xfrm>
          <a:prstGeom prst="rect">
            <a:avLst/>
          </a:prstGeom>
          <a:ln w="0">
            <a:noFill/>
          </a:ln>
        </p:spPr>
      </p:pic>
      <p:pic>
        <p:nvPicPr>
          <p:cNvPr id="62" name="SP_089" descr=""/>
          <p:cNvPicPr/>
          <p:nvPr/>
        </p:nvPicPr>
        <p:blipFill>
          <a:blip r:embed="rId2"/>
          <a:stretch/>
        </p:blipFill>
        <p:spPr>
          <a:xfrm>
            <a:off x="6172200" y="5410080"/>
            <a:ext cx="1798560" cy="121932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534520" y="63244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M_002" descr=""/>
          <p:cNvPicPr/>
          <p:nvPr/>
        </p:nvPicPr>
        <p:blipFill>
          <a:blip r:embed="rId1"/>
          <a:stretch/>
        </p:blipFill>
        <p:spPr>
          <a:xfrm>
            <a:off x="-2014560" y="-1685880"/>
            <a:ext cx="13173120" cy="10229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429000" y="6094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Re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44792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.Read the passage and make notes about Chinese food and western food.Let is see which i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990720" y="3048120"/>
          <a:ext cx="6019560" cy="2158920"/>
        </p:xfrm>
        <a:graphic>
          <a:graphicData uri="http://schemas.openxmlformats.org/drawingml/2006/table">
            <a:tbl>
              <a:tblPr/>
              <a:tblGrid>
                <a:gridCol w="3009960"/>
                <a:gridCol w="3009600"/>
              </a:tblGrid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inese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stern f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  <a:tr h="152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 lot of fruit and green vegetables,rich in fibre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w in sug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fat (meat ,potato crisps/chips,butter,cream and chocolat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o much sugar(cakes,soft drinks,sweets and so 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ff"/>
                    </a:solidFill>
                  </a:tcPr>
                </a:tc>
              </a:tr>
            </a:tbl>
          </a:graphicData>
        </a:graphic>
      </p:graphicFrame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001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M_008" descr=""/>
          <p:cNvPicPr/>
          <p:nvPr/>
        </p:nvPicPr>
        <p:blipFill>
          <a:blip r:embed="rId1"/>
          <a:stretch/>
        </p:blipFill>
        <p:spPr>
          <a:xfrm>
            <a:off x="-2147760" y="-1685880"/>
            <a:ext cx="13439520" cy="10229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276720" y="7621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guag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1752480"/>
            <a:ext cx="7162920" cy="41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.a diet of healthy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 die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能吃的食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foods   pl.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in scientific 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be asleep=feel a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睡着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bed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上床睡觉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go to sleep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进入梦乡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e/feel sleepy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困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burn up </a:t>
            </a:r>
            <a:r>
              <a:rPr b="1" lang="zh-CN" sz="1800" spc="-1" strike="noStrike">
                <a:solidFill>
                  <a:srgbClr val="ff3300"/>
                </a:solidFill>
                <a:latin typeface="Times New Roman"/>
              </a:rPr>
              <a:t>烧毁，消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He burned up all his letter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The house burned up before the fireman got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7620120" y="59436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M_024" descr=""/>
          <p:cNvPicPr/>
          <p:nvPr/>
        </p:nvPicPr>
        <p:blipFill>
          <a:blip r:embed="rId1"/>
          <a:stretch/>
        </p:blipFill>
        <p:spPr>
          <a:xfrm>
            <a:off x="-3048120" y="-1371600"/>
            <a:ext cx="15183000" cy="101156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2120" y="914400"/>
            <a:ext cx="7696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,you might be using 400 calories an hour.On Sports Day,during the relay race,you will use most of all,perhaps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650 calories an ho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9320" y="2514600"/>
            <a:ext cx="7391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1).When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=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When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you are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playi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football or basketb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).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/as many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When she worked there ,she could earn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as much a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500 dollars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our class ,there are as many as 67 stu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8534520" y="4876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M_001" descr=""/>
          <p:cNvPicPr/>
          <p:nvPr/>
        </p:nvPicPr>
        <p:blipFill>
          <a:blip r:embed="rId1"/>
          <a:stretch/>
        </p:blipFill>
        <p:spPr>
          <a:xfrm>
            <a:off x="-2362320" y="-1143000"/>
            <a:ext cx="12811320" cy="97156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838080" y="380880"/>
            <a:ext cx="7772400" cy="57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5.be rich/high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 poor/low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China is rich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Japan is poor in natur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6.the Chinese /Japa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a Japanese/ Chin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7.take/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have/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ge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enough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o morning </a:t>
            </a:r>
            <a:r>
              <a:rPr b="1" lang="zh-CN" sz="2400" spc="-1" strike="noStrike">
                <a:solidFill>
                  <a:srgbClr val="00ff00"/>
                </a:solidFill>
                <a:latin typeface="Times New Roman"/>
              </a:rPr>
              <a:t>exerc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.in the form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He made the suggestion in the form of a ques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A1_041" descr=""/>
          <p:cNvPicPr/>
          <p:nvPr/>
        </p:nvPicPr>
        <p:blipFill>
          <a:blip r:embed="rId2"/>
          <a:stretch/>
        </p:blipFill>
        <p:spPr>
          <a:xfrm>
            <a:off x="5791320" y="5562720"/>
            <a:ext cx="1314360" cy="1531800"/>
          </a:xfrm>
          <a:prstGeom prst="rect">
            <a:avLst/>
          </a:prstGeom>
          <a:ln w="0">
            <a:noFill/>
          </a:ln>
        </p:spPr>
      </p:pic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6858000" y="52578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M_045" descr=""/>
          <p:cNvPicPr/>
          <p:nvPr/>
        </p:nvPicPr>
        <p:blipFill>
          <a:blip r:embed="rId1"/>
          <a:stretch/>
        </p:blipFill>
        <p:spPr>
          <a:xfrm>
            <a:off x="-609480" y="-17640"/>
            <a:ext cx="10667880" cy="6875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990720" y="2057400"/>
            <a:ext cx="73911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9.soft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清凉饮料主要原料二氧化碳，加入糖、香料和色料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然后加压装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strong drinks</a:t>
            </a:r>
            <a:r>
              <a:rPr b="0" lang="zh-CN" sz="1800" spc="-1" strike="noStrike">
                <a:solidFill>
                  <a:srgbClr val="ff3300"/>
                </a:solidFill>
                <a:latin typeface="Times New Roman"/>
              </a:rPr>
              <a:t>含酒精成分的饮料，烈性酒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10.by the ag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at the ag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By the age of ten,he had learned to play the pi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1800" spc="-1" strike="noStrike">
                <a:solidFill>
                  <a:srgbClr val="3333cc"/>
                </a:solidFill>
                <a:latin typeface="Times New Roman"/>
              </a:rPr>
              <a:t>At the age of six,he liked to read some picture-book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1371600" y="8380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M_0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600200" y="10666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onso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0200" y="16765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sk a student what we studied in this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2362320"/>
            <a:ext cx="7162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1.What is a healthy di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2.Some useful phr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56386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105520" y="4267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6T11:16:07Z</dcterms:created>
  <dc:creator>1</dc:creator>
  <dc:description/>
  <dc:language>en-US</dc:language>
  <cp:lastModifiedBy>1</cp:lastModifiedBy>
  <dcterms:modified xsi:type="dcterms:W3CDTF">2001-03-06T14:03:49Z</dcterms:modified>
  <cp:revision>5</cp:revision>
  <dc:subject/>
  <dc:title>PowerPoint 演示文稿</dc:title>
</cp:coreProperties>
</file>