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wind.wav" ContentType="audio/x-wav"/>
  <Override PartName="/ppt/media/type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B00-DABA-45E1-A0BE-D2615E23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16C-5077-40D3-BDF0-86058CF2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B00-5067-4E48-8860-6575D4C4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180-AF37-4E79-8603-06C5D1E1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1BDF-23ED-4CEC-96D8-87D833B4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EC89-0563-460B-9D54-A73905DD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3369-0C60-4AE0-911B-C4786773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B50D-FE32-41EA-9B1D-D524DE80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9693-9163-4A86-921D-76716763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8363-1A98-47B2-993B-BB74C7D9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6EFE-13EB-4D68-A3B5-71C5CAE1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C0E-76C1-43AA-9AD9-8A18F92F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0032-F2F7-4DA6-BE15-1AC3BF69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CFE0-9FFE-4312-BD2F-D24CFF7D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5D77-13E4-45CC-A8EE-47DDF6D2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312B-F31A-4BB0-BC2A-93A3685F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73C2-AFAC-413F-ABA9-2284EF1D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32AC-A935-41E3-8EC1-CB9D163E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CAE8-2D65-49A6-80F7-E183301F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9927-AAD7-4A1B-B39A-C7A7BA64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EC8AD-E255-429B-9F23-4E08AA70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7566-E938-495E-B5D4-EC05CFDB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3B5-3EE5-4C89-87A8-2A158433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A0F3-ECE5-4028-B589-45695EFD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69F6-4575-4B46-80C3-4F9D0F7F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814E8-BDD6-463D-A003-4AC60835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E0191-15F4-49E3-8897-C1C77EF7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3EEE8-FF1B-41BB-89F5-3D5D1A88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E7263-F5FD-40F2-85FB-A34BC005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E5854-0C7F-4055-BF26-3C30BFF9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2E088-5888-4E61-8340-2B855AFD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D545-588B-405B-B64F-99B0E5D6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B747-5C84-40EC-9769-0CC9C8B6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F26-FE09-4125-85F4-997D1C3E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6383-F72D-48C6-869E-CBF43EBE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2254C-1C35-4E56-BF75-D43BB5BA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841D-BB86-4415-905D-A4DD2A3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700C7-F0E3-48BE-9815-F8C91B3C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1230-3644-4415-BE83-DC77AA7B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1F124-2D11-4B40-A3BF-47CB4139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450C-6215-42B5-967F-4EEAB050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AA09B-C15C-4C94-981A-3ACEE0C8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7C2D9-2827-4DE1-A0A2-C3DE2704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BE593-C1C6-4B43-A83D-2A4E6A34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339-D0E1-4C7C-8CF1-8F5F5DEC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6043E-6AE7-468F-959E-E41401A2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025D4-05B9-4FD3-9DAF-F9476342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321B7-82F3-46B7-8117-50FDE0DC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ED9DD-C07D-49CD-A4C3-B95C0581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53FF-AC78-454E-BA41-82026AFB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06AA7-FABB-4D36-A93D-0B9D97F7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5BB4F-4E54-4C96-9C71-A61B5106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90E03-5B46-46FB-A4E7-8691C781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1EE8D-21B0-4860-BD59-66FCC113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67BD4-D45D-4267-BC64-5FA23BA1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C08-890D-4575-8C30-2E4AEEE9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0DB8-3D16-4AEA-A1BA-21534C47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6C0C6-B637-4276-A348-C52B2427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F8415-824B-4A27-A4C9-B705D4D3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C5246-81C3-4D5A-8773-C527AEB5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B2D91-C881-48C5-A25F-FD724875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957AC-7452-4FAF-A5CC-B4EFE48D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05E2A-7987-4AE0-A397-084CA653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0B3D5-0DC2-4F9C-8FBF-D0EB448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A4BB6-7C7A-48C8-AAA3-603D25B4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36E33-157A-471C-B00B-198CBFAA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806-F121-446D-8315-1669AFCE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0F22E-711A-42FD-9ED6-679E0F7F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2F88B-DB3B-47C3-8E6F-58C01FA7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67BF9-63D6-4D03-AED4-3D3F1B1E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618-5C06-451C-9128-36EE1CD6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32A-E48A-49E0-BC69-92849D23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A58B-4B09-472C-A358-828CE5964D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D19D-C65C-4712-92E3-B997410239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D7AC-44DE-4859-A1AE-DA2684F23B6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405B-D61E-4D35-8E43-D58916ABECF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440D-2288-4C5C-8C07-A642575C8FB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02B8-0D32-45C7-85B2-971FA0DD885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复合句中，修饰某个名词或代词的从句称为定语从句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he Attributive Clause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定语从句所修饰的名词或代词叫先行词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ntecedent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049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The Attributive Clause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57360" y="1947960"/>
            <a:ext cx="7731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6240" y="1052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</a:rPr>
              <a:t>先行词和关系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60840" y="4076640"/>
            <a:ext cx="2387520" cy="947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95840" y="422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00440" y="4149720"/>
            <a:ext cx="22366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at 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198900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1952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5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204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5520" y="1989000"/>
            <a:ext cx="7607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2260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1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368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引导定语从句的关系代词有：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who , whom , whose , that , whic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系代词的作用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连接定语从句的主句和从句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指代先行词 ，并在从句中充当主语、宾语或定语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800" y="1989000"/>
            <a:ext cx="8192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that / who we saw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5420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371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984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420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3712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2148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420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112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340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6528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56000" y="3925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45018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24360" y="5149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40360" y="51494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0240" y="6237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宾语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时可以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68280" y="10638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3400" y="1844640"/>
            <a:ext cx="9096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were not fresh. I bought them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The friend was not hungry. He came to supper last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He prefers the cheese. It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The noodles were delicious. You cooked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I don’t like the people. They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1760" y="2276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that/which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bought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not fres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6680" y="3137040"/>
            <a:ext cx="104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frie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/ 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ame to supper last night was not hung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8480" y="3989520"/>
            <a:ext cx="104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prefers the chees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ich 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9600" y="4869000"/>
            <a:ext cx="90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noodl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which/ that 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coo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delici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5200" y="5657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don’t like the peopl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o the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349360"/>
            <a:ext cx="86364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64000" y="3284640"/>
            <a:ext cx="43164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80000" y="4076640"/>
            <a:ext cx="43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56360" y="4941720"/>
            <a:ext cx="79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5734080"/>
            <a:ext cx="79200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31000" y="10638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副词和先行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5000" y="2133720"/>
            <a:ext cx="913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still rememb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d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came 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hou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ived last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re are man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ople like trave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don’t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w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p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50360" y="2565360"/>
            <a:ext cx="33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d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6640" y="3429000"/>
            <a:ext cx="37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house=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87800" y="4292640"/>
            <a:ext cx="39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reasons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3320" y="522936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w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587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副词实际上是介词＋先行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先行词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tuation, case, point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时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, using wh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you think of a situation where you can use the wor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5640" y="1700280"/>
            <a:ext cx="9850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’ll never forget the days___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I’ll never forget the days 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I went to the place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I went to the place _____________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i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This is the reason _____________________ he was l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87960" y="162864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60120" y="2565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95960" y="335772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10800" y="42782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1880" y="50706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0160" y="59342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几种易混的情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9160" y="299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41520" y="46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6552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. His English is 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933720"/>
            <a:ext cx="90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English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33920" y="4724280"/>
            <a:ext cx="39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 =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tuden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5300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实际上是先行词的所有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2565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is mine. The window of the house is bro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200" y="3573360"/>
            <a:ext cx="79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 is broken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13000" y="413388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=the house’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6400" y="5157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                                                  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4941720"/>
            <a:ext cx="432000" cy="1079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0" y="470052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e window of which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0360" y="573408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f which the window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否省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visited our school yesterday is Mr Brow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went to school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"/>
          <p:cNvSpPr/>
          <p:nvPr/>
        </p:nvSpPr>
        <p:spPr>
          <a:xfrm>
            <a:off x="1692360" y="602136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插入成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11880" y="5141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修饰限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62560" y="607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补充解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8360" y="609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3672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不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8640" y="508464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5289840" y="4292640"/>
            <a:ext cx="1034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否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8388360" y="6435720"/>
            <a:ext cx="433440" cy="422280"/>
          </a:xfrm>
          <a:custGeom>
            <a:avLst/>
            <a:gdLst>
              <a:gd name="textAreaLeft" fmla="*/ 27360 w 433440"/>
              <a:gd name="textAreaRight" fmla="*/ 406080 w 4334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2170" h="21600">
                <a:moveTo>
                  <a:pt x="0" y="0"/>
                </a:moveTo>
                <a:lnTo>
                  <a:pt x="22170" y="0"/>
                </a:lnTo>
                <a:lnTo>
                  <a:pt x="22170" y="21600"/>
                </a:lnTo>
                <a:lnTo>
                  <a:pt x="0" y="21600"/>
                </a:lnTo>
                <a:close/>
              </a:path>
              <a:path fill="lightenLess" w="22170" h="21600">
                <a:moveTo>
                  <a:pt x="0" y="0"/>
                </a:moveTo>
                <a:lnTo>
                  <a:pt x="22170" y="0"/>
                </a:lnTo>
                <a:lnTo>
                  <a:pt x="20770" y="1400"/>
                </a:lnTo>
                <a:lnTo>
                  <a:pt x="1400" y="1400"/>
                </a:lnTo>
                <a:close/>
              </a:path>
              <a:path fill="darken" w="22170" h="21600">
                <a:moveTo>
                  <a:pt x="22170" y="0"/>
                </a:moveTo>
                <a:lnTo>
                  <a:pt x="22170" y="21600"/>
                </a:lnTo>
                <a:lnTo>
                  <a:pt x="20770" y="20200"/>
                </a:lnTo>
                <a:lnTo>
                  <a:pt x="20770" y="1400"/>
                </a:lnTo>
                <a:close/>
              </a:path>
              <a:path fill="darkenLess" w="22170" h="21600">
                <a:moveTo>
                  <a:pt x="22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0" y="20200"/>
                </a:lnTo>
                <a:close/>
              </a:path>
              <a:path fill="lighten" w="22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0" h="21600">
                <a:moveTo>
                  <a:pt x="4079" y="3794"/>
                </a:moveTo>
                <a:lnTo>
                  <a:pt x="18092" y="10800"/>
                </a:lnTo>
                <a:lnTo>
                  <a:pt x="407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63640" y="2060640"/>
            <a:ext cx="2232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35280" y="2637000"/>
            <a:ext cx="194472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099800" y="2565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87640" y="256536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68360" y="306864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797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限制性定语从句省略后主语所指就不明确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所以不能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187280" y="98100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和单句的比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5760" y="3213000"/>
            <a:ext cx="84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_______ 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__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0400" y="5157720"/>
            <a:ext cx="74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89480" y="32130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58080" y="35733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512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90160" y="5445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88000" y="50846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440" y="400536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9520" y="2708280"/>
            <a:ext cx="85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I am reading Harry Porter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is an interesting bo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5960" y="26370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59500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He has two sons, both of them tea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4437000"/>
            <a:ext cx="95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failed in the exam and this made his parents ang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2060640"/>
            <a:ext cx="79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,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_ is known to all </a:t>
            </a:r>
            <a:r>
              <a:rPr b="1" i="1" lang="en-US" sz="2800" spc="-1" strike="noStrike">
                <a:solidFill>
                  <a:srgbClr val="1c1c1c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82040" y="204624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12320" y="2770200"/>
            <a:ext cx="124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/ as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2880" y="3773520"/>
            <a:ext cx="6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3120" y="463860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522936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具有正如之意，与之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1280" y="42782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定语从句在句首时只能用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2708280"/>
            <a:ext cx="570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14040" y="1916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42920" y="341640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和我丢的那本一模一样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74720" y="4581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就是我丢的那本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5760" y="2565360"/>
            <a:ext cx="869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nteresting a book _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interesting a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254952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58640" y="4205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6040" y="1916280"/>
            <a:ext cx="85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lete the following sentences and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48400" y="298116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84080" y="47102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94000" y="358632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是大家都喜欢的如此有趣的一本书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定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66800" y="531324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如此有趣，大家都喜欢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结果状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3320" y="2565360"/>
            <a:ext cx="909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m  you spoke     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7856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02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5.08553E-006 C 0.00087 -0.02472 0.00173 -0.04923 -0.01788 -0.06194 C -0.0375 -0.07466 -0.08646 -0.07373 -0.11788 -0.07674 C -0.14931 -0.07974 -0.17604 -0.07974 -0.20677 -0.07974 C -0.2375 -0.07974 -0.27604 -0.0772 -0.30226 -0.07674 C -0.32847 -0.07627 -0.34566 -0.08251 -0.36459 -0.07674 C -0.38351 -0.07096 -0.40573 -0.05454 -0.41563 -0.04137 C -0.42552 -0.02819 -0.42257 -0.00531 -0.42448 0.003 E">
                                      <p:cBhvr>
                                        <p:cTn id="402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0069 C -0.00729 -0.01203 -0.01441 -0.02451 -0.02448 -0.0319 C -0.03455 -0.0393 -0.04878 -0.04115 -0.05989 -0.04369 C -0.07101 -0.04624 -0.08073 -0.04577 -0.09114 -0.0467 C -0.10156 -0.04762 -0.10972 -0.0497 -0.12222 -0.0497 C -0.13472 -0.0497 -0.15295 -0.0467 -0.16667 -0.0467 C -0.18038 -0.0467 -0.19323 -0.04924 -0.20434 -0.0497 C -0.21545 -0.05017 -0.22292 -0.05017 -0.23333 -0.0497 C -0.24375 -0.04924 -0.25417 -0.04716 -0.26667 -0.0467 C -0.27917 -0.04624 -0.2967 -0.0467 -0.30885 -0.0467 C -0.32101 -0.0467 -0.33212 -0.04855 -0.33993 -0.0467 C -0.34774 -0.04485 -0.35156 -0.03976 -0.35555 -0.03491 C -0.35955 -0.03006 -0.3618 -0.02312 -0.36441 -0.01711 C -0.36701 -0.0111 -0.36996 -0.0037 -0.37101 0.00069 E">
                                      <p:cBhvr>
                                        <p:cTn id="40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612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9616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44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54920" y="299736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you are going to visit is a famous wri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you me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perso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bout 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 was speaking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6256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9128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3384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0692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6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4620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6220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46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40000" y="25059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57000" y="33570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44226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可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不能用与介词之后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249228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s this the watch that you ar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ld man whom I am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af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tter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7840" y="480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44226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固定短语中介词不能提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re for, call on, put off, listen to, look for, look af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6640" y="191628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下面两句中的介词能提前吗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-1112760"/>
            <a:ext cx="9144000" cy="90835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-103500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92400" y="47628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you like the book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spent $10?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paid $1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learned a lot?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often talk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  He built a telescop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e could study the sk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There is a tall tree outside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tands our teac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  China has a lot of rivers, the second longest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Yellow Ri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The tower _______             people can have a good vie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on the hi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The man ________ I spoke on the phone last n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very good at wrestl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He paid the boy $10 for washing ten window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______        hadn’t been cleaned for at least a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88640" y="4572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81080" y="8110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81080" y="11430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96560" y="15238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78920" y="19051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rough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67800" y="227664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de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45440" y="26668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52000" y="34034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39040" y="412416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51240" y="52293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89480" y="0"/>
            <a:ext cx="402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     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-10440" y="1881360"/>
            <a:ext cx="9268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He did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all / everyth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he could to help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very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ng _______ I am af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We talked about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men and the thing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remembered at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on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can do th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r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ing _______ I want to s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ne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I have ever work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man _______ spoke to you at the g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star _______ is nearest to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54160" y="1049400"/>
            <a:ext cx="37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>
            <a:hlinkClick r:id="rId1" action="ppaction://hlinksldjump"/>
          </p:cNvPr>
          <p:cNvSpPr/>
          <p:nvPr/>
        </p:nvSpPr>
        <p:spPr>
          <a:xfrm>
            <a:off x="4573800" y="197316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>
            <a:hlinkClick r:id="rId2" action="ppaction://hlinksldjump"/>
          </p:cNvPr>
          <p:cNvSpPr/>
          <p:nvPr/>
        </p:nvSpPr>
        <p:spPr>
          <a:xfrm>
            <a:off x="4567320" y="2492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>
            <a:hlinkClick r:id="rId3" action="ppaction://hlinksldjump"/>
          </p:cNvPr>
          <p:cNvSpPr/>
          <p:nvPr/>
        </p:nvSpPr>
        <p:spPr>
          <a:xfrm>
            <a:off x="7453440" y="2924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97440" y="38606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13440" y="442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>
            <a:hlinkClick r:id="rId4" action="ppaction://hlinksldjump"/>
          </p:cNvPr>
          <p:cNvSpPr/>
          <p:nvPr/>
        </p:nvSpPr>
        <p:spPr>
          <a:xfrm>
            <a:off x="4206960" y="4869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65800" y="586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>
            <a:hlinkClick r:id="rId5" action="ppaction://hlinksldjump"/>
          </p:cNvPr>
          <p:cNvSpPr/>
          <p:nvPr/>
        </p:nvSpPr>
        <p:spPr>
          <a:xfrm>
            <a:off x="3565800" y="63658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47840" y="33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97160" y="1049400"/>
            <a:ext cx="62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,whose, whom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9400" y="2205000"/>
            <a:ext cx="981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.Is there anything el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want to s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.Any pers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s the money can join the grou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.He often speaks the role he played in the pla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de others up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2.He opened the door, in front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t a bo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3.The man t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spoke is a famous scient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.The bo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ther is dead was brought 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y his fa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02520" y="2205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61080" y="27655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>
            <a:hlinkClick r:id="rId1" action="ppaction://hlinksldjump"/>
          </p:cNvPr>
          <p:cNvSpPr/>
          <p:nvPr/>
        </p:nvSpPr>
        <p:spPr>
          <a:xfrm>
            <a:off x="250920" y="36450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>
            <a:hlinkClick r:id="rId2" action="ppaction://hlinksldjump"/>
          </p:cNvPr>
          <p:cNvSpPr/>
          <p:nvPr/>
        </p:nvSpPr>
        <p:spPr>
          <a:xfrm>
            <a:off x="6227640" y="4149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74520" y="46530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41800" y="5157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7308720" y="6058080"/>
            <a:ext cx="122400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525960" y="2997360"/>
            <a:ext cx="729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是不定代词时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如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ll ,few, little, much,  every, something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nything, everything,  none, one, any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84360" y="479736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nything that I can do for you in tow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50920" y="2924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e only, the very, the sam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ittle, few, no, any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42926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only film I find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people</a:t>
            </a:r>
            <a:r>
              <a:rPr b="0" i="1" lang="zh-CN" sz="48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’s ask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reading the book over ther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gir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im’s sis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人和物合做先行词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16000" y="3357720"/>
            <a:ext cx="54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alked about the teachers and schools that he had visi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序数词或形容词最高级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16000" y="4067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best film that I’ve ever s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76360" y="5013360"/>
            <a:ext cx="590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87280" y="4581360"/>
            <a:ext cx="60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first place that I visited last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疑问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at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开头的句子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933720"/>
            <a:ext cx="51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the man that is speaking over t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在从句中作表语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1258920" y="342900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no longer the boy that he was 10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非限制性定语从句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284200" y="1120680"/>
            <a:ext cx="43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11280" y="2852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介词后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304360" y="1120680"/>
            <a:ext cx="42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16000" y="3573360"/>
            <a:ext cx="698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that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in which we live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hich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先行词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, he, she , anyone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代词表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般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 who want to go there must be at the school gate by 7:00 p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who doesn’t reach the Great Wall is not a true m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762120" y="68580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有下列情况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通常 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at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而  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是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ll, something, much,  little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不定代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前有序数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形容词最高级或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no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n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先行词前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e last,the very, the onl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如果先行词中既含有表示人的名词又有表示物的名词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4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若主句中有疑问代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为了避免重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关系代词不要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79280" y="2048400"/>
            <a:ext cx="85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 I know the reason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he came l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Do you know the woman, _______son wen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ollege las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he house _______ color is red is joh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 This is the best film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I’ve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2280" y="256536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40440" y="4005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81200" y="350028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04560" y="197964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9280" y="180396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That’s the town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 he worked in 198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. I have 2 brothers,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 are both soldi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7. Next week,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 you’ll spend in y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metown ,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. I’ve tried 2 pairs of shoes, neither of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ts me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70760" y="177336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51720" y="2276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68960" y="378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92240" y="2781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thing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plan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 machin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cake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cooked were deliciou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95280" y="432360"/>
            <a:ext cx="83455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33cc"/>
              </a:buClr>
              <a:buFont typeface="Monotype Corsiv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Tell me the reason ____ you were late fo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2. Who is the girl _____ is speaking ther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3. This is Mr. Smith, _____ has something interesting to tell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4. The computer ________ CPU doesn’t work has to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repai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66800" y="141300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88080" y="2205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91360" y="3068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85920" y="422100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10960" y="464040"/>
            <a:ext cx="8933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is kind of computer, _____ is well-known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s out of d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6. This is just the place ___ I’ve been long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o visit for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7. His mother is an engineer, ____ makes h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very pro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8. The old man has 4 sons, three of ____ 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do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560" y="54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00800" y="1989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1520" y="3429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27680" y="486900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99840" y="1484280"/>
            <a:ext cx="802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1.The earth is round, ____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1160" y="270828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2. 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95440" y="13809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345280" y="1380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80560" y="248292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8360" y="443700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具有“正如”之意，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89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836640"/>
            <a:ext cx="84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: as ,which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均可引导非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as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引导的从句可以放在句首、句中、句末，有“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正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之意， 与之连用的词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know, see, expect, announce, point ou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等，常用被动结构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announc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据宣布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report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据报道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expect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正如所期待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料想的那样；不出所料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has been explain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正如所解释的那样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0492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may be imagined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pointed out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has been said befor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mentioned abov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shown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known to all,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we all know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ich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从句通常置句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此外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the same…as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ch….as…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是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-24120" y="1052640"/>
            <a:ext cx="91796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1.I’ll never forget the days___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2.I’ll never forget the days 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spent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3.I went to the place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4.I went to the place _____________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visit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5.This is the reason _____________________ he was la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6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83240" y="98100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69440" y="1773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91240" y="256536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0160" y="33577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90520" y="42210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34160" y="4941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8912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97120" y="39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49480" y="558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78360" y="331920"/>
            <a:ext cx="33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代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             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副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591192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7. I’ll never forget the day ____ we visited the 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67280" y="5877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-108720" y="705240"/>
            <a:ext cx="973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Difference Between “that” and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Complete the following sentences wit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“that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r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s is the 2nd article ____ I have writt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n Engl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2. It is the best film _____ he has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3. This is the very book _____ I want to 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4. All ____ they told me surprised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ey talked about the teachers and sch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_____ they had visi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32440" y="2637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26280" y="3573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32440" y="41450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32080" y="4581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36800" y="55166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-589320" y="1342440"/>
            <a:ext cx="1089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BatangChe"/>
              <a:buAutoNum type="arabicPeriod" startAt="9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He paid the boy $10 for washing the window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most of _______ hadn’t been cleaned at lea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a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0. The weather turned out to be very goo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_______ was more than we could exp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1. The clever boy made a hole in the wal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through _______ he could see what was going 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inside the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300720" y="6018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315880" y="206064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71800" y="350028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71520" y="4437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12760" y="44280"/>
            <a:ext cx="893124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Correct mistakes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.I saw some trees leaves of which were black with diseas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在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leaves </a:t>
            </a: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前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the 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2.Here is the pen you lost it yesterday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去掉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i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3.The girl told me the news is not here now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Adding “who” before tol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4.This is the village where my father worked in three  years   ag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Chang “where into “which”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②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omitted “i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9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9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30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.The reason why he gave us sounded a little strang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hange” why” into “that/which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.He is the only one of the students who know  French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now” should be changed into “know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7.I’ll never forget the day on which I spent with you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mit “on” or “on which” should be omitte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.Which was planned, we met at the railway station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” should be changed into “a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.This is the teacher with whom we’ve learnt a lo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ith” should be turned into “from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.Is this farm we visited last year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ding “the one” after thi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20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200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2000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i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whit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is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bought were not fresh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The film brought the hours back to me ___I was taken good care of in that far-away villag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until   B. that   C. when  D. whe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___ is known to everybody, the moon travels round the earth once every month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It  B. As  C. That   D. Wh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rothy was always speaking highly of her role in the play, ___ , of course, made the others unhappy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who   B. which   C. this   D. wha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11280" y="1197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26920" y="263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6400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04920" y="259920"/>
            <a:ext cx="854064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由先行词的习惯搭配或根据先行词的需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peed at which light travels is 300,000km  per secon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room in which there is a blackboard is their classroom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可能是从句谓语的一个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或动词所需要的搭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n’t bring children to see the animals of which they are afrai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job at which they laugh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表示所有关系或整体的一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ina has hundreds of islands, the largest of which is Taiwa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have many friends, ___ some are busines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f them   B. from which   C. who of  D. of whom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ome, any, several, many, most, all, both, neither, none, half, one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和形容词比较级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最高级之后接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om / which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356000" y="220500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24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North Island is famous for an area of hot springs, some of which throw hot water high into the air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altogether 11 books on the shelf, ___ five are min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n which   B. in which   C. of which  D. from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2 buildings, ___ stands nearly 100 feet high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the larger  B. the larger of them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 the larger one that   D. the larger 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5640" y="2421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59280" y="3933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Fill in the blanks with “prep + whom/which” .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406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teacher ____ _______ I learnt most was Mrs. Zhu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hat’s the name of the sport _____ ______ you go in a boa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athematics is the subject ______  _______ I am most interest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question ______  __________ we have had a discussio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house __________  _________ I was bor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0364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rom     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51640" y="3284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51640" y="328464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00720" y="43657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00720" y="5373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88000" y="21337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is is the pen ________  _______ I wrote the lett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 that the girl ________  ________ you lent your bicycle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ere is the address _______  _______ you should writ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se are the things _______  ________ I spoke just now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 that the fish _______  _______ you asked the waiter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27640" y="333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           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40360" y="162864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5928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59280" y="37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35280" y="4869000"/>
            <a:ext cx="331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1280" y="4869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moon is a ball ______  _______ there are no living thing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ater is very important to fish, _______  _____ it can't liv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e love the village _______  _______ we work for two year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eter,______  ______ I played tennis on Sundays, was stronger than I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9280" y="1341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n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16720" y="2349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42920" y="29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0" y="3429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4508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540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man is in the next room. He brought us the letter yesterd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film is interesting. They saw it last nigh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pen is mine. He has taken it aw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students will not pass the exam. They don’t work har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lady is our teacher. You saw her just now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00000" y="90792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man who brought us the letter yesterday is in the next 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71640" y="2349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film they saw last night is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26920" y="328464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pen he has taken away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4360" y="4581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students who don’t work hard will not pass the ex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6920" y="595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lady who you saw just now is our teac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46836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The m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ho lives next to u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sells vegeta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16000" y="1916280"/>
            <a:ext cx="71280" cy="936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0840" y="3279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先行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924360" y="1916280"/>
            <a:ext cx="647640" cy="7207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403080" y="272736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置于名词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修饰名词的从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56000" y="1844640"/>
            <a:ext cx="144360" cy="23050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32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0056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19640" y="4076640"/>
            <a:ext cx="144360" cy="865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81120" y="3782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连接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05280" y="3808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04560" y="48164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28080" y="47912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从句中充当成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0664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72648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258920" y="1557360"/>
            <a:ext cx="431640" cy="37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04720" y="98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12400" y="90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620720" y="494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72760" y="4935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副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48000" y="47628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44920" y="35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73120" y="331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44920" y="1287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73120" y="133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65440" y="2203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82520" y="2198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某一情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68560" y="351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41440" y="33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16360" y="76356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68720" y="7635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60720" y="13399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25080" y="1339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0" y="135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633280" y="2224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003080" y="22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651280" y="2637000"/>
            <a:ext cx="360360" cy="287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160240" y="284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不能放于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236000" y="2708280"/>
            <a:ext cx="72720" cy="1152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26520" y="3984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于句中或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57120" y="4292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正如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81080" y="4940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78520" y="4940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88000" y="501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64800" y="17002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主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宾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91480" y="53722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状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rry is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mother is our maths teach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 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some trees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24000" y="307512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Thank you for your attend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（介词后置）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m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系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词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ich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f which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228600" cy="4496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7000 h 4496040"/>
              <a:gd name="textAreaBottom" fmla="*/ 437904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533520"/>
            <a:ext cx="228600" cy="2574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6960 h 2574720"/>
              <a:gd name="textAreaBottom" fmla="*/ 2507760 h 257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4495680"/>
            <a:ext cx="228600" cy="1812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160 h 1812960"/>
              <a:gd name="textAreaBottom" fmla="*/ 1765800 h 181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1523880" cy="145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05-09-13T14:02:35Z</dcterms:modified>
  <cp:revision>25</cp:revision>
  <dc:subject/>
  <dc:title>PowerPoint Presentation</dc:title>
</cp:coreProperties>
</file>