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14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096-002D-4078-9C78-9E149ED2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6F2-10F7-4CAB-B7F3-D00ED28D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80FD-F331-4958-83E8-678F5DF9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2F6-8628-42D5-A976-12D5390C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16C-B6CB-470F-A019-57FBA69F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D78-FD7B-4F15-9E68-0A628CD4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261-9F24-46AB-B46F-C2782275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4C1-EA40-4887-A166-2CA8492C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FAC-4A83-4C22-A008-36C3F408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0FA-638A-4CA3-81D4-755ACC8A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CB6-1FE9-480E-AF86-07525D65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A20-5C7F-41FD-A989-5AC8DC1F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2F62-4893-42CB-9F7B-4C5CA38AFE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" descr=""/>
          <p:cNvPicPr/>
          <p:nvPr/>
        </p:nvPicPr>
        <p:blipFill>
          <a:blip r:embed="rId1"/>
          <a:stretch/>
        </p:blipFill>
        <p:spPr>
          <a:xfrm>
            <a:off x="-15228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52280" y="2620800"/>
            <a:ext cx="10667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Welcome to our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-76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Listen to the tape, and identify the supporting details for each point be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1295280"/>
          <a:ext cx="9144000" cy="5664240"/>
        </p:xfrm>
        <a:graphic>
          <a:graphicData uri="http://schemas.openxmlformats.org/drawingml/2006/table">
            <a:tbl>
              <a:tblPr/>
              <a:tblGrid>
                <a:gridCol w="3252960"/>
                <a:gridCol w="5891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ff66"/>
                      </a:solidFill>
                    </a:lnR>
                    <a:lnT w="5760">
                      <a:solidFill>
                        <a:srgbClr val="99ff66"/>
                      </a:solidFill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</a:tr>
              <a:tr h="15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 Foster thought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 Foster was surprised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police found that Justin retur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s friend said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nesses said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1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__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said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-58680" y="1517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3680" y="32400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1: Justin Foster went mi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0760" y="3301920"/>
            <a:ext cx="19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1600200"/>
            <a:ext cx="297180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s Foster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 Foster was surpr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ustin F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120" y="1565280"/>
            <a:ext cx="32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e was spend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ight with a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32767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that his son 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tell anyone that he was staying out late.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3020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show up at the family lunch the nex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905120"/>
            <a:ext cx="228600" cy="3504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609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2: The police found that Justin returned                        home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120" y="3625920"/>
            <a:ext cx="190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360" y="2260440"/>
            <a:ext cx="2792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friend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nesse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82736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went home after playing baseball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35124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y saw Justin walking towards his home 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487512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im put on his favorite CD after he went to his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5146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533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3: The boy was taken away by ali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33526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1828800"/>
            <a:ext cx="266724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vis Wood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95840" y="1778040"/>
            <a:ext cx="27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 large space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lying out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14200" y="344340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sh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4772160"/>
            <a:ext cx="32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 aliens took her away so that they could do scientific research on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0574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0c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u=4231877098,3831793191&amp;gp=1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6400800" cy="1218960"/>
          </a:xfrm>
          <a:prstGeom prst="rect">
            <a:avLst/>
          </a:prstGeom>
          <a:ln w="0">
            <a:noFill/>
          </a:ln>
        </p:spPr>
      </p:pic>
      <p:pic>
        <p:nvPicPr>
          <p:cNvPr id="99" name="200522117148269" descr=""/>
          <p:cNvPicPr/>
          <p:nvPr/>
        </p:nvPicPr>
        <p:blipFill>
          <a:blip r:embed="rId2"/>
          <a:stretch/>
        </p:blipFill>
        <p:spPr>
          <a:xfrm>
            <a:off x="76320" y="-76320"/>
            <a:ext cx="2590560" cy="5029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62320" y="16765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se you are Justin Foster, try to tell  us your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800600"/>
            <a:ext cx="8763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Detective Sam Peterson, try to tell us        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991040" y="-1181160"/>
            <a:ext cx="1219320" cy="3886200"/>
          </a:xfrm>
          <a:prstGeom prst="cloudCallout">
            <a:avLst>
              <a:gd name="adj1" fmla="val 7148"/>
              <a:gd name="adj2" fmla="val 37157550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Comic Sans MS"/>
              </a:rPr>
              <a:t>Imag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895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Kelly, try to tell us  what  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91120"/>
            <a:ext cx="9067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Mavis Wood, try to tell us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-1440"/>
            <a:ext cx="5057640" cy="25923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533520"/>
            <a:ext cx="324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Comic Sans MS"/>
              </a:rPr>
              <a:t>Homework</a:t>
            </a:r>
            <a:endParaRPr b="1" lang="en-US" sz="24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5435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Write down your own opinion on what you  think happened to Justin Foster in about 100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4172040"/>
            <a:ext cx="2743200" cy="2644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dac8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6" descr=""/>
          <p:cNvPicPr/>
          <p:nvPr/>
        </p:nvPicPr>
        <p:blipFill>
          <a:blip r:embed="rId1"/>
          <a:stretch/>
        </p:blipFill>
        <p:spPr>
          <a:xfrm>
            <a:off x="-15228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04840" y="1892160"/>
            <a:ext cx="5426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Thanks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Good Bye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u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00410211650431" descr="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=2838073443,3507240701&amp;gp=2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ewsMedia_20759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50000">
              <a:srgbClr val="fefefe"/>
            </a:gs>
            <a:gs pos="100000">
              <a:srgbClr val="8da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143000"/>
            <a:ext cx="8991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elcome to the un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" descr=""/>
          <p:cNvPicPr/>
          <p:nvPr/>
        </p:nvPicPr>
        <p:blipFill>
          <a:blip r:embed="rId1"/>
          <a:stretch/>
        </p:blipFill>
        <p:spPr>
          <a:xfrm>
            <a:off x="0" y="342900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33520"/>
            <a:ext cx="4876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986200"/>
            <a:ext cx="929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‘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Boy missing, police puzzled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19560"/>
            <a:ext cx="97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boy  is missing and the police are puzz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000000071" descr=""/>
          <p:cNvPicPr/>
          <p:nvPr/>
        </p:nvPicPr>
        <p:blipFill>
          <a:blip r:embed="rId1"/>
          <a:stretch/>
        </p:blipFill>
        <p:spPr>
          <a:xfrm>
            <a:off x="5029200" y="0"/>
            <a:ext cx="426708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467480" y="3733920"/>
            <a:ext cx="16765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09480"/>
            <a:ext cx="9144000" cy="64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newspaper article quickly, then try to answer thes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article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miss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 the police know what happened to Justin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5000" y="3276720"/>
            <a:ext cx="563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article is about a missing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640" y="457200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Justin Foster is mi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7840" y="58816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8040" y="573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52280"/>
            <a:ext cx="9144000" cy="62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article carefully, and answer the following questions.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does Justin Foster l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y di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n's mother go to bed ear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port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did the witnesses see Justin walking hom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Justin has any brothers and sist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were the alien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else has been taken by the alie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in charge of the c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6240" y="231156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cause she had a heada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971800"/>
            <a:ext cx="28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plays base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920" y="359568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3600" y="426708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es, he has a si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8720" y="489096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y were wh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1440" y="5486400"/>
            <a:ext cx="63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avis Wood has been taken by the ali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80" y="62485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Detective Sam Peterson was in charge of the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9240" y="1690560"/>
            <a:ext cx="53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lives in Dover, New Hampsh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08:43:23Z</dcterms:created>
  <dc:creator>SEC</dc:creator>
  <dc:description/>
  <dc:language>en-US</dc:language>
  <cp:lastModifiedBy>SEC</cp:lastModifiedBy>
  <dcterms:modified xsi:type="dcterms:W3CDTF">2005-11-05T14:24:41Z</dcterms:modified>
  <cp:revision>36</cp:revision>
  <dc:subject/>
  <dc:title>PowerPoint 演示文稿</dc:title>
</cp:coreProperties>
</file>