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D53-71A5-4FC5-9960-40EF7708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5E5-EA3B-4C3F-83DE-04C56B43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729-757F-439A-8FC8-982E25CF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9B7-45A9-493B-9EA8-448E2A3A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397-2DFD-410A-A21A-B85A0BA2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A2A-D940-4292-93C3-C92A8E87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535-14F9-444B-967F-AE08AA83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E51-3E6E-460F-A615-43223AF3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D4C-E328-494C-8A3D-39F5B804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B51-D8E3-49FD-908A-E1F21EC2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0B8-009A-4B47-8A1D-7AF705B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1B6-4433-4996-82E4-9FCEDCEC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02AB-BBFC-4F80-866E-89A9D389EF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2280" y="2620800"/>
            <a:ext cx="1066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Welcome to our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-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isten to the tape, and identify the supporting details for each point be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295280"/>
          <a:ext cx="9144000" cy="5664240"/>
        </p:xfrm>
        <a:graphic>
          <a:graphicData uri="http://schemas.openxmlformats.org/drawingml/2006/table">
            <a:tbl>
              <a:tblPr/>
              <a:tblGrid>
                <a:gridCol w="3252960"/>
                <a:gridCol w="5891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</a:tr>
              <a:tr h="15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 Foster thought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 Foster was surprised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olice found that Justin retur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 friend said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nesses said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1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said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-58680" y="1517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3680" y="32400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1: Justin Foster went mi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760" y="3301920"/>
            <a:ext cx="19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600200"/>
            <a:ext cx="29718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s Foster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 Foster was surpr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ustin F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120" y="1565280"/>
            <a:ext cx="32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e was spend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ight with a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32767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hat his son 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tell anyone that he was staying out late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3020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show up at the family lunch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228600" cy="350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2: The police found that Justin returned                        hom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120" y="3625920"/>
            <a:ext cx="190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360" y="2260440"/>
            <a:ext cx="2792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friend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e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82736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went home after playing baseball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35124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y saw Justin walking towards his home 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875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im put on his favorite CD after he went to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146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3: The boy was taken away by ali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3352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828800"/>
            <a:ext cx="266724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vis Wood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95840" y="1778040"/>
            <a:ext cx="27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 large space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lying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4200" y="344340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sh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772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 aliens took her away so that they could do scientific research on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0574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0c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u=4231877098,3831793191&amp;gp=1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40080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200522117148269" descr=""/>
          <p:cNvPicPr/>
          <p:nvPr/>
        </p:nvPicPr>
        <p:blipFill>
          <a:blip r:embed="rId2"/>
          <a:stretch/>
        </p:blipFill>
        <p:spPr>
          <a:xfrm>
            <a:off x="76320" y="-76320"/>
            <a:ext cx="2590560" cy="502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62320" y="16765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you are Justin Foster, try to tell  us your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0060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Detective Sam Peterson, try to tell us        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991040" y="-1181160"/>
            <a:ext cx="1219320" cy="3886200"/>
          </a:xfrm>
          <a:prstGeom prst="cloudCallout">
            <a:avLst>
              <a:gd name="adj1" fmla="val 7148"/>
              <a:gd name="adj2" fmla="val 37157550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omic Sans MS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Kelly, try to tell us  what  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9067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Mavis Wood, try to tell us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-1440"/>
            <a:ext cx="5057640" cy="25923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533520"/>
            <a:ext cx="324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Comic Sans MS"/>
              </a:rPr>
              <a:t>Homework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5435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rite down your own opinion on what you  think happened to Justin Foster in about 100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17204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dac8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6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04840" y="1892160"/>
            <a:ext cx="5426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Thank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Good Bye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0410211650431" descr="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=2838073443,3507240701&amp;gp=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ewsMedia_2075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50000">
              <a:srgbClr val="fefefe"/>
            </a:gs>
            <a:gs pos="100000">
              <a:srgbClr val="8da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43000"/>
            <a:ext cx="8991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elcome to the u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" descr=""/>
          <p:cNvPicPr/>
          <p:nvPr/>
        </p:nvPicPr>
        <p:blipFill>
          <a:blip r:embed="rId1"/>
          <a:stretch/>
        </p:blipFill>
        <p:spPr>
          <a:xfrm>
            <a:off x="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335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86200"/>
            <a:ext cx="929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Boy missing, police puzzled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1956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boy  is missing and the police are puzz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000000071" descr=""/>
          <p:cNvPicPr/>
          <p:nvPr/>
        </p:nvPicPr>
        <p:blipFill>
          <a:blip r:embed="rId1"/>
          <a:stretch/>
        </p:blipFill>
        <p:spPr>
          <a:xfrm>
            <a:off x="5029200" y="0"/>
            <a:ext cx="42670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67480" y="3733920"/>
            <a:ext cx="16765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64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newspaper article quickly, then try to answer thes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rticle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mis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 the police know what happened to Justin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5000" y="3276720"/>
            <a:ext cx="563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article is about a missing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640" y="45720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Justin Foster is mi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7840" y="58816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8040" y="573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280"/>
            <a:ext cx="91440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article carefully, and answer the following questions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does Justin Foster 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y di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's mother go to bed ear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port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id the witnesses see Justin walking ho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Justin has any brothers and sis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were the alien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else has been taken by the alie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in charge of the c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6240" y="231156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cause she had a head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9718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plays base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920" y="35956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600" y="42670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es, he has a s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8720" y="489096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y were wh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1440" y="548640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vis Wood has been taken by the ali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0" y="62485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tective Sam Peterson was in charge of th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9240" y="1690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lives in Dover, New Hampsh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8:43:23Z</dcterms:created>
  <dc:creator>SEC</dc:creator>
  <dc:description/>
  <dc:language>en-US</dc:language>
  <cp:lastModifiedBy>SEC</cp:lastModifiedBy>
  <dcterms:modified xsi:type="dcterms:W3CDTF">2005-11-05T14:24:41Z</dcterms:modified>
  <cp:revision>36</cp:revision>
  <dc:subject/>
  <dc:title>PowerPoint 演示文稿</dc:title>
</cp:coreProperties>
</file>