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12.jpeg" ContentType="image/jpeg"/>
  <Override PartName="/ppt/media/image13.png" ContentType="image/png"/>
  <Override PartName="/ppt/media/image20.jpeg" ContentType="image/jpe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camera.wav" ContentType="audio/x-wav"/>
  <Override PartName="/ppt/media/image6.png" ContentType="image/png"/>
  <Override PartName="/ppt/media/image18.png" ContentType="image/png"/>
  <Override PartName="/ppt/media/image7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E30-1E80-40B1-BFD6-5CC73C90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A3A-074A-4A84-B9A3-051FCA08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CA3-9446-4F65-8FDC-B473C5AE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3E5-F068-47F4-99E3-1422C9C7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B272-7A63-44B3-A9AF-0C950D90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DAB7-CE7C-40C0-BF2E-6504916C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7CCC-E854-487E-B368-1585C550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5B2D-8D9E-4EC9-BEEA-8528C45A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5AC1-4BAF-455D-B058-6665F0FD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0DED-3FDC-4E5D-B50B-DA396AD6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F64C-97FA-457E-8040-B490C2FE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134-7293-468A-AB02-636B1D8B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FAAD-CE53-4E95-A2CD-B090F19D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C2CA-AFAD-4519-BB1E-8BCEE96F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C950-9F12-4ABC-BF9A-72D83757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8F3F-C360-4C21-AA43-CB9F2EC4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408B-3761-49FE-8AB0-DA08671A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6840-8FC4-45AD-8860-3E2C8BC5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E79D-AF94-4FC1-B1D3-8502B63B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6AD47-8CD5-4F81-B627-5C9865BC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5681E-A048-4B3E-B30D-581AFCC3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D0E87-FE5E-4C36-A308-82F302AB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CDF-7868-41EC-9CB3-8DA0BA31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5DAF8-B6A4-48AD-A795-DC18735B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FF215-9D58-4075-851C-07B3085B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F3849-6823-41F9-8D72-120452A8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C0EEC-C127-463C-835E-2882A2B1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74FA6-3C78-4611-B475-C28DA53D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79201-6959-4AE9-AA49-C131E78D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12F7-1E5F-4A16-AEF5-F2AAB67A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E9BB8-E0FE-40A3-908F-8D793664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7E905-0857-4183-9C90-DD4C2634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DC3DF-67D4-4D85-9699-CE52C7BF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F97-3BE6-475E-A929-55BE5F92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908D9-029A-491C-A069-9552C4EB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4CAC9-CA3F-495C-98BF-FE633EFC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15A14-9ABD-4AD8-BB45-65782D5B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51D99-63BD-4C90-9E02-171370EE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5C542-564B-4312-8D4B-33680B41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43921-A5FD-4ADD-8C10-11C1EAB3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29AB6-7271-4A84-8E12-40C1F309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D02CC-9524-41D2-8A75-16923150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B842F-5382-4B18-99F7-0A151DC1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81E-8350-4C2A-B794-552CB723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518-3FCD-422F-8E49-C9CE2B14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828-666E-4893-AA96-0392330C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FB4-0FC2-4D0E-BB90-F9462141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E6D-8A7E-4BDE-AA80-26DDD14C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3FEE-8BFC-4F2E-BA86-7670596345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8CF7-469D-4A05-9C5F-FF4BC24591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9EFE-7456-4657-9964-C423423B578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8F55-AA0F-4917-B42F-EA3C23D2B06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934320" y="6172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石庄高级中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8120" y="380880"/>
            <a:ext cx="4190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elcome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7303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cc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295280" y="1447920"/>
          <a:ext cx="25909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25909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638680" y="1523880"/>
            <a:ext cx="2210040" cy="2667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78600" y="48006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ustin Foster, a fifteen-year-old boy,was missing two days ago i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ver, New Hampshire. Maybe he was taken away by alien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cc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395280" y="620280"/>
            <a:ext cx="8480160" cy="5943960"/>
            <a:chOff x="395280" y="620280"/>
            <a:chExt cx="8480160" cy="5943960"/>
          </a:xfrm>
        </p:grpSpPr>
        <p:sp>
          <p:nvSpPr>
            <p:cNvPr id="290" name=""/>
            <p:cNvSpPr/>
            <p:nvPr/>
          </p:nvSpPr>
          <p:spPr>
            <a:xfrm flipV="1">
              <a:off x="395280" y="2068200"/>
              <a:ext cx="4496040" cy="44956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381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43320" y="222084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first part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96320" y="313524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rest par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43720" y="2525760"/>
              <a:ext cx="8380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5280" y="4049640"/>
              <a:ext cx="114300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5120" y="2297160"/>
              <a:ext cx="28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ain topic and the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ost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32440" y="3786120"/>
              <a:ext cx="38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new but less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7520" y="3059280"/>
              <a:ext cx="3504960" cy="0"/>
            </a:xfrm>
            <a:prstGeom prst="line">
              <a:avLst/>
            </a:prstGeom>
            <a:ln w="2844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8" name="PlaceHolder 1"/>
            <p:cNvSpPr>
              <a:spLocks noGrp="1"/>
            </p:cNvSpPr>
            <p:nvPr>
              <p:ph type="title"/>
            </p:nvPr>
          </p:nvSpPr>
          <p:spPr>
            <a:xfrm>
              <a:off x="547920" y="6202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A typical news story is written in an inverted pyramid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format.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(</a:t>
              </a:r>
              <a:r>
                <a:rPr b="1" lang="zh-CN" sz="1600" spc="-1" strike="noStrike">
                  <a:solidFill>
                    <a:srgbClr val="0066ff"/>
                  </a:solidFill>
                  <a:latin typeface="Times New Roman"/>
                </a:rPr>
                <a:t>倒金字塔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)</a:t>
              </a:r>
              <a:endParaRPr b="0" i="1" lang="en-US" sz="2400" spc="-1" strike="noStrike">
                <a:solidFill>
                  <a:srgbClr val="79524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22896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ead the news story and finish the following exercise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900000" y="3068640"/>
          <a:ext cx="6858000" cy="3376440"/>
        </p:xfrm>
        <a:graphic>
          <a:graphicData uri="http://schemas.openxmlformats.org/drawingml/2006/table">
            <a:tbl>
              <a:tblPr/>
              <a:tblGrid>
                <a:gridCol w="2163600"/>
                <a:gridCol w="469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in Point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 a frien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 ______________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at the family lunch the next day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after the ga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 ______ at 10:45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at about 11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flying outsid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and then the UFO disappeare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1066680" y="685800"/>
            <a:ext cx="640080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 show up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Does Justin have any brothers or sister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Who else has been taken away by the alien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9325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went to bed early because of a headach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r. Foster was working that nigh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show up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became worried and told her husband to call the police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Justin plays baseball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Does Justin have any brothers or sister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Yes, he has a sister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Who else has been taken by the alien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avis Wood was taken  by the aliens too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826920" y="404640"/>
          <a:ext cx="8066160" cy="6147000"/>
        </p:xfrm>
        <a:graphic>
          <a:graphicData uri="http://schemas.openxmlformats.org/drawingml/2006/table">
            <a:tbl>
              <a:tblPr/>
              <a:tblGrid>
                <a:gridCol w="2276640"/>
                <a:gridCol w="578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in Poin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 frien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___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_____  at the family lunch the next day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_______   after the                               ga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_________________________       at 10:45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 ________________at about 11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was taken away by aliens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___________ flying outsid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___    and then the UFO disappeare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5874120" y="148284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e didn’t tell anyon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1680" y="1893960"/>
            <a:ext cx="29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at he was staying out lat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0320" y="228600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idn’t show up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40600" y="29941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went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33720" y="364320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y saw Justin walking 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67320" y="434340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return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3520" y="472428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 large spaceshi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3160" y="510552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shout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55280" y="568152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was taken aw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5280" y="60706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y the alien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1800360" cy="1871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219320" y="205740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1729080" cy="1593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678320" y="4267080"/>
            <a:ext cx="175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VO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19810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Fo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419112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Foster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0000" y="60930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9827000">
            <a:off x="3657600" y="243828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053800">
            <a:off x="3580920" y="3504960"/>
            <a:ext cx="1057320" cy="145800"/>
          </a:xfrm>
          <a:prstGeom prst="rightArrow">
            <a:avLst>
              <a:gd name="adj1" fmla="val 50000"/>
              <a:gd name="adj2" fmla="val 181296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1598800">
            <a:off x="3657600" y="297144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9" name="Cloud"/>
          <p:cNvSpPr/>
          <p:nvPr/>
        </p:nvSpPr>
        <p:spPr>
          <a:xfrm>
            <a:off x="2362320" y="0"/>
            <a:ext cx="274320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When? Where? Who ? What? How?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• • •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3310400">
            <a:off x="3188880" y="1611000"/>
            <a:ext cx="111240" cy="5173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a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Home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3200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lease give an ending to the story.Was Justin really taken away by aliens or were there any other reasons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2280" y="6477120"/>
            <a:ext cx="4191120" cy="3808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495680" y="6477120"/>
            <a:ext cx="4191120" cy="380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62120" y="2124000"/>
            <a:ext cx="72579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inish part F and do some speaking practice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ccording to the sampl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581280" y="609480"/>
            <a:ext cx="4114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95280" y="836640"/>
            <a:ext cx="64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ales of the unexplained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828800" y="3048120"/>
            <a:ext cx="4952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371520"/>
            <a:ext cx="14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FO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19800" y="380880"/>
            <a:ext cx="29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ien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919600" cy="3581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518184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Do you believe in UFOs and aliens? Why or why no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If you saw a UFO and an alien some day, what would you do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hat other unexplained things do you know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abou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Discussion</a:t>
            </a:r>
            <a:br>
              <a:rPr sz="4400"/>
            </a:b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50840" y="322092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8960" y="40384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53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60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4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e4d7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53440" y="1125360"/>
            <a:ext cx="55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y missing, police puzzled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32920" y="259092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y is missing, and the police are puzzled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20" y="3860640"/>
            <a:ext cx="85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he title of a news story is usually incomplete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04920" y="6629400"/>
            <a:ext cx="4190760" cy="228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648320" y="6629400"/>
            <a:ext cx="4221000" cy="228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267080" y="1828800"/>
            <a:ext cx="304920" cy="824040"/>
          </a:xfrm>
          <a:prstGeom prst="downArrow">
            <a:avLst>
              <a:gd name="adj1" fmla="val 50000"/>
              <a:gd name="adj2" fmla="val 67562"/>
            </a:avLst>
          </a:prstGeom>
          <a:solidFill>
            <a:srgbClr val="ff0066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2e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Read the news story quickly and answer the question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191120" cy="304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1905120"/>
            <a:ext cx="70106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missing?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d where is he missing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police know what happened to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648320" y="6553080"/>
            <a:ext cx="419076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28600" y="655308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2:01:39Z</dcterms:created>
  <dc:creator>软件仓库</dc:creator>
  <dc:description/>
  <dc:language>en-US</dc:language>
  <cp:lastModifiedBy>USER</cp:lastModifiedBy>
  <dcterms:modified xsi:type="dcterms:W3CDTF">2005-11-06T15:53:01Z</dcterms:modified>
  <cp:revision>110</cp:revision>
  <dc:subject/>
  <dc:title>PowerPoint 演示文稿</dc:title>
</cp:coreProperties>
</file>