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3.jpeg" ContentType="image/jpeg"/>
  <Override PartName="/ppt/media/image7.gif" ContentType="image/gif"/>
  <Override PartName="/ppt/media/image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2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215-C604-457D-8732-6D5E01BA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D79-0022-4C3C-8D59-C1FA0E74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FCC-F9B4-4D75-B6F8-561AC383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98D-BA32-4AD6-A3A4-147171B6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6CA-CF07-4A94-80D2-1C1547D5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143-A2F2-4852-A7EB-1D58ACED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A73-6DA6-487C-B2B6-AE998E07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F15-2222-476E-B226-D2C0F0EB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6BF-8734-4DE7-927C-5874BB2A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C8C-30BE-41D7-865F-AFA2029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2DF-4C58-4E56-9F92-8BC22DA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BDB-1BB4-45CF-803D-1A0297C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0892-6E87-460D-85A1-24A71FC469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5" TargetMode="External"/><Relationship Id="rId2" Type="http://schemas.openxmlformats.org/officeDocument/2006/relationships/hyperlink" Target="http://edu.xinxing.org/bbs/list.asp?boardid=15" TargetMode="External"/><Relationship Id="rId3" Type="http://schemas.openxmlformats.org/officeDocument/2006/relationships/hyperlink" Target="http://edu.xinxing.org/bbs/list.asp?boardid=15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3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hyperlink" Target="http://affiliates.allposters.com/link/redirect.asp?item=424439&amp;AID=898556&amp;PSTID=2&amp;LTID=1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2.gif (3620 字节)"/>
          <p:cNvPicPr/>
          <p:nvPr/>
        </p:nvPicPr>
        <p:blipFill>
          <a:blip r:embed="rId1"/>
          <a:stretch/>
        </p:blipFill>
        <p:spPr>
          <a:xfrm>
            <a:off x="1066680" y="2720880"/>
            <a:ext cx="5867640" cy="32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838080"/>
            <a:ext cx="6324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sson 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6000" y="76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342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57200"/>
            <a:ext cx="4724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3. Dialo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let’s listen to the tape again and then try to answer this 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95480"/>
            <a:ext cx="830556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hat are Wang Bing’s plans for the fu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313992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3139920"/>
            <a:ext cx="357120" cy="579600"/>
            <a:chOff x="4040280" y="3139920"/>
            <a:chExt cx="357120" cy="579600"/>
          </a:xfrm>
        </p:grpSpPr>
        <p:sp>
          <p:nvSpPr>
            <p:cNvPr id="125" name=""/>
            <p:cNvSpPr/>
            <p:nvPr/>
          </p:nvSpPr>
          <p:spPr>
            <a:xfrm>
              <a:off x="4040280" y="313992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040280" y="3139920"/>
              <a:ext cx="357120" cy="579600"/>
              <a:chOff x="4040280" y="3139920"/>
              <a:chExt cx="357120" cy="579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040280" y="3139920"/>
                <a:ext cx="3571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40280" y="3139920"/>
                <a:ext cx="35712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宋体"/>
                    <a:hlinkClick r:id="rId2"/>
                  </a:rPr>
                  <a:t>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宋体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宋体"/>
                  </a:rPr>
                  <a:t>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20033172133503457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876920"/>
            <a:ext cx="19810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304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Read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each other the questions in Ex. 1 on page 15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124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 Where are Wang Bing and Carl? What are they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6483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are having lunch in a café in Los Ang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533520"/>
            <a:ext cx="7848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Have they known each other before or have they just met for the first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do customers usually do before ordering a m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752480"/>
            <a:ext cx="7391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have known each other before. Because Wang Bing has already known Carl’s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y usually look at the menu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9144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Are the two men both hungry? Who is hungrier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at have they order for lu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0968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. But Wang Bing is hungrier. He says he can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268880"/>
            <a:ext cx="8305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orders a ham salad and banana ice cream with hot chocolate sauce. Wang Bing orders a hot dog with a potato salad, apple pie with ice cream and jam sau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5335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Are they workers or students? Why do you think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ere is Carl working, in town or in the countryside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82880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ey are workers. Because Carl asks Wang Bing “Are you excited about your new job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7242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works in town. He tells Wang Bing to come into town now and t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0769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-reading 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 in the we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in Chin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914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609480"/>
            <a:ext cx="8686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does Wang Bing ask Carl to do before he mo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Did Carl accept Wang Bing’s invitation? What does he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He invites Carl to dinner at his flat before he mo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41972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, he did. He asked Wang Bing to fix a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3200" y="314640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2003317220385974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11430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1159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anguage points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9072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Have you ordered yet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request to supply goods or         meal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Give an order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9625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里是动词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另外在餐厅里还有一句话是比较常用的，侍者通常会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Can I take the order now?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意思，但是是名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6216120"/>
            <a:ext cx="36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用法总结如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20720" y="293760"/>
            <a:ext cx="69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命令，吩咐，订（定）购，叫菜，点菜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1148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octor ordered him to stay in bed for a couple of days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夫嘱咐他卧床一两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486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 The manager ordered that the gate should be locke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理嘱咐大门要锁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3880"/>
            <a:ext cx="6933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I’ve ordered lunch for 12:3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Has the waiter brought you ord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e are coming to collect ou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720720"/>
            <a:ext cx="720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You can book tickets by telephon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可以电话订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He ordered a cup of coffe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要了一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505320"/>
            <a:ext cx="7632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令，订货（可数），秩序，顺序（不可数）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Place an </a:t>
            </a:r>
            <a:r>
              <a:rPr b="0" lang="zh-CN" sz="3200" spc="-1" strike="noStrike">
                <a:solidFill>
                  <a:srgbClr val="cc3300"/>
                </a:solidFill>
                <a:latin typeface="Tahoma"/>
              </a:rPr>
              <a:t>order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 order sth.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have an order of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335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The policemen received an order and set out at once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察接到命令立刻出发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He ha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placed an order 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100 copies of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已经预定了一百本这种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360" y="388620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 He found everything in the house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good 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发现屋子里秩序井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Arrange the book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order of siz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大小顺序摆好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71748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常构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o do someth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hat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2602080"/>
            <a:ext cx="8066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orks hard in order to (so as to) succee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成功努力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I lent him 5 pounds in order that he might buy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借给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镑以便让他买这本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7.gif (7651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4360" y="0"/>
            <a:ext cx="809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66840" y="228600"/>
            <a:ext cx="708660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, --- Are you hung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 Yes, I sure 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Of course, I am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905120"/>
            <a:ext cx="80661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e = of course/ certainly/ su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Yes , I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ure / certainly/surely</a:t>
            </a: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 am / (c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1827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Can I borrow your cam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Sure / Sur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77368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   A: Are you sure Helen will 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I am 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5543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A: Is she very beauti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she sur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0492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e.g.-Is he t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-Sure/Surely he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28600"/>
            <a:ext cx="9144000" cy="81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go without: endure the lack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，缺少；忍受没有……之苦；没有……也能忍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总是起床很晚，所以常常不吃早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often goes without breakfast as he always gets up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no money for a holiday this year; we’ll have to go with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t /That goes without saying (that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eam is sure to win . That goes without sa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It goes without saying that the team is sure to wi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91440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ight now I could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00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I’m so hungry that I could eat a whole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5146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similar expression “eat a hors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0532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you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write down which food you want and pass it to the kit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572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 Anything to follow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3880"/>
            <a:ext cx="952668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省略句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Do you want anything to follow? / Would you like to have anything else?/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Would you like anything to fol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429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对话中经常有类似的省略， 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I want to buy a shirt and a pair  of trousers.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: Anything el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No, no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2-3-2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3908160" cy="498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990720"/>
            <a:ext cx="167652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274320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952880"/>
            <a:ext cx="289548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m sau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ook forwar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907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a set expression for anticipating a pleasant event in 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2133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e.g.I’m looking forward to seeing you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35268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and agai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ow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from time t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at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269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y only regret is that it's quite a long way from all my friends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唯一的遗憾是离我的朋友们太远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2096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前面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样也是一词多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名词表示遗憾，懊悔（作不可数名词）；感到遗憾的事，歉意（作可数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46472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 heard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ith 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at you were not successful in your pl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到你的计划没有成功，我们感到遗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380880"/>
            <a:ext cx="84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My only regret is that I could not devote more time to the just cause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我唯一的憾事是不能花更多的时间于这一正义事业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895480"/>
            <a:ext cx="9532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are what you say or you may regret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You'll regret having said those wor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I regret to tell you that your father is badly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I regret to say that we have no goo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for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3808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p V. 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21932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e 157.Look at 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" descr="7.gif (16798 字节)"/>
          <p:cNvPicPr/>
          <p:nvPr/>
        </p:nvPicPr>
        <p:blipFill>
          <a:blip r:embed="rId1"/>
          <a:stretch/>
        </p:blipFill>
        <p:spPr>
          <a:xfrm>
            <a:off x="5334120" y="2895480"/>
            <a:ext cx="2361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" descr="1.gif (17760 字节)"/>
          <p:cNvPicPr/>
          <p:nvPr/>
        </p:nvPicPr>
        <p:blipFill>
          <a:blip r:embed="rId1"/>
          <a:stretch/>
        </p:blipFill>
        <p:spPr>
          <a:xfrm>
            <a:off x="457200" y="304920"/>
            <a:ext cx="243828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2971800"/>
            <a:ext cx="190476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" descr="1.gif (4766 字节)"/>
          <p:cNvPicPr/>
          <p:nvPr/>
        </p:nvPicPr>
        <p:blipFill>
          <a:blip r:embed="rId2"/>
          <a:stretch/>
        </p:blipFill>
        <p:spPr>
          <a:xfrm>
            <a:off x="3809880" y="304920"/>
            <a:ext cx="3124440" cy="229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2743200"/>
            <a:ext cx="23623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 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RM146_a" descr="Sala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886200"/>
            <a:ext cx="32767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973840"/>
            <a:ext cx="20574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4" descr="4.gif (6127 字节)"/>
          <p:cNvPicPr/>
          <p:nvPr/>
        </p:nvPicPr>
        <p:blipFill>
          <a:blip r:embed="rId5"/>
          <a:stretch/>
        </p:blipFill>
        <p:spPr>
          <a:xfrm>
            <a:off x="4343400" y="3733920"/>
            <a:ext cx="2514600" cy="2041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911920"/>
            <a:ext cx="24382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g003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67080" cy="4186440"/>
          </a:xfrm>
          <a:prstGeom prst="rect">
            <a:avLst/>
          </a:prstGeom>
          <a:ln w="0">
            <a:noFill/>
          </a:ln>
        </p:spPr>
      </p:pic>
      <p:pic>
        <p:nvPicPr>
          <p:cNvPr id="59" name="vg0002" descr=""/>
          <p:cNvPicPr/>
          <p:nvPr/>
        </p:nvPicPr>
        <p:blipFill>
          <a:blip r:embed="rId2"/>
          <a:stretch/>
        </p:blipFill>
        <p:spPr>
          <a:xfrm>
            <a:off x="5105520" y="2171880"/>
            <a:ext cx="3657600" cy="40766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1905120" y="5105520"/>
            <a:ext cx="7772400" cy="533160"/>
            <a:chOff x="-1905120" y="5105520"/>
            <a:chExt cx="7772400" cy="533160"/>
          </a:xfrm>
        </p:grpSpPr>
        <p:grpSp>
          <p:nvGrpSpPr>
            <p:cNvPr id="61" name=""/>
            <p:cNvGrpSpPr/>
            <p:nvPr/>
          </p:nvGrpSpPr>
          <p:grpSpPr>
            <a:xfrm>
              <a:off x="-1905120" y="5105520"/>
              <a:ext cx="7772400" cy="533160"/>
              <a:chOff x="-1905120" y="5105520"/>
              <a:chExt cx="7772400" cy="533160"/>
            </a:xfrm>
          </p:grpSpPr>
          <p:sp>
            <p:nvSpPr>
              <p:cNvPr id="62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mixed</a:t>
                </a:r>
                <a:r>
                  <a:rPr b="1" lang="en-US" sz="32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egetable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-1905120" y="5105520"/>
              <a:ext cx="7772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267080" y="990720"/>
            <a:ext cx="4876920" cy="914040"/>
            <a:chOff x="4267080" y="990720"/>
            <a:chExt cx="4876920" cy="914040"/>
          </a:xfrm>
        </p:grpSpPr>
        <p:grpSp>
          <p:nvGrpSpPr>
            <p:cNvPr id="66" name=""/>
            <p:cNvGrpSpPr/>
            <p:nvPr/>
          </p:nvGrpSpPr>
          <p:grpSpPr>
            <a:xfrm>
              <a:off x="4267080" y="990720"/>
              <a:ext cx="4876920" cy="913680"/>
              <a:chOff x="4267080" y="990720"/>
              <a:chExt cx="4876920" cy="913680"/>
            </a:xfrm>
          </p:grpSpPr>
          <p:sp>
            <p:nvSpPr>
              <p:cNvPr id="67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reen bean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267080" y="990720"/>
              <a:ext cx="4876920" cy="914040"/>
            </a:xfrm>
            <a:prstGeom prst="rect">
              <a:avLst/>
            </a:prstGeom>
            <a:noFill/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vg0006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58164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vg0012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vg0009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vg0011" descr=""/>
          <p:cNvPicPr/>
          <p:nvPr/>
        </p:nvPicPr>
        <p:blipFill>
          <a:blip r:embed="rId4"/>
          <a:stretch/>
        </p:blipFill>
        <p:spPr>
          <a:xfrm flipH="1">
            <a:off x="4723920" y="4267080"/>
            <a:ext cx="4038840" cy="221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pped Chinese ch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04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tus root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6576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o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" descr="1.gif (1015 字节)"/>
          <p:cNvPicPr/>
          <p:nvPr/>
        </p:nvPicPr>
        <p:blipFill>
          <a:blip r:embed="rId5"/>
          <a:stretch/>
        </p:blipFill>
        <p:spPr>
          <a:xfrm>
            <a:off x="6705720" y="434340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vg0018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vg0033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vg0025" descr=""/>
          <p:cNvPicPr/>
          <p:nvPr/>
        </p:nvPicPr>
        <p:blipFill>
          <a:blip r:embed="rId3"/>
          <a:stretch/>
        </p:blipFill>
        <p:spPr>
          <a:xfrm>
            <a:off x="6019920" y="4394160"/>
            <a:ext cx="2514600" cy="2006640"/>
          </a:xfrm>
          <a:prstGeom prst="rect">
            <a:avLst/>
          </a:prstGeom>
          <a:ln w="0">
            <a:noFill/>
          </a:ln>
        </p:spPr>
      </p:pic>
      <p:pic>
        <p:nvPicPr>
          <p:cNvPr id="83" name="vg0028" descr=""/>
          <p:cNvPicPr/>
          <p:nvPr/>
        </p:nvPicPr>
        <p:blipFill>
          <a:blip r:embed="rId4"/>
          <a:stretch/>
        </p:blipFill>
        <p:spPr>
          <a:xfrm>
            <a:off x="3540240" y="4343400"/>
            <a:ext cx="200664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vg0037" descr=""/>
          <p:cNvPicPr/>
          <p:nvPr/>
        </p:nvPicPr>
        <p:blipFill>
          <a:blip r:embed="rId5"/>
          <a:stretch/>
        </p:blipFill>
        <p:spPr>
          <a:xfrm>
            <a:off x="6934320" y="12952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vg0032" descr=""/>
          <p:cNvPicPr/>
          <p:nvPr/>
        </p:nvPicPr>
        <p:blipFill>
          <a:blip r:embed="rId6"/>
          <a:stretch/>
        </p:blipFill>
        <p:spPr>
          <a:xfrm>
            <a:off x="4191120" y="129528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09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g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 sh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581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r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609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11-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6680" y="603396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09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371600"/>
            <a:ext cx="1904760" cy="25146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2952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i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765000"/>
            <a:ext cx="76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Step 2 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5:37:48Z</dcterms:created>
  <dc:creator>罗燕玲</dc:creator>
  <dc:description/>
  <dc:language>en-US</dc:language>
  <cp:lastModifiedBy>jxl</cp:lastModifiedBy>
  <dcterms:modified xsi:type="dcterms:W3CDTF">2004-08-24T04:02:36Z</dcterms:modified>
  <cp:revision>33</cp:revision>
  <dc:subject/>
  <dc:title>PowerPoint 演示文稿</dc:title>
</cp:coreProperties>
</file>