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904-7AD2-4F7A-9B2B-38C1D9E9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540-A312-4894-85B5-6B699547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2CE-57E7-41AA-AEA3-7E3269CA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AD2-2221-4C79-9F65-C2807296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022-5104-4A1D-8C93-D1D4546D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C6E-C4FD-49A3-9FCD-7E7130F0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76B-702F-42D8-8824-1AF5C2E8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C88-B698-41AC-9C5E-8A35C23A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9E2-1673-42A7-B2E3-108B8848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615-6ADE-42BE-A50E-3FAF84AC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013-C4AC-4665-AAB8-690CCEDC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791-D6C2-46C9-9B54-BA563023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5DF6-1458-4972-B591-0A21509CDB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china/billgates/" TargetMode="External"/><Relationship Id="rId2" Type="http://schemas.openxmlformats.org/officeDocument/2006/relationships/hyperlink" Target="http://it.sohu.com/itpeople/Bill_Gates.html" TargetMode="External"/><Relationship Id="rId3" Type="http://schemas.openxmlformats.org/officeDocument/2006/relationships/hyperlink" Target="http://it.sohu.com/itpeople/Bill_Gates.html" TargetMode="External"/><Relationship Id="rId4" Type="http://schemas.openxmlformats.org/officeDocument/2006/relationships/hyperlink" Target="http://it.sohu.com/itpeople/Bill_Gates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icrosoft.com/billgates/speedofthought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英语教研组  孙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1447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合肥市第十一中学多媒体公开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95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990099"/>
                </a:solidFill>
                <a:latin typeface="Times New Roman"/>
                <a:ea typeface="华文琥珀"/>
              </a:rPr>
              <a:t>欢迎各位评委光临指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2438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 Narrow"/>
                <a:ea typeface="华文细黑"/>
              </a:rPr>
              <a:t>Wb Leeson90.Ex3 in the exercis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0" y="4143240"/>
            <a:ext cx="40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Berlin Sans FB"/>
              </a:rPr>
              <a:t>Good Bye!</a:t>
            </a:r>
            <a:r>
              <a:rPr b="0" lang="en-US" sz="54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EFC  SB  2B 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UNIT 23   A famous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MS Mincho"/>
              </a:rPr>
              <a:t>BILL  G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lbio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vision:    Ask  and 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’s the name of the book Jim and his father are talking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usiness @ The Speed of Th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es Mr Green think of the boo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’s an interesting bo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is the book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 tells us how computer technology can solve business problems in new 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Is the book pop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, it’s very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Are you interested in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(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ecause 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1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Pre-rea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 you know about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American  Seattle   clever   computer manager much money 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can you learn from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Love his work and work h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Do you want to be person like Bill Gates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(No). Because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illg-1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7848720" cy="213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1911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华文细黑"/>
              </a:rPr>
              <a:t>Seattle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 Washington  future  in the futu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large  spend  unusual  in the end    work out software  program  Harvard  unversity 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BASIC  microcomputer  Microsoft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Personal    improve   golf  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Background:</a:t>
            </a:r>
            <a:r>
              <a:rPr b="0" lang="zh-CN" sz="2000" spc="-1" strike="noStrike">
                <a:solidFill>
                  <a:srgbClr val="808000"/>
                </a:solidFill>
                <a:latin typeface="Times New Roman"/>
              </a:rPr>
              <a:t>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微软中文主页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搜狐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BILL GATES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55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86000"/>
            <a:ext cx="403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grow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favourit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th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a" descr=""/>
          <p:cNvPicPr/>
          <p:nvPr/>
        </p:nvPicPr>
        <p:blipFill>
          <a:blip r:embed="rId5"/>
          <a:stretch/>
        </p:blipFill>
        <p:spPr>
          <a:xfrm>
            <a:off x="4952880" y="2209680"/>
            <a:ext cx="2286000" cy="164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80988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illbio3" descr=""/>
          <p:cNvPicPr/>
          <p:nvPr/>
        </p:nvPicPr>
        <p:blipFill>
          <a:blip r:embed="rId6"/>
          <a:stretch/>
        </p:blipFill>
        <p:spPr>
          <a:xfrm>
            <a:off x="4952880" y="41911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5867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ci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5029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13 years old    play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interested in   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Work out   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Only 17      4,200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MPUTER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SOFT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6600" y="28954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188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58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ASIC lau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 1975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s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basicfuture002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05-21billceosummit" descr=""/>
          <p:cNvPicPr/>
          <p:nvPr/>
        </p:nvPicPr>
        <p:blipFill>
          <a:blip r:embed="rId3"/>
          <a:stretch/>
        </p:blipFill>
        <p:spPr>
          <a:xfrm>
            <a:off x="6934320" y="3733920"/>
            <a:ext cx="1676160" cy="2361960"/>
          </a:xfrm>
          <a:prstGeom prst="rect">
            <a:avLst/>
          </a:prstGeom>
          <a:ln w="0">
            <a:noFill/>
          </a:ln>
        </p:spPr>
      </p:pic>
      <p:pic>
        <p:nvPicPr>
          <p:cNvPr id="76" name="billbio2a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29200" y="3276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4040" y="3352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61722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is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1480" y="62485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1999  wrote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usiness @ the Speed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1994  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enjo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ding golf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ates" descr=""/>
          <p:cNvPicPr/>
          <p:nvPr/>
        </p:nvPicPr>
        <p:blipFill>
          <a:blip r:embed="rId1"/>
          <a:stretch/>
        </p:blipFill>
        <p:spPr>
          <a:xfrm>
            <a:off x="7010280" y="312408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_1046397832_03022801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175248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1920" y="220968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未来时速主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Name: Bil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Date of birth: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Favourate  subject at school: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Hobbies: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What Gates did at  17: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3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5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4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9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Additional information: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Octorber 28,1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science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4280" y="26668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lay with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5520" y="312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ked out a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657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He went to 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69640" y="411480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 began a company called Micro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8560" y="464832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ill merried Melinda Fren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5040" y="51055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siness @ the Speed of Th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715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ow children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3:22:52Z</dcterms:created>
  <dc:creator>孙强</dc:creator>
  <dc:description/>
  <dc:language>en-US</dc:language>
  <cp:lastModifiedBy>孙强</cp:lastModifiedBy>
  <dcterms:modified xsi:type="dcterms:W3CDTF">2003-06-04T13:31:22Z</dcterms:modified>
  <cp:revision>64</cp:revision>
  <dc:subject/>
  <dc:title>合肥市第十一中学多媒体公开课</dc:title>
</cp:coreProperties>
</file>