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1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laser.wav" ContentType="audio/x-wav"/>
  <Override PartName="/ppt/media/image12.wmf" ContentType="image/x-wmf"/>
  <Override PartName="/ppt/media/chimes.wav" ContentType="audio/x-wav"/>
  <Override PartName="/ppt/media/image6.jpeg" ContentType="image/jpeg"/>
  <Override PartName="/ppt/media/image5.jpeg" ContentType="image/jpeg"/>
  <Override PartName="/ppt/media/type.wav" ContentType="audio/x-wav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431-DAE1-48F0-B9A3-4D9319F7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614-32F1-4BC2-8009-5284B02B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797-A209-4B0F-A018-83116F09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2DC-A6FC-461E-83B3-821509EE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64C-A02F-4412-97D4-EA92AAD0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528-8547-404D-B77B-C00D22C0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C684-B906-4AA4-B786-74286D39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1C6-3521-43BD-9805-8EC82B23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BE2-754C-42D2-AF44-7AF36ACF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C23-795E-4511-A911-10181375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4EF-469D-4F52-9404-FF8E20A8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E52-8AE3-4661-A5EE-B7EB91D1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E0C8-E1E9-42AA-B06D-1629067328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Unit 4   Feed the Wor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Lesson 1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640720" cy="497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4537080" cy="537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6160" y="404640"/>
            <a:ext cx="65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60" y="0"/>
            <a:ext cx="6631920" cy="825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79440"/>
            <a:ext cx="9396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kim the text to find which of the follow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n be the argument of the passa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 Something can be done to make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no one in the world goes hung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 The human race has the information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erience to protect people from 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ng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 Humans have not been wise enough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ke correct decisions to stop starv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347400" y="404640"/>
            <a:ext cx="987840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How many evidences can be f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upport the argumen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Two.        B. Three.       C. Fou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And What are they?  Read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Does the writer give some adv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how to solve the probl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90" name="strawb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2006280"/>
            <a:ext cx="77724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 EU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89548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Food is bought from farmers and thrown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80060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rmers are paid not to grow crop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Reasons for world hung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In India: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73392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Most land is owned by rich landown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ess-developed countri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5800" y="2054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Farmers are forced to plant cash cro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n western countries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8954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Grain is fed to beef catt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200" y="0"/>
            <a:ext cx="3794040" cy="70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ask 1: Re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62120"/>
            <a:ext cx="896472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英汉互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oday farming employs more peopl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ny other type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For one thing, two thirds of the earth’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rface is water, although this do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vide a lot of food in the form of fis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田正在一天天地减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9520" y="6064200"/>
            <a:ext cx="88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rmland is becoming smaller  day b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Now listen to the tape of the text and answer the following ques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00400"/>
            <a:ext cx="914400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.Do you think the human race can do something to make sure that  no one in the world goes hungry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029200"/>
            <a:ext cx="252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ff"/>
                </a:solidFill>
                <a:latin typeface="Arial"/>
              </a:rPr>
              <a:t>Ye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2. What can farmers received from the EU if they leave some of their fields free and do not plant an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239400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cc"/>
                </a:solidFill>
                <a:latin typeface="Arial"/>
              </a:rPr>
              <a:t>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89400"/>
            <a:ext cx="91440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3.Is it possible to grow crops in hilly, dry or mountainous are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56272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GB" sz="9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88720" y="420480"/>
            <a:ext cx="84596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99"/>
                </a:solidFill>
                <a:latin typeface="Times New Roman"/>
              </a:rPr>
              <a:t>Read the text again and answer more ques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" y="2227320"/>
            <a:ext cx="82296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1.What percentage  of    the land is farmed in the European Union?  Is there enough food to eat in the E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6400" y="53020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81%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36880" y="531828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Y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5014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What do farmers in the EU do if they produce too many crops? What happens to the crop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52584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y have the right to sell their crops to the 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1814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They are thrown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What has been proved to be a good way to produce more foo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5812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Let farmers grow crops either to feed their family or to s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.How do the rich people in India pay the peasants who work for the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7446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Pay very little mone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733920"/>
            <a:ext cx="82296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.Could food production be higher in Indi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149800"/>
            <a:ext cx="6705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US" sz="10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0769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What has been suggested then? Can this idea be put into practice?  W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666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Share the land equa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94680" y="2590920"/>
            <a:ext cx="184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No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4560" y="3809880"/>
            <a:ext cx="85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ecause most Indian politicians are landowners and they would not vote to lose their land and weal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.What do some less-developed countries do to develop their indust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8560" y="211464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To borrow mone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9200" y="3125880"/>
            <a:ext cx="86868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.How  can  we   make good use of hilly,dry or mountainous  area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55576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To keep sheep or goa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836640"/>
            <a:ext cx="8748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is text is about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how to feed the world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. people’s wrongdoings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present problems in feeding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d some sugges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. the reason for lack of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440" y="340056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2920" y="260280"/>
            <a:ext cx="8893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Paragraph 2 doesn’t tell us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in some places food is more th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there is not lack of food everyw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developed countries don’ t lack for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 how to solve the unbalance of food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4197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9880" y="404640"/>
            <a:ext cx="8829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仅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7%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土地要养活占世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2%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人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The Chinese people are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making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 gr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efforts to protec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eir farm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The FAO has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worked out that up to 3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of foo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is lost in stora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科学家在继续开发新型高产植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05264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Only 7 % of the land has to feed 22% of the world popul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720" y="522936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Scientists continue to develop new type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Plants which produce heavier crop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44928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In the European Union, farmers are 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ucky  because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the price of crop is the best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. the farmland is quite good for cro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r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the farming is quite developed t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. they can get money without grow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4100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04920"/>
            <a:ext cx="9144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Paragraph 3 tells us the problem in feeding the world also exists in 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the crop’s quality      B. the quantity of c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. the farmland      D. the ownership of farm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Paragraph 3 tells us that India is not a (an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 count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developing                  B. agricul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. fair                              D. p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64000" y="25351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57913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8088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ash crops can’t be used to produc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oil       B. drinks       C. cigarette        D.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Cash crops can’t be used to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make money                B. feed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help less-developed countries out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both B and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99520" y="13111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60958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3352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What does “repay” in paragraph 4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pay again        B. pay back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lend                 D. bor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What does “raise” in the last paragrap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rise        B. increase       C. feed      D. k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54440" y="13716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57800" y="548640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81080" y="38088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The suggestion made in the last paragraph is that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we should raise more cattle or she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we shouldn’t  raise cattle or sheep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rm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we shouldn’t use grain to feed ca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 both B and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5105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22240" y="301680"/>
            <a:ext cx="497376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523880"/>
            <a:ext cx="457200" cy="4780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680" y="1523880"/>
            <a:ext cx="9326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seful phra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o hungry, go mad / bad /wrong /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o from bad to wo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generally / frankly / strictly/exactly/hone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so far= up till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make a dec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Leave the fields free, leave the door op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eave him alone, leave the door unlocked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75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6. result i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lead to, bring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902600"/>
            <a:ext cx="82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a) result in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可用来表示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引起、导致或造成（某种结果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8640" y="4568760"/>
            <a:ext cx="853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The trial resulted in his being sentenced to two years' imprisonment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审判结果是他被判刑两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784872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traffic accident resulted in three deaths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起交通事故造成三人死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esulted in =ca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85800"/>
            <a:ext cx="754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is no doubt that hard work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sults 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succ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5320" y="2741760"/>
            <a:ext cx="8290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b) result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可以与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from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连用，意为“作为……的结果”，表示原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=There is no doubt that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success results from hard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365040"/>
            <a:ext cx="85327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) Her injury resulted from a fall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她因跌倒而受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2) It’s said that his lameness resulted from an accident.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据说他的瘸腿是一次事故造成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) Sickness often results from eating too much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疾病往往因为吃得太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4) The accident resulted from carelessness.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事故因粗心而产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1695600"/>
            <a:ext cx="79214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You‘re only 16; you’re too young to vote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只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岁，还没到选举的年龄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) Money for a new school was voted by the board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创办一所新学校的钱已由董事会通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5493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vote v. n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投票，选举，表决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-76320"/>
            <a:ext cx="6121440" cy="581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se the best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8667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 Shall we have dinner right 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 Oh, please. I ____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. will starve       B. am star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as starved   D. have starv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3470400"/>
            <a:ext cx="89154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We traveled ___ for the purpose of reaching the village before the enemy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y the day            B. day by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day and night      D. day after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337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9120" y="62485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675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Whichever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引导让步状语从句。“不论哪一个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管你用那种方法做这件事，结果都一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648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 has the same result whichever way you do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60000" y="533520"/>
            <a:ext cx="860436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养育子女，饲养牲畜     相当于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kee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one’s childr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pigs and catt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 make sense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ave a meaning that can be understoo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讲得通，合乎道理。有意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doesn’t  make any sense to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very good sense to keep sheep or goa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5760" y="422280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es this sentence make sen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make sense of what this writer sa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43020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享，分担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t. v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 will 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troubles and my jo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愿和我苦乐与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rouble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joy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orrow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orrie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appines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xcitement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st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uppe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ppl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等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 sth.with s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某人分享某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“合用”解时，是及物动词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share a small room between 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ar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用作名词，意为“一份，份额”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verybody ought to have his share of f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320" y="152280"/>
            <a:ext cx="89722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) “Should I fail the college exam, all my hopes ___.” She said, looking anxio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ould be damaged  B was destro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as harmed     D. would be ru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27672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) We didn’t plan our art exhibition like that but it ____ very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orked out     B. tried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ent on          D. carried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243828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7498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667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“ I don’t want to buy the dress. ____, I don’t like the colour, and____ the price is ____ high.” the girl said to the shop assis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or one thing; for another;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. For a thing; for the other; much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For one thing; for another; 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. For one thing; for other;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1760" y="307332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382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05320" y="3124080"/>
            <a:ext cx="259056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y (mon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3200400"/>
            <a:ext cx="17524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in c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6019920"/>
            <a:ext cx="1219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248520"/>
            <a:ext cx="2286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se (pi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172200"/>
            <a:ext cx="16002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3824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2971800"/>
            <a:ext cx="9907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048120"/>
            <a:ext cx="9144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5943600"/>
            <a:ext cx="762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5943600"/>
            <a:ext cx="13716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57200"/>
            <a:ext cx="3276360" cy="2064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.500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.40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4191120" cy="5367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09480" y="2806560"/>
            <a:ext cx="358164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13:21:13Z</dcterms:created>
  <dc:creator>w</dc:creator>
  <dc:description/>
  <dc:language>en-US</dc:language>
  <cp:lastModifiedBy>w</cp:lastModifiedBy>
  <dcterms:modified xsi:type="dcterms:W3CDTF">2004-09-05T13:21:38Z</dcterms:modified>
  <cp:revision>1</cp:revision>
  <dc:subject/>
  <dc:title>Unit 4   Feed the World</dc:title>
</cp:coreProperties>
</file>