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25.gif" ContentType="image/gif"/>
  <Override PartName="/ppt/media/image13.jpeg" ContentType="image/jpeg"/>
  <Override PartName="/ppt/media/image7.gif" ContentType="image/gif"/>
  <Override PartName="/ppt/media/image5.gif" ContentType="image/gif"/>
  <Override PartName="/ppt/media/image11.jpeg" ContentType="image/jpeg"/>
  <Override PartName="/ppt/media/image9.jpeg" ContentType="image/jpeg"/>
  <Override PartName="/ppt/media/image6.jpeg" ContentType="image/jpeg"/>
  <Override PartName="/ppt/media/image4.gif" ContentType="image/gif"/>
  <Override PartName="/ppt/media/image26.gif" ContentType="image/gif"/>
  <Override PartName="/ppt/media/image20.jpeg" ContentType="image/jpeg"/>
  <Override PartName="/ppt/media/image15.jpeg" ContentType="image/jpeg"/>
  <Override PartName="/ppt/media/image14.gif" ContentType="image/gif"/>
  <Override PartName="/ppt/media/image22.wmf" ContentType="image/x-wmf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.gif" ContentType="image/gif"/>
  <Override PartName="/ppt/media/image24.gif" ContentType="image/gif"/>
  <Override PartName="/ppt/media/image2.png" ContentType="image/png"/>
  <Override PartName="/ppt/media/image3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22C5-AAC3-4239-A24E-E011DDD4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84E3-2E44-40B2-85BE-8DB71016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6D0-96C8-4BD7-9ADD-02AC3932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0096-02AD-4256-A113-670452AA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81A6-C268-41AE-A8DD-E2E941D4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5FE3-0C64-47AC-8FB1-4D24AE52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B24A-A18E-459F-A539-2578042C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5185-74D4-4E56-9665-7E694E65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C98D-5EAC-4CA6-83DC-43366E5B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79DA-4FE5-456E-8C65-4037DF33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D663-B3D0-4091-A4AF-B5F7735D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ED59-75F8-46AC-985A-DA7BD239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5E32-CC56-4F0B-9ABA-E75B5F9F0B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du.xinxing.org/bbs/list.asp?boardid=15" TargetMode="External"/><Relationship Id="rId2" Type="http://schemas.openxmlformats.org/officeDocument/2006/relationships/hyperlink" Target="http://edu.xinxing.org/bbs/list.asp?boardid=15" TargetMode="External"/><Relationship Id="rId3" Type="http://schemas.openxmlformats.org/officeDocument/2006/relationships/hyperlink" Target="http://edu.xinxing.org/bbs/list.asp?boardid=15" TargetMode="External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du.xinxing.org/bbs/list.asp?boardid=13" TargetMode="External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hyperlink" Target="http://affiliates.allposters.com/link/redirect.asp?item=424439&amp;AID=898556&amp;PSTID=2&amp;LTID=1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" descr="2.gif (3620 字节)"/>
          <p:cNvPicPr/>
          <p:nvPr/>
        </p:nvPicPr>
        <p:blipFill>
          <a:blip r:embed="rId1"/>
          <a:stretch/>
        </p:blipFill>
        <p:spPr>
          <a:xfrm>
            <a:off x="1066680" y="2720880"/>
            <a:ext cx="5867640" cy="322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95280" y="838080"/>
            <a:ext cx="63248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Lesson 1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71640" y="76500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  What does WB order for his lu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2349360"/>
            <a:ext cx="51850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am salad,     banana ice cr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ot dog, a potato salad, apple pi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am salad ,ice cream and jam sau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42920" y="7254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 How does WB find his new job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2652840"/>
            <a:ext cx="475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gretfu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xci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ir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16000" y="76500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华文新魏"/>
              </a:rPr>
              <a:t>Listen to the tape and answer the 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22384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 Where are WB and Carl having lu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3716280"/>
            <a:ext cx="475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a caf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a restaur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WB’ hom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3280" y="371628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71640" y="76500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  What does WB order for his lu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2349360"/>
            <a:ext cx="51850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am salad,     banana ice cr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ot dog, a potato salad, apple pi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am salad ,ice cream and jam sau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87280" y="371628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42920" y="7254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 How does WB find his new job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2652840"/>
            <a:ext cx="475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gretfu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xci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ir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58920" y="342900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9480" y="457200"/>
            <a:ext cx="4724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tep 3. Dialog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2952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w let’s listen to the tape again and then try to answer this 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895480"/>
            <a:ext cx="8305560" cy="29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What are Wang Bing’s plans for the futu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宋体"/>
                <a:hlinkClick r:id="rId1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40280" y="3139920"/>
            <a:ext cx="9144000" cy="360"/>
          </a:xfrm>
          <a:prstGeom prst="rect">
            <a:avLst/>
          </a:prstGeom>
          <a:solidFill>
            <a:srgbClr val="659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040280" y="3139920"/>
            <a:ext cx="357120" cy="579600"/>
            <a:chOff x="4040280" y="3139920"/>
            <a:chExt cx="357120" cy="579600"/>
          </a:xfrm>
        </p:grpSpPr>
        <p:sp>
          <p:nvSpPr>
            <p:cNvPr id="125" name=""/>
            <p:cNvSpPr/>
            <p:nvPr/>
          </p:nvSpPr>
          <p:spPr>
            <a:xfrm>
              <a:off x="4040280" y="313992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040280" y="3139920"/>
              <a:ext cx="357120" cy="579600"/>
              <a:chOff x="4040280" y="3139920"/>
              <a:chExt cx="357120" cy="579600"/>
            </a:xfrm>
          </p:grpSpPr>
          <p:sp>
            <p:nvSpPr>
              <p:cNvPr id="127" name=""/>
              <p:cNvSpPr/>
              <p:nvPr/>
            </p:nvSpPr>
            <p:spPr>
              <a:xfrm>
                <a:off x="4040280" y="3139920"/>
                <a:ext cx="3571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40280" y="3139920"/>
                <a:ext cx="357120" cy="579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宋体"/>
                    <a:hlinkClick r:id="rId2"/>
                  </a:rPr>
                  <a:t>  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宋体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宋体"/>
                  </a:rPr>
                  <a:t>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9" name="20033172133503457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4876920"/>
            <a:ext cx="198108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30492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tep 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4.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Reading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219320"/>
            <a:ext cx="80769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k each other the questions in Ex. 1 on page 157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31240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. Where are Wang Bing and Carl? What are they do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4648320"/>
            <a:ext cx="8077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They are having lunch in a café in Los Ange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9480" y="533520"/>
            <a:ext cx="7848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Have they known each other before or have they just met for the first ti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What do customers usually do before ordering a m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752480"/>
            <a:ext cx="7391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They have known each other before. Because Wang Bing has already known Carl’s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5105520"/>
            <a:ext cx="7696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y usually look at the menu fi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914400"/>
            <a:ext cx="83059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Are the two men both hungry? Who is hungrier? How do you k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What have they order for lun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2209680"/>
            <a:ext cx="7238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Yes. But Wang Bing is hungrier. He says he can eat an o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268880"/>
            <a:ext cx="83055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Carl orders a ham salad and banana ice cream with hot chocolate sauce. Wang Bing orders a hot dog with a potato salad, apple pie with ice cream and jam sau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3520" y="533520"/>
            <a:ext cx="82296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Are they workers or students? Why do you think 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Where is Carl working, in town or in the countryside? How do you k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828800"/>
            <a:ext cx="8229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ey are workers. Because Carl asks Wang Bing “Are you excited about your new job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4724280"/>
            <a:ext cx="6781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Carl works in town. He tells Wang Bing to come into town now and th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752480"/>
            <a:ext cx="807696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SzPct val="1131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e-reading discus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SzPct val="1131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kind of food do people eat  in the wes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SzPct val="1131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kind of food do people eat in Chin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9144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609480"/>
            <a:ext cx="8686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What does Wang Bing ask Carl to do before he mov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. Did Carl accept Wang Bing’s invitation? What does he s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905120"/>
            <a:ext cx="7772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He invites Carl to dinner at his flat before he mo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4419720"/>
            <a:ext cx="7696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Yes, he did. He asked Wang Bing to fix a d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83200" y="3146400"/>
            <a:ext cx="9144000" cy="360"/>
          </a:xfrm>
          <a:prstGeom prst="rect">
            <a:avLst/>
          </a:prstGeom>
          <a:solidFill>
            <a:srgbClr val="659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2003317220385974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5638680"/>
            <a:ext cx="1143000" cy="8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1159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Language points</a:t>
            </a: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990720"/>
            <a:ext cx="914400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 Have you ordered yet 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rder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n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request to supply goods or         meal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vt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Give an order for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396252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这里是动词，意思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另外在餐厅里还有一句话是比较常用的，侍者通常会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Can I take the order now?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里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意思，但是是名词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24000" y="537372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43320" y="6216120"/>
            <a:ext cx="36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order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的用法总结如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20720" y="293760"/>
            <a:ext cx="69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命令，吩咐，订（定）购，叫菜，点菜。例如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411480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doctor ordered him to stay in bed for a couple of days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夫嘱咐他卧床一两天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54864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2) The manager ordered that the gate should be locked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理嘱咐大门要锁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1523880"/>
            <a:ext cx="69339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I’ve ordered lunch for 12:3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Has the waiter brought you ord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We are coming to collect our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11280" y="720720"/>
            <a:ext cx="7200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3)You can book tickets by telephone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可以电话订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4) He ordered a cup of coffee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要了一杯咖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3505320"/>
            <a:ext cx="763272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命令，订货（可数），秩序，顺序（不可数）。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Place an </a:t>
            </a:r>
            <a:r>
              <a:rPr b="0" lang="zh-CN" sz="3200" spc="-1" strike="noStrike">
                <a:solidFill>
                  <a:srgbClr val="cc3300"/>
                </a:solidFill>
                <a:latin typeface="Tahoma"/>
              </a:rPr>
              <a:t>order</a:t>
            </a: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 for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= order sth.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=have an order of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53352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1)The policemen received an order and set out at once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警察接到命令立刻出发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2) He has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placed an order fo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100 copies of the book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已经预定了一百本这种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360" y="3886200"/>
            <a:ext cx="864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3) He found everything in the house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in good orde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发现屋子里秩序井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4) Arrange the books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in order of siz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按大小顺序摆好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717480"/>
            <a:ext cx="792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还常构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 order to do somethi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 order that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例如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6560" y="2602080"/>
            <a:ext cx="80661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works hard in order to (so as to) succeed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成功努力工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2) I lent him 5 pounds in order that he might buy the book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借给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英镑以便让他买这本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7.gif (7651 字节)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34360" y="0"/>
            <a:ext cx="8096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66840" y="228600"/>
            <a:ext cx="7086600" cy="27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, --- Are you hung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 Yes, I sure a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Of course, I am hung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1905120"/>
            <a:ext cx="80661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e = of course/ certainly/ sur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29a3"/>
                </a:solidFill>
                <a:latin typeface="Tahoma"/>
              </a:rPr>
              <a:t>Yes , I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sure / certainly/surely</a:t>
            </a:r>
            <a:r>
              <a:rPr b="0" lang="en-US" sz="3200" spc="-1" strike="noStrike">
                <a:solidFill>
                  <a:srgbClr val="4629a3"/>
                </a:solidFill>
                <a:latin typeface="Tahoma"/>
              </a:rPr>
              <a:t> am / (ca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3182760"/>
            <a:ext cx="80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: Can I borrow your came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Sure / Sur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5773680"/>
            <a:ext cx="87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    A: Are you sure Helen will co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Yes, I am 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4554360"/>
            <a:ext cx="80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 A: Is she very beauti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Yes, she sure 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304920"/>
            <a:ext cx="3581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e.g.-Is he ta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-Sure/Surely he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228600"/>
            <a:ext cx="9144000" cy="81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go without: endure the lack of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没有，缺少；忍受没有……之苦；没有……也能忍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总是起床很晚，所以常常不吃早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often goes without breakfast as he always gets up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re is no money for a holiday this year; we’ll have to go with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It /That goes without saying (that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team is sure to win . That goes without say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 It goes without saying that the team is sure to win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914400"/>
            <a:ext cx="8153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ight now I could eat an o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60020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I’m so hungry that I could eat a whole o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251460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 similar expression “eat a horse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3505320"/>
            <a:ext cx="8229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your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write down which food you want and pass it to the kit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457200"/>
            <a:ext cx="79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 Anything to follow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523880"/>
            <a:ext cx="952668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一个省略句，意思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Do you want anything to follow? / Would you like to have anything else?/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 Would you like anything to foll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429000"/>
            <a:ext cx="7543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对话中经常有类似的省略， 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: I want to buy a shirt and a pair  of trousers.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: Anything el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: No, nothing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12-3-2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3908160" cy="4983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57400" y="990720"/>
            <a:ext cx="1676520" cy="82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2743200" cy="82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4952880"/>
            <a:ext cx="2895480" cy="82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m sau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4920" y="304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look forwar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9907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a set expression for anticipating a pleasant event in the fu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320" y="213372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e.g.I’m looking forward to seeing you so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3352680"/>
            <a:ext cx="80773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ow and agai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ow and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=from time to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=some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=at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09480" y="42696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 My only regret is that it's quite a long way from all my friends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唯一的遗憾是离我的朋友们太远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22096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里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egre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前面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样也是一词多意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egret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名词表示遗憾，懊悔（作不可数名词）；感到遗憾的事，歉意（作可数名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4464720"/>
            <a:ext cx="86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) We heard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ith regre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that you were not successful in your pla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到你的计划没有成功，我们感到遗憾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4920" y="380880"/>
            <a:ext cx="849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)My only regret is that I could not devote more time to the just cause.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我唯一的憾事是不能花更多的时间于这一正义事业上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895480"/>
            <a:ext cx="9532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care what you say or you may regret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You'll regret having said those word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I regret to tell you that your father is badly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) I regret to say that we have no goo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 for y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380880"/>
            <a:ext cx="5943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ep V. Conso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1219320"/>
            <a:ext cx="754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ge 157.Look at 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7" descr="7.gif (16798 字节)"/>
          <p:cNvPicPr/>
          <p:nvPr/>
        </p:nvPicPr>
        <p:blipFill>
          <a:blip r:embed="rId1"/>
          <a:stretch/>
        </p:blipFill>
        <p:spPr>
          <a:xfrm>
            <a:off x="5334120" y="2895480"/>
            <a:ext cx="236196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" descr="1.gif (17760 字节)"/>
          <p:cNvPicPr/>
          <p:nvPr/>
        </p:nvPicPr>
        <p:blipFill>
          <a:blip r:embed="rId1"/>
          <a:stretch/>
        </p:blipFill>
        <p:spPr>
          <a:xfrm>
            <a:off x="457200" y="304920"/>
            <a:ext cx="2438280" cy="2590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120" y="2971800"/>
            <a:ext cx="1904760" cy="764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1" descr="1.gif (4766 字节)"/>
          <p:cNvPicPr/>
          <p:nvPr/>
        </p:nvPicPr>
        <p:blipFill>
          <a:blip r:embed="rId2"/>
          <a:stretch/>
        </p:blipFill>
        <p:spPr>
          <a:xfrm>
            <a:off x="3809880" y="304920"/>
            <a:ext cx="3124440" cy="2298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43400" y="2743200"/>
            <a:ext cx="2362320" cy="703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t do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ARM146_a" descr="Salad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3886200"/>
            <a:ext cx="3276720" cy="2000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38080" y="5973840"/>
            <a:ext cx="205740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ala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4" descr="4.gif (6127 字节)"/>
          <p:cNvPicPr/>
          <p:nvPr/>
        </p:nvPicPr>
        <p:blipFill>
          <a:blip r:embed="rId5"/>
          <a:stretch/>
        </p:blipFill>
        <p:spPr>
          <a:xfrm>
            <a:off x="4343400" y="3733920"/>
            <a:ext cx="2514600" cy="2041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419720" y="5911920"/>
            <a:ext cx="243828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mbur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90720" y="68580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vg0038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4267080" cy="4186440"/>
          </a:xfrm>
          <a:prstGeom prst="rect">
            <a:avLst/>
          </a:prstGeom>
          <a:ln w="0">
            <a:noFill/>
          </a:ln>
        </p:spPr>
      </p:pic>
      <p:pic>
        <p:nvPicPr>
          <p:cNvPr id="59" name="vg0002" descr=""/>
          <p:cNvPicPr/>
          <p:nvPr/>
        </p:nvPicPr>
        <p:blipFill>
          <a:blip r:embed="rId2"/>
          <a:stretch/>
        </p:blipFill>
        <p:spPr>
          <a:xfrm>
            <a:off x="5105520" y="2171880"/>
            <a:ext cx="3657600" cy="407664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-1905120" y="5105520"/>
            <a:ext cx="7772400" cy="533160"/>
            <a:chOff x="-1905120" y="5105520"/>
            <a:chExt cx="7772400" cy="533160"/>
          </a:xfrm>
        </p:grpSpPr>
        <p:grpSp>
          <p:nvGrpSpPr>
            <p:cNvPr id="61" name=""/>
            <p:cNvGrpSpPr/>
            <p:nvPr/>
          </p:nvGrpSpPr>
          <p:grpSpPr>
            <a:xfrm>
              <a:off x="-1905120" y="5105520"/>
              <a:ext cx="7772400" cy="533160"/>
              <a:chOff x="-1905120" y="5105520"/>
              <a:chExt cx="7772400" cy="533160"/>
            </a:xfrm>
          </p:grpSpPr>
          <p:sp>
            <p:nvSpPr>
              <p:cNvPr id="62" name=""/>
              <p:cNvSpPr/>
              <p:nvPr/>
            </p:nvSpPr>
            <p:spPr>
              <a:xfrm>
                <a:off x="-1905120" y="5105520"/>
                <a:ext cx="777240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mixed</a:t>
                </a:r>
                <a:r>
                  <a:rPr b="1" lang="en-US" sz="3200" spc="-1" strike="noStrike">
                    <a:solidFill>
                      <a:srgbClr val="cc33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vegetable</a:t>
                </a:r>
                <a:r>
                  <a:rPr b="0" lang="en-US" sz="2400" spc="-1" strike="noStrike">
                    <a:solidFill>
                      <a:srgbClr val="cc33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-1905120" y="5105520"/>
                <a:ext cx="777240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-1905120" y="5105520"/>
              <a:ext cx="7772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267080" y="990720"/>
            <a:ext cx="4876920" cy="914040"/>
            <a:chOff x="4267080" y="990720"/>
            <a:chExt cx="4876920" cy="914040"/>
          </a:xfrm>
        </p:grpSpPr>
        <p:grpSp>
          <p:nvGrpSpPr>
            <p:cNvPr id="66" name=""/>
            <p:cNvGrpSpPr/>
            <p:nvPr/>
          </p:nvGrpSpPr>
          <p:grpSpPr>
            <a:xfrm>
              <a:off x="4267080" y="990720"/>
              <a:ext cx="4876920" cy="913680"/>
              <a:chOff x="4267080" y="990720"/>
              <a:chExt cx="4876920" cy="913680"/>
            </a:xfrm>
          </p:grpSpPr>
          <p:sp>
            <p:nvSpPr>
              <p:cNvPr id="67" name=""/>
              <p:cNvSpPr/>
              <p:nvPr/>
            </p:nvSpPr>
            <p:spPr>
              <a:xfrm>
                <a:off x="4267080" y="990720"/>
                <a:ext cx="4876920" cy="9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green beans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67080" y="990720"/>
                <a:ext cx="4876920" cy="91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267080" y="990720"/>
              <a:ext cx="4876920" cy="914040"/>
            </a:xfrm>
            <a:prstGeom prst="rect">
              <a:avLst/>
            </a:prstGeom>
            <a:noFill/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vg0006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3581640" cy="2895480"/>
          </a:xfrm>
          <a:prstGeom prst="rect">
            <a:avLst/>
          </a:prstGeom>
          <a:ln w="0">
            <a:noFill/>
          </a:ln>
        </p:spPr>
      </p:pic>
      <p:pic>
        <p:nvPicPr>
          <p:cNvPr id="72" name="vg0012" descr=""/>
          <p:cNvPicPr/>
          <p:nvPr/>
        </p:nvPicPr>
        <p:blipFill>
          <a:blip r:embed="rId2"/>
          <a:stretch/>
        </p:blipFill>
        <p:spPr>
          <a:xfrm>
            <a:off x="5029200" y="990720"/>
            <a:ext cx="320040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vg0009" descr=""/>
          <p:cNvPicPr/>
          <p:nvPr/>
        </p:nvPicPr>
        <p:blipFill>
          <a:blip r:embed="rId3"/>
          <a:stretch/>
        </p:blipFill>
        <p:spPr>
          <a:xfrm>
            <a:off x="685800" y="42670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vg0011" descr=""/>
          <p:cNvPicPr/>
          <p:nvPr/>
        </p:nvPicPr>
        <p:blipFill>
          <a:blip r:embed="rId4"/>
          <a:stretch/>
        </p:blipFill>
        <p:spPr>
          <a:xfrm flipH="1">
            <a:off x="4723920" y="4267080"/>
            <a:ext cx="4038840" cy="2210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228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pped Chinese ch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3049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tus root pie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36576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rrot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1" descr="1.gif (1015 字节)"/>
          <p:cNvPicPr/>
          <p:nvPr/>
        </p:nvPicPr>
        <p:blipFill>
          <a:blip r:embed="rId5"/>
          <a:stretch/>
        </p:blipFill>
        <p:spPr>
          <a:xfrm>
            <a:off x="6705720" y="4343400"/>
            <a:ext cx="16002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4572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vg0018" descr=""/>
          <p:cNvPicPr/>
          <p:nvPr/>
        </p:nvPicPr>
        <p:blipFill>
          <a:blip r:embed="rId1"/>
          <a:stretch/>
        </p:blipFill>
        <p:spPr>
          <a:xfrm>
            <a:off x="685800" y="4267080"/>
            <a:ext cx="2362320" cy="2057400"/>
          </a:xfrm>
          <a:prstGeom prst="rect">
            <a:avLst/>
          </a:prstGeom>
          <a:ln w="0">
            <a:noFill/>
          </a:ln>
        </p:spPr>
      </p:pic>
      <p:pic>
        <p:nvPicPr>
          <p:cNvPr id="81" name="vg0033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3429000" cy="1905120"/>
          </a:xfrm>
          <a:prstGeom prst="rect">
            <a:avLst/>
          </a:prstGeom>
          <a:ln w="0">
            <a:noFill/>
          </a:ln>
        </p:spPr>
      </p:pic>
      <p:pic>
        <p:nvPicPr>
          <p:cNvPr id="82" name="vg0025" descr=""/>
          <p:cNvPicPr/>
          <p:nvPr/>
        </p:nvPicPr>
        <p:blipFill>
          <a:blip r:embed="rId3"/>
          <a:stretch/>
        </p:blipFill>
        <p:spPr>
          <a:xfrm>
            <a:off x="6019920" y="4394160"/>
            <a:ext cx="2514600" cy="2006640"/>
          </a:xfrm>
          <a:prstGeom prst="rect">
            <a:avLst/>
          </a:prstGeom>
          <a:ln w="0">
            <a:noFill/>
          </a:ln>
        </p:spPr>
      </p:pic>
      <p:pic>
        <p:nvPicPr>
          <p:cNvPr id="83" name="vg0028" descr=""/>
          <p:cNvPicPr/>
          <p:nvPr/>
        </p:nvPicPr>
        <p:blipFill>
          <a:blip r:embed="rId4"/>
          <a:stretch/>
        </p:blipFill>
        <p:spPr>
          <a:xfrm>
            <a:off x="3540240" y="4343400"/>
            <a:ext cx="2006640" cy="2057400"/>
          </a:xfrm>
          <a:prstGeom prst="rect">
            <a:avLst/>
          </a:prstGeom>
          <a:ln w="0">
            <a:noFill/>
          </a:ln>
        </p:spPr>
      </p:pic>
      <p:pic>
        <p:nvPicPr>
          <p:cNvPr id="84" name="vg0037" descr=""/>
          <p:cNvPicPr/>
          <p:nvPr/>
        </p:nvPicPr>
        <p:blipFill>
          <a:blip r:embed="rId5"/>
          <a:stretch/>
        </p:blipFill>
        <p:spPr>
          <a:xfrm>
            <a:off x="6934320" y="1295280"/>
            <a:ext cx="1676160" cy="1981440"/>
          </a:xfrm>
          <a:prstGeom prst="rect">
            <a:avLst/>
          </a:prstGeom>
          <a:ln w="0">
            <a:noFill/>
          </a:ln>
        </p:spPr>
      </p:pic>
      <p:pic>
        <p:nvPicPr>
          <p:cNvPr id="85" name="vg0032" descr=""/>
          <p:cNvPicPr/>
          <p:nvPr/>
        </p:nvPicPr>
        <p:blipFill>
          <a:blip r:embed="rId6"/>
          <a:stretch/>
        </p:blipFill>
        <p:spPr>
          <a:xfrm>
            <a:off x="4191120" y="1295280"/>
            <a:ext cx="2361960" cy="1905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3581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a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6094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spinag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spin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609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een shal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3733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i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3581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r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6094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011-1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37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66680" y="603396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f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6094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n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1371600"/>
            <a:ext cx="1904760" cy="251460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295280"/>
            <a:ext cx="236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ait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38080" y="765000"/>
            <a:ext cx="764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华文新魏"/>
              </a:rPr>
              <a:t>Step 2 Listen to the tape and answer the 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22384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 Where are WB and Carl having lu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3716280"/>
            <a:ext cx="475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a caf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a restaur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WB’ hom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5T05:37:48Z</dcterms:created>
  <dc:creator>罗燕玲</dc:creator>
  <dc:description/>
  <dc:language>en-US</dc:language>
  <cp:lastModifiedBy>jxl</cp:lastModifiedBy>
  <dcterms:modified xsi:type="dcterms:W3CDTF">2004-08-24T04:02:36Z</dcterms:modified>
  <cp:revision>33</cp:revision>
  <dc:subject/>
  <dc:title>PowerPoint 演示文稿</dc:title>
</cp:coreProperties>
</file>