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9.png" ContentType="image/png"/>
  <Override PartName="/ppt/media/image1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laser.wav" ContentType="audio/x-wav"/>
  <Override PartName="/ppt/media/image12.wmf" ContentType="image/x-wmf"/>
  <Override PartName="/ppt/media/chimes.wav" ContentType="audio/x-wav"/>
  <Override PartName="/ppt/media/image6.jpeg" ContentType="image/jpeg"/>
  <Override PartName="/ppt/media/image5.jpeg" ContentType="image/jpeg"/>
  <Override PartName="/ppt/media/type.wav" ContentType="audio/x-wav"/>
  <Override PartName="/ppt/media/image1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F9F0-448F-4DB3-BDC6-E1080CC18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6726-67B2-4B5C-A936-06659449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0D40-DD02-418E-8803-9658DD4CF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4937-2D61-43FD-BE65-C25234265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1B6A-F81B-46EF-8B09-8D229426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B945-F8EF-40AD-AA89-06EAA06B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BE67-CDBC-49A8-A89A-406C5A35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7975-8F07-4810-A8CD-BD3547BB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10AA-47D1-4E5B-A7C5-48CE4135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F87E-0D16-4CA7-8D7D-81DE664F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BEF8-4D5A-417F-B4FE-A2EC8FD9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C896-E433-4981-9C4C-9592051A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655A-C8A4-44A1-A29A-B5353D7002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2.wmf"/><Relationship Id="rId3" Type="http://schemas.openxmlformats.org/officeDocument/2006/relationships/slide" Target="slide19.xml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2.wmf"/><Relationship Id="rId3" Type="http://schemas.openxmlformats.org/officeDocument/2006/relationships/slide" Target="slide19.xml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2.wmf"/><Relationship Id="rId3" Type="http://schemas.openxmlformats.org/officeDocument/2006/relationships/slide" Target="slide19.xml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laser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Unit 4   Feed the Worl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58920" y="3141360"/>
            <a:ext cx="640080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Lesson 1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8640720" cy="4979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86520" y="404640"/>
            <a:ext cx="610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he hungry worl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6520" y="404640"/>
            <a:ext cx="610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he hungry worl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6520" y="404640"/>
            <a:ext cx="610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he hungry worl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979640" y="1484280"/>
            <a:ext cx="4537080" cy="537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6160" y="404640"/>
            <a:ext cx="65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he hungry world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560" y="0"/>
            <a:ext cx="6631920" cy="825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ading Comprehen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279440"/>
            <a:ext cx="9396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kim the text to find which of the follow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can be the argument of the passag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. Something can be done to make s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at no one in the world goes hung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. The human race has the information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perience to protect people from go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ung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. Humans have not been wise enough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ke correct decisions to stop starv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347400" y="404640"/>
            <a:ext cx="9878400" cy="54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How many evidences can be fou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support the argumen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Two.        B. Three.       C. Fou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.And What are they?  Read ag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.Does the writer give some advi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 how to solve the problem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pic>
        <p:nvPicPr>
          <p:cNvPr id="90" name="strawb" descr=""/>
          <p:cNvPicPr/>
          <p:nvPr/>
        </p:nvPicPr>
        <p:blipFill>
          <a:blip r:embed="rId2"/>
          <a:stretch/>
        </p:blipFill>
        <p:spPr>
          <a:xfrm>
            <a:off x="6781680" y="19051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2006280"/>
            <a:ext cx="777240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In EU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_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)_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2895480"/>
            <a:ext cx="7239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Food is bought from farmers and thrown a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4800600"/>
            <a:ext cx="693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armers are paid not to grow crop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380880"/>
            <a:ext cx="822960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Reasons for world hung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In India: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3733920"/>
            <a:ext cx="746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Most land is owned by rich landowner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less-developed countrie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______________________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85800" y="205488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Farmers are forced to plant cash crop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In western countries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________________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289548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Grain is fed to beef cattl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200" y="0"/>
            <a:ext cx="3794040" cy="703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Task 1: Re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762120"/>
            <a:ext cx="896472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英汉互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 Today farming employs more people th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ny other type of 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 For one thing, two thirds of the earth’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urface is water, although this do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provide a lot of food in the form of fis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农田正在一天天地减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9520" y="6064200"/>
            <a:ext cx="887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Farmland is becoming smaller  day by d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91440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Now listen to the tape of the text and answer the following questio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200400"/>
            <a:ext cx="914400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.Do you think the human race can do something to make sure that  no one in the world goes hungry?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5029200"/>
            <a:ext cx="252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ff"/>
                </a:solidFill>
                <a:latin typeface="Arial"/>
              </a:rPr>
              <a:t>Ye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2. What can farmers received from the EU if they leave some of their fields free and do not plant anyth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76720" y="239400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66cc"/>
                </a:solidFill>
                <a:latin typeface="Arial"/>
              </a:rPr>
              <a:t>Mone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389400"/>
            <a:ext cx="9144000" cy="22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3.Is it possible to grow crops in hilly, dry or mountainous area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5562720"/>
            <a:ext cx="590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ff3300"/>
                </a:solidFill>
                <a:latin typeface="Arial"/>
              </a:rPr>
              <a:t>No</a:t>
            </a:r>
            <a:r>
              <a:rPr b="1" lang="en-GB" sz="96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88720" y="420480"/>
            <a:ext cx="84596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99"/>
                </a:solidFill>
                <a:latin typeface="Times New Roman"/>
              </a:rPr>
              <a:t>Read the text again and answer more questio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4760" y="2227320"/>
            <a:ext cx="82296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1.What percentage  of    the land is farmed in the European Union?  Is there enough food to eat in the EU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06400" y="530208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ff"/>
                </a:solidFill>
                <a:latin typeface="Arial"/>
              </a:rPr>
              <a:t>81%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36880" y="5318280"/>
            <a:ext cx="4191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6600"/>
                </a:solidFill>
                <a:latin typeface="Arial"/>
              </a:rPr>
              <a:t>Y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50148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What do farmers in the EU do if they produce too many crops? What happens to the crop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352584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They have the right to sell their crops to the E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1814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They are thrown a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883908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.What has been proved to be a good way to produce more foo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358128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Let farmers grow crops either to feed their family or to sel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4.How do the rich people in India pay the peasants who work for them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274464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Pay very little mone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3733920"/>
            <a:ext cx="82296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5.Could food production be higher in India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5149800"/>
            <a:ext cx="67057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No</a:t>
            </a:r>
            <a:r>
              <a:rPr b="1" lang="en-US" sz="106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807696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.What has been suggested then? Can this idea be put into practice?  Wh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266688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Share the land equal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94680" y="2590920"/>
            <a:ext cx="184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"/>
              </a:rPr>
              <a:t>No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4560" y="3809880"/>
            <a:ext cx="856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ecause most Indian politicians are landowners and they would not vote to lose their land and weal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7.What do some less-developed countries do to develop their indust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8560" y="2114640"/>
            <a:ext cx="754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"/>
              </a:rPr>
              <a:t>To borrow money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9200" y="3125880"/>
            <a:ext cx="86868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8.How  can  we   make good use of hilly,dry or mountainous  areas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555768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To keep sheep or goa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79280" y="836640"/>
            <a:ext cx="874872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his text is about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. how to feed the world w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. people’s wrongdoings in the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. present problems in feeding the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nd some sugges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. the reason for lack of f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14440" y="340056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42920" y="260280"/>
            <a:ext cx="8893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Paragraph 2 doesn’t tell us 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in some places food is more tha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. there is not lack of food everyw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. developed countries don’ t lack for f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. how to solve the unbalance of food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44197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9880" y="404640"/>
            <a:ext cx="8829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仅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7%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土地要养活占世界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2%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人口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5.The Chinese people are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making</a:t>
            </a:r>
            <a:r>
              <a:rPr b="1" lang="zh-CN" sz="4000" spc="-1" strike="noStrike">
                <a:solidFill>
                  <a:srgbClr val="0033cc"/>
                </a:solidFill>
                <a:latin typeface="宋体"/>
              </a:rPr>
              <a:t> gre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efforts to protec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their farmla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The FAO has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worked out that up to 30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of food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is lost in stora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科学家在继续开发新型高产植物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105264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Only 7 % of the land has to feed 22% of the world popul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720" y="5229360"/>
            <a:ext cx="855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Scientists continue to develop new types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Plants which produce heavier crop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449280"/>
            <a:ext cx="914400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In the European Union, farmers are qu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ucky  because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. the price of crop is the best in the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. the farmland is quite good for cro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grow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. the farming is quite developed t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. they can get money without growing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ro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410080"/>
            <a:ext cx="4572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304920"/>
            <a:ext cx="914400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. Paragraph 3 tells us the problem in feeding the world also exists in _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. the crop’s quality      B. the quantity of cro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. the farmland      D. the ownership of farml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. Paragraph 3 tells us that India is not a (an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 count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. developing                  B. agricultu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. fair                              D. po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564000" y="253512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0880" y="57913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380880"/>
            <a:ext cx="914400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. Cash crops can’t be used to produce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oil       B. drinks       C. cigarette        D. f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. Cash crops can’t be used to 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make money                B. feed peo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help less-developed countries out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v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both B and 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99520" y="131112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0880" y="6095880"/>
            <a:ext cx="4572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533520"/>
            <a:ext cx="91440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What does “repay” in paragraph 4 me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pay again        B. pay back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. lend                 D. borr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. What does “raise” in the last paragrap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rise        B. increase       C. feed      D. ki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754440" y="137160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257800" y="5486400"/>
            <a:ext cx="4572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81080" y="380880"/>
            <a:ext cx="914400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. The suggestion made in the last paragraph is that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we should raise more cattle or shee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. we shouldn’t  raise cattle or sheep 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rmla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. we shouldn’t use grain to feed catt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. both B and 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120" y="5105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822240" y="301680"/>
            <a:ext cx="4973760" cy="82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anguage Focu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523880"/>
            <a:ext cx="457200" cy="47808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1680" y="1523880"/>
            <a:ext cx="9326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Useful phras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go hungry, go mad / bad /wrong /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go from bad to wor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generally / frankly / strictly/exactly/honest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pe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.so far= up till n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. make a dec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. Leave the fields free, leave the door op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leave him alone, leave the door unlocked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6750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6. result in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 lead to, bring ab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1902600"/>
            <a:ext cx="827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a) result in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可用来表示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"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引起、导致或造成（某种结果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8640" y="4568760"/>
            <a:ext cx="853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) The trial resulted in his being sentenced to two years' imprisonment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审判结果是他被判刑两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895480"/>
            <a:ext cx="7848720" cy="19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he traffic accident resulted in three deaths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起交通事故造成三人死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resulted in =ca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685800"/>
            <a:ext cx="754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re is no doubt that hard work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results i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succes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25320" y="2741760"/>
            <a:ext cx="82900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b) result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可以与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from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连用，意为“作为……的结果”，表示原因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=There is no doubt that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success results from hard wor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04920" y="365040"/>
            <a:ext cx="8532720" cy="53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) Her injury resulted from a fall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她因跌倒而受伤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2) It’s said that his lameness resulted from an accident. 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据说他的瘸腿是一次事故造成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) Sickness often results from eating too much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疾病往往因为吃得太多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4) The accident resulted from carelessness.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事故因粗心而产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11280" y="1695600"/>
            <a:ext cx="792144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You‘re only 16; you’re too young to vote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只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岁，还没到选举的年龄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) Money for a new school was voted by the board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创办一所新学校的钱已由董事会通过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54936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vote v. n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投票，选举，表决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-76320"/>
            <a:ext cx="6121440" cy="581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ose the best ans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80880"/>
            <a:ext cx="8667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--- Shall we have dinner right no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--- Oh, please. I ____ n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. will starve       B. am starv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. Was starved   D. have starv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3470400"/>
            <a:ext cx="89154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) We traveled ___ for the purpose of reaching the village before the enemy ca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y the day            B. day by 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. day and night      D. day after 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62520" y="213372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9120" y="624852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6756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Whichever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引导让步状语从句。“不论哪一个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不管你用那种方法做这件事，结果都一样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464832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t has the same result whichever way you do 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60000" y="533520"/>
            <a:ext cx="8604360" cy="52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Raise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养育子女，饲养牲畜     相当于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kee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Raise one’s childr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Raise pigs and catt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 make sense: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have a meaning that can be understoo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讲得通，合乎道理。有意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t doesn’t  make any sense to 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t makes very good sense to keep sheep or goa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5760" y="4222800"/>
            <a:ext cx="80769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es this sentence make sens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you make sense of what this writer sa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43020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ar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享，分担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vt. v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e will shar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y troubles and my jo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她愿和我苦乐与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share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in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roubles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／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joys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／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sorrows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／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worries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／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happiness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／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excitement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／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cost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／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supper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／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apple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等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are sth.with sb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某人分享某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但当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ar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“合用”解时，是及物动词。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e share a small room between u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hare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用作名词，意为“一份，份额”。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Everybody ought to have his share of foo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6320" y="152280"/>
            <a:ext cx="89722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) “Should I fail the college exam, all my hopes ___.” She said, looking anxio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ould be damaged  B was destroy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. was harmed     D. would be ruin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3276720"/>
            <a:ext cx="8424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) We didn’t plan our art exhibition like that but it ____ very we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orked out     B. tried 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. went on          D. carried 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243828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474984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457200"/>
            <a:ext cx="866772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) “ I don’t want to buy the dress. ____, I don’t like the colour, and____ the price is ____ high.” the girl said to the shop assista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For one thing; for another; to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. For a thing; for the other; much to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. For one thing; for another; 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. For one thing; for other; to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1760" y="307332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9382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505320" y="3124080"/>
            <a:ext cx="259056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ay (mone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77120" y="3200400"/>
            <a:ext cx="175248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in cr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6019920"/>
            <a:ext cx="121932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6248520"/>
            <a:ext cx="22860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ise (pig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6172200"/>
            <a:ext cx="16002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c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93824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14400" y="2971800"/>
            <a:ext cx="99072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971800"/>
            <a:ext cx="236232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ntain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00800" y="3048120"/>
            <a:ext cx="9144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5943600"/>
            <a:ext cx="76212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91120" y="5943600"/>
            <a:ext cx="13716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457200"/>
            <a:ext cx="3276360" cy="2064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ta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1.500m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.40m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952880" y="1219320"/>
            <a:ext cx="4191120" cy="53672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09480" y="2806560"/>
            <a:ext cx="3581640" cy="34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5T13:21:13Z</dcterms:created>
  <dc:creator>w</dc:creator>
  <dc:description/>
  <dc:language>en-US</dc:language>
  <cp:lastModifiedBy>w</cp:lastModifiedBy>
  <dcterms:modified xsi:type="dcterms:W3CDTF">2004-09-05T13:21:38Z</dcterms:modified>
  <cp:revision>1</cp:revision>
  <dc:subject/>
  <dc:title>Unit 4   Feed the World</dc:title>
</cp:coreProperties>
</file>