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8.jpeg" ContentType="image/jpeg"/>
  <Override PartName="/ppt/media/image17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A7BF-24C1-4759-964B-3499C8F48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1002-2442-45DD-9527-F64A45F2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9064-621D-4114-B562-F550D1A0F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BEFC-DD13-43C1-8597-EE7C6C656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8F331-FB10-4689-8F26-1481BB8A7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88480-CDC9-4DCF-948F-207367A7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CB8F8-176C-4C86-9160-D159F5D3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ED2D-CDEE-4384-9B7A-4E96392C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9959-E42D-498F-8EE3-2621065D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9B1D-77CB-4F98-BBE5-F263CA30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5FB0-F3D1-433C-AF6B-44E0FD8E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5234-0871-4C8E-AD3A-5F2EB9BA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4153-B8DF-4389-B32E-EC692E43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86CB-C6A5-45EC-A6E6-33E4987D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1E7F0-7E14-47DC-8EFE-2C127F1D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A54AF-8836-4754-977B-A11F85FBF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1040F-19B7-403E-AE25-9468771D2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03EE-7FC8-4A77-A6B7-3B13C8F0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A4D9-562E-483A-A275-1E4591A9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3A6F-7827-4801-8B2B-242C1D5C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5FB9-817E-406D-B1EF-7A698174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61FE-E1A0-4CA8-BED9-6F97D06E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2CA0-BBF7-4BFE-A94B-7CE255D2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3B9F-7767-476F-AD0F-51D805B1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B546-6E3E-4F63-A66D-B17C20780041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FEEA-3486-468C-B86F-785A3CD7717F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9.xml"/><Relationship Id="rId3" Type="http://schemas.openxmlformats.org/officeDocument/2006/relationships/image" Target="../media/image14.jpeg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image" Target="../media/image27.jpeg"/><Relationship Id="rId14" Type="http://schemas.openxmlformats.org/officeDocument/2006/relationships/image" Target="../media/image28.jpeg"/><Relationship Id="rId15" Type="http://schemas.openxmlformats.org/officeDocument/2006/relationships/image" Target="../media/image29.jpeg"/><Relationship Id="rId16" Type="http://schemas.openxmlformats.org/officeDocument/2006/relationships/image" Target="../media/image30.jpeg"/><Relationship Id="rId17" Type="http://schemas.openxmlformats.org/officeDocument/2006/relationships/image" Target="../media/image31.jpeg"/><Relationship Id="rId1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242200" cy="2778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Unit 20 Humor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123640" y="335736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stening and speak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914400" y="1905120"/>
            <a:ext cx="609480" cy="5331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505320"/>
          </a:xfrm>
          <a:prstGeom prst="rect">
            <a:avLst/>
          </a:prstGeom>
          <a:ln w="57240">
            <a:solidFill>
              <a:srgbClr val="84547a"/>
            </a:solidFill>
            <a:miter/>
          </a:ln>
        </p:spPr>
      </p:pic>
      <p:pic>
        <p:nvPicPr>
          <p:cNvPr id="22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3505320"/>
            <a:ext cx="9144000" cy="33526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495680" y="13096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543800" y="12952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19320" y="4738680"/>
            <a:ext cx="1447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466236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543800" y="46483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295280" y="1386000"/>
            <a:ext cx="152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870200" y="2982960"/>
            <a:ext cx="5537160" cy="360"/>
            <a:chOff x="1870200" y="2982960"/>
            <a:chExt cx="5537160" cy="360"/>
          </a:xfrm>
        </p:grpSpPr>
        <p:sp>
          <p:nvSpPr>
            <p:cNvPr id="237" name=""/>
            <p:cNvSpPr/>
            <p:nvPr/>
          </p:nvSpPr>
          <p:spPr>
            <a:xfrm>
              <a:off x="1870200" y="2982960"/>
              <a:ext cx="5537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870200" y="2982960"/>
              <a:ext cx="5537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>
            <a:hlinkClick r:id="rId4" action="ppaction://hlinksldjump"/>
          </p:cNvPr>
          <p:cNvSpPr/>
          <p:nvPr/>
        </p:nvSpPr>
        <p:spPr>
          <a:xfrm>
            <a:off x="8153280" y="6248520"/>
            <a:ext cx="762120" cy="609480"/>
          </a:xfrm>
          <a:prstGeom prst="leftArrow">
            <a:avLst>
              <a:gd name="adj1" fmla="val 50000"/>
              <a:gd name="adj2" fmla="val 3126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228600"/>
            <a:ext cx="8153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ask 3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: talking  about your favorite 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    comedians (group wor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468360" y="1341360"/>
          <a:ext cx="8351640" cy="4405320"/>
        </p:xfrm>
        <a:graphic>
          <a:graphicData uri="http://schemas.openxmlformats.org/drawingml/2006/table">
            <a:tbl>
              <a:tblPr/>
              <a:tblGrid>
                <a:gridCol w="6553080"/>
                <a:gridCol w="17985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tiona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periences before being a comedi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n to begin the perform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atures of his perform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asons why you like hi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2286000" y="228600"/>
              <a:ext cx="487692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ff0000"/>
                  </a:solidFill>
                  <a:latin typeface="Monotype Corsiva"/>
                </a:rPr>
                <a:t>Art of Life</a:t>
              </a:r>
              <a:r>
                <a:rPr b="1" lang="en-US" sz="8000" spc="-1" strike="noStrike">
                  <a:solidFill>
                    <a:srgbClr val="ff0000"/>
                  </a:solidFill>
                  <a:latin typeface="Monotype Corsiva"/>
                </a:rPr>
                <a:t> 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0" y="2666880"/>
              <a:ext cx="9143640" cy="2209680"/>
              <a:chOff x="0" y="2666880"/>
              <a:chExt cx="9143640" cy="2209680"/>
            </a:xfrm>
          </p:grpSpPr>
          <p:pic>
            <p:nvPicPr>
              <p:cNvPr id="24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2666880"/>
                <a:ext cx="2052000" cy="84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011680" y="2666880"/>
                <a:ext cx="2233440" cy="84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185000" y="2666880"/>
                <a:ext cx="2305800" cy="84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438960" y="2666880"/>
                <a:ext cx="2704680" cy="84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474720"/>
                <a:ext cx="2052000" cy="6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011680" y="3474720"/>
                <a:ext cx="2233440" cy="6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185000" y="3474720"/>
                <a:ext cx="2305800" cy="6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438960" y="3474720"/>
                <a:ext cx="2704680" cy="6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4150440"/>
                <a:ext cx="2052000" cy="70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011680" y="4167360"/>
                <a:ext cx="2233440" cy="70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185000" y="4150440"/>
                <a:ext cx="2305800" cy="70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7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6438960" y="4167360"/>
                <a:ext cx="2704680" cy="70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8" name=""/>
            <p:cNvGrpSpPr/>
            <p:nvPr/>
          </p:nvGrpSpPr>
          <p:grpSpPr>
            <a:xfrm>
              <a:off x="8001000" y="228600"/>
              <a:ext cx="990720" cy="685440"/>
              <a:chOff x="8001000" y="228600"/>
              <a:chExt cx="990720" cy="685440"/>
            </a:xfrm>
          </p:grpSpPr>
          <p:pic>
            <p:nvPicPr>
              <p:cNvPr id="25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01000" y="228600"/>
                <a:ext cx="990720" cy="227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001000" y="620280"/>
                <a:ext cx="990720" cy="29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8001000" y="424440"/>
                <a:ext cx="990720" cy="213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2" name="" descr=""/>
            <p:cNvPicPr/>
            <p:nvPr/>
          </p:nvPicPr>
          <p:blipFill>
            <a:blip r:embed="rId17"/>
            <a:stretch/>
          </p:blipFill>
          <p:spPr>
            <a:xfrm>
              <a:off x="2286000" y="1447920"/>
              <a:ext cx="4114800" cy="833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4" name=""/>
            <p:cNvSpPr/>
            <p:nvPr/>
          </p:nvSpPr>
          <p:spPr>
            <a:xfrm>
              <a:off x="0" y="2057400"/>
              <a:ext cx="9144000" cy="48006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0" y="0"/>
              <a:ext cx="9144000" cy="213372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0" y="2286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7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ask 4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: interview (pair wor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d0f0b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bd0f0b"/>
                </a:solidFill>
                <a:latin typeface="Comic Sans MS"/>
              </a:rPr>
              <a:t>One plays the part of Zhu Jun and the other a comedian. Zhu Jun now has invited the come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d0f0b"/>
                </a:solidFill>
                <a:latin typeface="Comic Sans MS"/>
              </a:rPr>
              <a:t>to attend the program </a:t>
            </a:r>
            <a:r>
              <a:rPr b="1" i="1" lang="en-US" sz="2800" spc="-1" strike="noStrike">
                <a:solidFill>
                  <a:srgbClr val="bd0f0b"/>
                </a:solidFill>
                <a:latin typeface="Comic Sans MS"/>
              </a:rPr>
              <a:t>art of life</a:t>
            </a:r>
            <a:r>
              <a:rPr b="1" lang="en-US" sz="2800" spc="-1" strike="noStrike">
                <a:solidFill>
                  <a:srgbClr val="bd0f0b"/>
                </a:solidFill>
                <a:latin typeface="Comic Sans MS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28600" y="2286000"/>
            <a:ext cx="866448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following questions may be helpfu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en did you begin your perform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do you usually do as a comedi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are you doing at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are your plans for your next  perform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do you make people laug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en will you stop working as a comedi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8028000" y="4724280"/>
            <a:ext cx="111600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4e4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0920" y="333360"/>
            <a:ext cx="4647960" cy="6237000"/>
          </a:xfrm>
          <a:prstGeom prst="rect">
            <a:avLst/>
          </a:prstGeom>
          <a:solidFill>
            <a:srgbClr val="a36f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ef66"/>
                </a:solidFill>
                <a:latin typeface="Times New Roman"/>
              </a:rPr>
              <a:t>Here is a sample interview.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: Hello. I’m Zhu Jun. Welcome to our program. May I ask you some 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: S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: When did you begin your performanc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: In 1985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: What do you usually do as comedi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: 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: I’m so glad you accepted my interview. And I hope your performance in fu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ll be more popu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: Thanks a l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5219640" y="476280"/>
            <a:ext cx="3657600" cy="5263200"/>
            <a:chOff x="5219640" y="476280"/>
            <a:chExt cx="3657600" cy="5263200"/>
          </a:xfrm>
        </p:grpSpPr>
        <p:sp>
          <p:nvSpPr>
            <p:cNvPr id="272" name=""/>
            <p:cNvSpPr/>
            <p:nvPr/>
          </p:nvSpPr>
          <p:spPr>
            <a:xfrm>
              <a:off x="5219640" y="1258560"/>
              <a:ext cx="3657600" cy="4480920"/>
            </a:xfrm>
            <a:prstGeom prst="rect">
              <a:avLst/>
            </a:prstGeom>
            <a:noFill/>
            <a:ln w="57240">
              <a:solidFill>
                <a:srgbClr val="a36f9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 will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’m going to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 intend to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 hope to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 plan/want to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 wish to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’ve decided (not) to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 hope not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19640" y="476280"/>
              <a:ext cx="3651120" cy="642600"/>
            </a:xfrm>
            <a:prstGeom prst="rect">
              <a:avLst/>
            </a:prstGeom>
            <a:solidFill>
              <a:srgbClr val="a36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Useful expression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>
            <a:hlinkClick r:id="rId2" action="ppaction://hlinksldjump"/>
          </p:cNvPr>
          <p:cNvSpPr/>
          <p:nvPr/>
        </p:nvSpPr>
        <p:spPr>
          <a:xfrm>
            <a:off x="8028000" y="6165720"/>
            <a:ext cx="792000" cy="432000"/>
          </a:xfrm>
          <a:prstGeom prst="leftArrow">
            <a:avLst>
              <a:gd name="adj1" fmla="val 50000"/>
              <a:gd name="adj2" fmla="val 45833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7391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95280" y="404640"/>
            <a:ext cx="735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ask 5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: live show (group wor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1268280"/>
            <a:ext cx="770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Perform a tongue twister, a joke, a crosstalk or some other programs in the group, then choose the best actor(s) or actress(es) to perform to the whole class. Attention: your performances should be finished within 2 minu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Task 6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Homework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Introduce Chinese crosstalk to your foreign pen-fri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4000" y="1773360"/>
            <a:ext cx="835164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ook for useful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hange the information in the group and organize a short pass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ut up the passage of each group on the blackboard at the back of the classroom and appreciate the 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The project should be finished within a week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395280" y="1052640"/>
            <a:ext cx="431784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mic Sans MS"/>
              </a:rPr>
              <a:t>Thank you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0" y="58680"/>
            <a:ext cx="9082080" cy="6697800"/>
            <a:chOff x="0" y="58680"/>
            <a:chExt cx="9082080" cy="6697800"/>
          </a:xfrm>
        </p:grpSpPr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0" y="58680"/>
              <a:ext cx="9082080" cy="669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2"/>
            <a:stretch/>
          </p:blipFill>
          <p:spPr>
            <a:xfrm>
              <a:off x="5867280" y="3200400"/>
              <a:ext cx="2446560" cy="3200400"/>
            </a:xfrm>
            <a:prstGeom prst="rect">
              <a:avLst/>
            </a:prstGeom>
            <a:ln w="57240">
              <a:solidFill>
                <a:srgbClr val="6f4766"/>
              </a:solidFill>
              <a:miter/>
            </a:ln>
          </p:spPr>
        </p:pic>
        <p:pic>
          <p:nvPicPr>
            <p:cNvPr id="156" name="" descr=""/>
            <p:cNvPicPr/>
            <p:nvPr/>
          </p:nvPicPr>
          <p:blipFill>
            <a:blip r:embed="rId3"/>
            <a:stretch/>
          </p:blipFill>
          <p:spPr>
            <a:xfrm>
              <a:off x="4952880" y="457200"/>
              <a:ext cx="2462400" cy="3200400"/>
            </a:xfrm>
            <a:prstGeom prst="rect">
              <a:avLst/>
            </a:prstGeom>
            <a:ln w="57240">
              <a:solidFill>
                <a:srgbClr val="6f4766"/>
              </a:solidFill>
              <a:miter/>
            </a:ln>
          </p:spPr>
        </p:pic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3048120" y="2666880"/>
              <a:ext cx="2446200" cy="3200400"/>
            </a:xfrm>
            <a:prstGeom prst="rect">
              <a:avLst/>
            </a:prstGeom>
            <a:ln w="57240">
              <a:solidFill>
                <a:srgbClr val="6f4766"/>
              </a:solidFill>
              <a:miter/>
            </a:ln>
          </p:spPr>
        </p:pic>
        <p:pic>
          <p:nvPicPr>
            <p:cNvPr id="158" name="" descr=""/>
            <p:cNvPicPr/>
            <p:nvPr/>
          </p:nvPicPr>
          <p:blipFill>
            <a:blip r:embed="rId5"/>
            <a:stretch/>
          </p:blipFill>
          <p:spPr>
            <a:xfrm>
              <a:off x="797040" y="685800"/>
              <a:ext cx="2579400" cy="3886200"/>
            </a:xfrm>
            <a:prstGeom prst="rect">
              <a:avLst/>
            </a:prstGeom>
            <a:ln w="57240">
              <a:solidFill>
                <a:srgbClr val="6f4766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0" y="58680"/>
            <a:ext cx="9082080" cy="6697800"/>
            <a:chOff x="0" y="58680"/>
            <a:chExt cx="9082080" cy="669780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0" y="58680"/>
              <a:ext cx="9082080" cy="669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5105520" y="1523880"/>
              <a:ext cx="3220920" cy="47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3"/>
            <a:stretch/>
          </p:blipFill>
          <p:spPr>
            <a:xfrm>
              <a:off x="1143000" y="3352680"/>
              <a:ext cx="2244600" cy="289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4"/>
            <a:stretch/>
          </p:blipFill>
          <p:spPr>
            <a:xfrm>
              <a:off x="2286000" y="609480"/>
              <a:ext cx="2703600" cy="3429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38160">
            <a:solidFill>
              <a:srgbClr val="a36f98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0" y="0"/>
            <a:ext cx="9143640" cy="6858000"/>
            <a:chOff x="0" y="0"/>
            <a:chExt cx="9143640" cy="6858000"/>
          </a:xfrm>
        </p:grpSpPr>
        <p:sp>
          <p:nvSpPr>
            <p:cNvPr id="166" name=""/>
            <p:cNvSpPr/>
            <p:nvPr/>
          </p:nvSpPr>
          <p:spPr>
            <a:xfrm>
              <a:off x="156276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15920" y="0"/>
              <a:ext cx="54648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7904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031840" y="0"/>
              <a:ext cx="54684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9496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47760" y="0"/>
              <a:ext cx="54684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1088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64040" y="0"/>
              <a:ext cx="54648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2680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79600" y="0"/>
              <a:ext cx="54684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4308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95880" y="0"/>
              <a:ext cx="54684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5864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111800" y="0"/>
              <a:ext cx="54648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67492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127720" y="0"/>
              <a:ext cx="54684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0"/>
              <a:ext cx="54684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684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7129800" cy="5040360"/>
          </a:xfrm>
          <a:prstGeom prst="rect">
            <a:avLst/>
          </a:prstGeom>
          <a:ln w="57240">
            <a:solidFill>
              <a:srgbClr val="fee0e0"/>
            </a:solidFill>
            <a:miter/>
          </a:ln>
        </p:spPr>
      </p:pic>
      <p:sp>
        <p:nvSpPr>
          <p:cNvPr id="185" name=""/>
          <p:cNvSpPr/>
          <p:nvPr/>
        </p:nvSpPr>
        <p:spPr>
          <a:xfrm>
            <a:off x="2268360" y="573408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laughing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ud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 flipH="1" rot="10800000">
            <a:off x="9144000" y="67816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940360" y="4005360"/>
            <a:ext cx="2667240" cy="2606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084720" y="476280"/>
            <a:ext cx="1752840" cy="17128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539640" y="476280"/>
            <a:ext cx="1676520" cy="16383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3564000" y="4653000"/>
            <a:ext cx="685800" cy="6699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1763640" y="1773360"/>
            <a:ext cx="4680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Humou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7e7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924360" y="2997360"/>
            <a:ext cx="3814560" cy="1368000"/>
            <a:chOff x="3924360" y="2997360"/>
            <a:chExt cx="3814560" cy="1368000"/>
          </a:xfrm>
        </p:grpSpPr>
        <p:sp>
          <p:nvSpPr>
            <p:cNvPr id="194" name=""/>
            <p:cNvSpPr/>
            <p:nvPr/>
          </p:nvSpPr>
          <p:spPr>
            <a:xfrm>
              <a:off x="3924360" y="2997360"/>
              <a:ext cx="3814560" cy="1368000"/>
            </a:xfrm>
            <a:prstGeom prst="ellipse">
              <a:avLst/>
            </a:prstGeom>
            <a:solidFill>
              <a:srgbClr val="a26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065480" y="3270960"/>
              <a:ext cx="353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  <a:ea typeface="Times New Roman"/>
                </a:rPr>
                <a:t>humo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457200" y="304920"/>
            <a:ext cx="10058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what performances do we enjoy hum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50920" y="3213000"/>
            <a:ext cx="3744360" cy="1422720"/>
            <a:chOff x="250920" y="3213000"/>
            <a:chExt cx="3744360" cy="1422720"/>
          </a:xfrm>
        </p:grpSpPr>
        <p:sp>
          <p:nvSpPr>
            <p:cNvPr id="198" name=""/>
            <p:cNvSpPr/>
            <p:nvPr/>
          </p:nvSpPr>
          <p:spPr>
            <a:xfrm>
              <a:off x="250920" y="3213000"/>
              <a:ext cx="3744360" cy="786960"/>
            </a:xfrm>
            <a:prstGeom prst="ellipse">
              <a:avLst/>
            </a:prstGeom>
            <a:solidFill>
              <a:srgbClr val="a26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92800" y="3322800"/>
              <a:ext cx="2460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</a:rPr>
                <a:t>comedie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3566880" y="3879000"/>
              <a:ext cx="428040" cy="18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076720" y="1052640"/>
            <a:ext cx="4066920" cy="2208600"/>
            <a:chOff x="5076720" y="1052640"/>
            <a:chExt cx="4066920" cy="2208600"/>
          </a:xfrm>
        </p:grpSpPr>
        <p:sp>
          <p:nvSpPr>
            <p:cNvPr id="202" name=""/>
            <p:cNvSpPr/>
            <p:nvPr/>
          </p:nvSpPr>
          <p:spPr>
            <a:xfrm>
              <a:off x="5076720" y="1052640"/>
              <a:ext cx="4066920" cy="1718640"/>
            </a:xfrm>
            <a:prstGeom prst="ellipse">
              <a:avLst/>
            </a:prstGeom>
            <a:solidFill>
              <a:srgbClr val="a26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290560" y="1272960"/>
              <a:ext cx="363924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</a:rPr>
                <a:t>   </a:t>
              </a: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</a:rPr>
                <a:t>clowns’ performance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5397480" y="2525040"/>
              <a:ext cx="427680" cy="736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684360" y="4221000"/>
            <a:ext cx="5638320" cy="1752840"/>
            <a:chOff x="684360" y="4221000"/>
            <a:chExt cx="5638320" cy="1752840"/>
          </a:xfrm>
        </p:grpSpPr>
        <p:sp>
          <p:nvSpPr>
            <p:cNvPr id="206" name=""/>
            <p:cNvSpPr/>
            <p:nvPr/>
          </p:nvSpPr>
          <p:spPr>
            <a:xfrm>
              <a:off x="684360" y="4754520"/>
              <a:ext cx="4539960" cy="1219320"/>
            </a:xfrm>
            <a:prstGeom prst="ellipse">
              <a:avLst/>
            </a:prstGeom>
            <a:solidFill>
              <a:srgbClr val="a26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97000" y="4983120"/>
              <a:ext cx="5125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</a:rPr>
                <a:t>crosstalk show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3246840" y="4221000"/>
              <a:ext cx="1024920" cy="609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395280" y="1125360"/>
            <a:ext cx="4541040" cy="2064600"/>
            <a:chOff x="395280" y="1125360"/>
            <a:chExt cx="4541040" cy="2064600"/>
          </a:xfrm>
        </p:grpSpPr>
        <p:sp>
          <p:nvSpPr>
            <p:cNvPr id="210" name=""/>
            <p:cNvSpPr/>
            <p:nvPr/>
          </p:nvSpPr>
          <p:spPr>
            <a:xfrm>
              <a:off x="395280" y="1125360"/>
              <a:ext cx="4308840" cy="1738080"/>
            </a:xfrm>
            <a:prstGeom prst="ellipse">
              <a:avLst/>
            </a:prstGeom>
            <a:solidFill>
              <a:srgbClr val="a26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1560" y="1365840"/>
              <a:ext cx="4424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</a:rPr>
                <a:t>comedians’     performance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3189960" y="2789280"/>
              <a:ext cx="465840" cy="400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105520" y="4038480"/>
            <a:ext cx="4252320" cy="1998720"/>
            <a:chOff x="5105520" y="4038480"/>
            <a:chExt cx="4252320" cy="1998720"/>
          </a:xfrm>
        </p:grpSpPr>
        <p:sp>
          <p:nvSpPr>
            <p:cNvPr id="214" name=""/>
            <p:cNvSpPr/>
            <p:nvPr/>
          </p:nvSpPr>
          <p:spPr>
            <a:xfrm>
              <a:off x="5105520" y="4495680"/>
              <a:ext cx="4030200" cy="1219320"/>
            </a:xfrm>
            <a:prstGeom prst="ellipse">
              <a:avLst/>
            </a:prstGeom>
            <a:solidFill>
              <a:srgbClr val="a26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263200" y="4724280"/>
              <a:ext cx="40946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</a:rPr>
                <a:t>tongue twister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32960" y="4038480"/>
              <a:ext cx="631800" cy="53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0" y="0"/>
            <a:ext cx="9143640" cy="6781680"/>
            <a:chOff x="0" y="0"/>
            <a:chExt cx="9143640" cy="6781680"/>
          </a:xfrm>
        </p:grpSpPr>
        <p:sp>
          <p:nvSpPr>
            <p:cNvPr id="218" name=""/>
            <p:cNvSpPr/>
            <p:nvPr/>
          </p:nvSpPr>
          <p:spPr>
            <a:xfrm>
              <a:off x="0" y="2590560"/>
              <a:ext cx="9143640" cy="2362320"/>
            </a:xfrm>
            <a:prstGeom prst="rect">
              <a:avLst/>
            </a:prstGeom>
            <a:solidFill>
              <a:srgbClr val="fee0e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0"/>
              <a:ext cx="9143640" cy="914400"/>
            </a:xfrm>
            <a:prstGeom prst="rect">
              <a:avLst/>
            </a:prstGeom>
            <a:solidFill>
              <a:srgbClr val="a3699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0" y="914400"/>
              <a:ext cx="9143640" cy="1676160"/>
            </a:xfrm>
            <a:prstGeom prst="rect">
              <a:avLst/>
            </a:prstGeom>
            <a:solidFill>
              <a:srgbClr val="e7e7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4952880"/>
              <a:ext cx="9143640" cy="1828800"/>
            </a:xfrm>
            <a:prstGeom prst="rect">
              <a:avLst/>
            </a:prstGeom>
            <a:solidFill>
              <a:srgbClr val="e7e7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0" y="0"/>
            <a:ext cx="952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ask1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:tongue twister competition(group wor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1066680"/>
            <a:ext cx="8599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y bought some butter, but the butter was bitter, so she bought some better butter to make the bitter butter b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wish to wish the wish you wish to wish, but if you wish the wish the witch wishes, I won’t wish the wish you wish to w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f  white chalk chalks white on a black blackboard, will black chalk chalk black on a white whiteboard t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1" action="ppaction://hlinksldjump"/>
          </p:cNvPr>
          <p:cNvSpPr/>
          <p:nvPr/>
        </p:nvSpPr>
        <p:spPr>
          <a:xfrm>
            <a:off x="7620120" y="6095880"/>
            <a:ext cx="1523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228600"/>
            <a:ext cx="80773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ask2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: listening and story-making (group wor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 Guess the picture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 Listen to the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 Make up your own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657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07:13:11Z</dcterms:created>
  <dc:creator>Acer</dc:creator>
  <dc:description/>
  <dc:language>en-US</dc:language>
  <cp:lastModifiedBy>Acer</cp:lastModifiedBy>
  <dcterms:modified xsi:type="dcterms:W3CDTF">2005-05-16T04:10:27Z</dcterms:modified>
  <cp:revision>31</cp:revision>
  <dc:subject/>
  <dc:title>高中英语任务型听说研究课</dc:title>
</cp:coreProperties>
</file>