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image3.png" ContentType="image/png"/>
  <Override PartName="/ppt/media/DRIVEBY.WAV" ContentType="audio/x-wav"/>
  <Override PartName="/ppt/media/image6.png" ContentType="image/png"/>
  <Override PartName="/ppt/media/ALTOSAX.WAV" ContentType="audio/x-wav"/>
  <Override PartName="/ppt/media/PROJCTOR.WAV" ContentType="audio/x-wav"/>
  <Override PartName="/ppt/media/EXPLODE.WAV" ContentType="audio/x-wav"/>
  <Override PartName="/ppt/media/image4.png" ContentType="image/png"/>
  <Override PartName="/ppt/media/TYPE.WAV" ContentType="audio/x-wav"/>
  <Override PartName="/ppt/media/image2.png" ContentType="image/png"/>
  <Override PartName="/ppt/media/DRUMROLL.WAV" ContentType="audio/x-wav"/>
  <Override PartName="/ppt/media/DIDJERID.WAV" ContentType="audio/x-wav"/>
  <Override PartName="/ppt/media/image5.png" ContentType="image/png"/>
  <Override PartName="/ppt/media/image10.jpeg" ContentType="image/jpeg"/>
  <Override PartName="/ppt/media/image16.png" ContentType="image/png"/>
  <Override PartName="/ppt/media/HARP.WAV" ContentType="audio/x-wav"/>
  <Override PartName="/ppt/media/image14.png" ContentType="image/png"/>
  <Override PartName="/ppt/media/image15.png" ContentType="image/png"/>
  <Override PartName="/ppt/media/GUITELEC.WAV" ContentType="audio/x-wav"/>
  <Override PartName="/ppt/media/MARIMBA.WAV" ContentType="audio/x-wav"/>
  <Override PartName="/ppt/media/image13.png" ContentType="image/png"/>
  <Override PartName="/ppt/media/image12.png" ContentType="image/png"/>
  <Override PartName="/ppt/media/image8.png" ContentType="image/png"/>
  <Override PartName="/ppt/media/OBOE.WAV" ContentType="audio/x-wav"/>
  <Override PartName="/ppt/media/image11.png" ContentType="image/png"/>
  <Override PartName="/ppt/media/image9.jpeg" ContentType="image/jpeg"/>
  <Override PartName="/ppt/media/image1.jpeg" ContentType="image/jpeg"/>
  <Override PartName="/ppt/media/image7.png" ContentType="image/png"/>
  <Override PartName="/ppt/media/LUT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57F-70CB-4BEC-9B77-261FA10C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589-CA44-4002-A082-2020230E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616-6C88-43F8-BB56-195B3C6A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07-73A1-49CC-9356-4705142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4812-2928-4E56-B4B1-1B1ECFB5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52D7-AC8F-4138-9A8A-214CDA5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1C05-1AFE-4810-842F-286F8C4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FBA2-2031-4621-9159-49D5100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3930-CF67-444D-9D32-9D78E2E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8A01-2195-47B3-BA0E-47D8732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0D73-3953-400B-9F60-80E899F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B39-2120-47A8-B6BC-221838F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9996-BFC1-4D0C-B317-582B706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3C53-CA16-45AD-86F7-5545F62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3AD1-B13C-4656-9397-27B9E89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D636-021B-4D55-981C-4C5414E2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D530-CD08-46B6-B6AF-18B02BB3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B74-9AB7-4D5A-A9E6-8801B93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C4A-2B3A-485D-AF7F-0D292171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EAC-820C-448F-9244-87F0CC75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109-8FDE-42B7-A36C-5C736CDD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6E-A790-4182-A80A-12948B2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8D8-716C-4ACB-9458-69553616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076-75DD-4823-8E85-9466BCB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C5C6-2E0F-4DAF-A321-EBF2EC910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E4EA-BC50-4119-A5DA-AF53110EB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IDJERI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IDJERID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UT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OBO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MARIMB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UITELEC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HARP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DIDJERI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ALTOSAX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ustralia_sm99" descr=""/>
          <p:cNvPicPr/>
          <p:nvPr/>
        </p:nvPicPr>
        <p:blipFill>
          <a:blip r:embed="rId1"/>
          <a:stretch/>
        </p:blipFill>
        <p:spPr>
          <a:xfrm>
            <a:off x="0" y="0"/>
            <a:ext cx="72756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3623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3366cc"/>
                </a:solidFill>
                <a:latin typeface="Times New Roman"/>
              </a:rPr>
              <a:t>Australia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762120"/>
            <a:ext cx="3886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50960" indent="-750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0960" indent="-75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DIDJERI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1371600"/>
            <a:ext cx="716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 Australian aboriginal artist works on a sheet of bark.  Such paintings are traditional throughout Ocea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581120" y="380880"/>
          <a:ext cx="58863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380880"/>
                    <a:ext cx="58863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IDJERI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51120" y="1523880"/>
            <a:ext cx="675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boriginal cave paintings are a native Australian art fo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00200" y="457200"/>
          <a:ext cx="6019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19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436680"/>
            <a:ext cx="73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dgeridoo - The didgeridoo (pronounced didg-er-ee-doo) is an unusual trumpet played by the Aborigines of northern Australia to accompany dance and song. It is constructed of a large tube of Eucalyptus wood or bamboo. One end rests on the ground, while the player simultaneously blows and sings into the other end of the instrument, producing a deep, buzzing drone and more subtle effects: high partials, rhythmic articulations, and changes of tone color. To create this sound requires circular breathing, a difficult technique of taking in air through the nose while simultaneously blowing air out through the mo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7-1-3933_digeridoo" descr=""/>
          <p:cNvPicPr/>
          <p:nvPr/>
        </p:nvPicPr>
        <p:blipFill>
          <a:blip r:embed="rId1"/>
          <a:stretch/>
        </p:blipFill>
        <p:spPr>
          <a:xfrm>
            <a:off x="2200320" y="0"/>
            <a:ext cx="47451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162920" y="4440240"/>
            <a:ext cx="16761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，国际奥委会主席萨马兰奇在当地土著居民的陪同下，参观了当地土著人居住的地方。图为萨马兰奇试着演奏土著人的传统乐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7-1-4171_au0912111szy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451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6324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澳大利亚土著艺术家十二日在悉尼歌剧院前吹奏传统乐器，为即将开幕的奥运会助兴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DIDJERI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-9360"/>
          <a:ext cx="9144000" cy="68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9360"/>
                    <a:ext cx="9144000" cy="68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IVEB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219320"/>
            <a:ext cx="73152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cc"/>
                </a:solidFill>
                <a:latin typeface="Times New Roman"/>
              </a:rPr>
              <a:t>Banner-carrying aborigines march in 1980 in protest against government plans to begin oil drilling on sacred aboriginal site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33920" y="4114800"/>
            <a:ext cx="4267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9360">
                  <a:solidFill>
                    <a:srgbClr val="5490a8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Aborigines</a:t>
            </a:r>
            <a:endParaRPr b="0" i="1" lang="en-US" sz="2400" spc="1" strike="noStrike">
              <a:ln cap="sq" w="9360">
                <a:solidFill>
                  <a:srgbClr val="5490a8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362320" y="160020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People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Weather and Land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LUT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19320" y="291960"/>
          <a:ext cx="678168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1960"/>
                    <a:ext cx="67816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OBO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91440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ustralia has many varied features. In the center are dry riverbeds, like the one winding through the Macdonnell Rang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828800" y="228600"/>
          <a:ext cx="54100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"/>
                    <a:ext cx="54100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MARIMB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33720" y="1600200"/>
            <a:ext cx="5715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In Queensland there are sugarcane fiel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Sports and Game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GUITELEC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39880" y="457200"/>
          <a:ext cx="57164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457200"/>
                    <a:ext cx="57164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HARP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00200" y="990720"/>
            <a:ext cx="6705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Sailing is popular among Australians. In Melbourne, children learn to handle small boats on the Yarra Riv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79480" y="304920"/>
          <a:ext cx="53834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304920"/>
                    <a:ext cx="53834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480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Football is a popular sport in Australi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286000" y="304920"/>
          <a:ext cx="45054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04920"/>
                    <a:ext cx="4505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DRUMROLL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66680" y="609480"/>
          <a:ext cx="7162920" cy="51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716292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800" y="28191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DIDJERI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838080"/>
            <a:ext cx="6319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n aboriginal man of South Australia wears a cap of plaited straw and carries a decorated woomera, a stick used to cradle a spear and give added leverage in throwing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14440" y="762120"/>
          <a:ext cx="802008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762120"/>
                    <a:ext cx="802008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ALTOSAX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17524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aboriginal family is at home in South Australia; the woman is spinning woo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268200"/>
          <a:ext cx="76960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8200"/>
                    <a:ext cx="769608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85800" y="6019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es work in a lumber forest on Melville Island off the coast near Darw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49600" y="380880"/>
          <a:ext cx="55656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80880"/>
                    <a:ext cx="5565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01:33:48Z</dcterms:created>
  <dc:creator>home</dc:creator>
  <dc:description/>
  <dc:language>en-US</dc:language>
  <cp:lastModifiedBy>home</cp:lastModifiedBy>
  <dcterms:modified xsi:type="dcterms:W3CDTF">2000-10-12T21:12:49Z</dcterms:modified>
  <cp:revision>13</cp:revision>
  <dc:subject/>
  <dc:title>Australia</dc:title>
</cp:coreProperties>
</file>