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5458-E7E1-41B2-9D16-42D826B37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E26C-6FD3-4186-A78B-0313689E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037B-A76F-49EB-A598-33BD92821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4E17-9C50-413F-8B7C-C8B1A52C9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3AE0-F60D-4996-8D93-DED1D5DCC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E18E-9B4F-4836-92BF-925AEB5F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79BB-8885-47B2-A4C6-89292622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5C70-346B-4EAA-949A-B6CF6706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B73F-34C2-4B86-A675-015F0BE1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0E31F-3343-47AD-8AB0-E08070DF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BF01-9B37-413E-9002-AC21C567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DF43-BD1A-4ED1-BC9F-DC2BE506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D2DB-9CC7-4F06-97CA-94C59F3B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E638B-DDD6-4D43-A3A8-573432A5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F7BF-BA13-455D-9F5F-234E5907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7B30-95BD-4D4A-A88F-17AE334E6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7600-A118-4F77-B980-A342C27A3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C584-7197-4032-A724-1C5527EF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BBE0-1FBC-4B2F-8A72-08EE8606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1E11-1475-4462-811A-331CD13B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67A5-FCDE-4D7D-8F2C-0DA65FBD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64CB-AFB0-4BF8-812C-D2E19024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C67A-8ADB-4B22-BA3D-B3B09562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C4EA-9BE4-4A71-A4B0-4B4233C6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" name="CITBANND" descr="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10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82880">
              <a:spcBef>
                <a:spcPts val="1001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3" marL="1280160" indent="-182880">
              <a:spcBef>
                <a:spcPts val="1001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9840-49F8-409B-AB40-9403F7F4D8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53" name="CITBANND" descr="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FB91-C1BC-4973-B95E-ED4E633F05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高三英语</a:t>
            </a:r>
            <a:br>
              <a:rPr sz="4800"/>
            </a:b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（一）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21932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主讲：毕勤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听力（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分）单项选择（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15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分）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完形填空（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分）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阅读理解（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40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分）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短文改错（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分）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书面表达（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25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分）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总计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150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分，考试时间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120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分，近几年高考难度系数在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0.5~0.55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之间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）学生应具备的</a:t>
            </a:r>
            <a:r>
              <a:rPr b="0" lang="zh-CN" sz="4000" spc="-1" strike="noStrike">
                <a:solidFill>
                  <a:srgbClr val="ff0066"/>
                </a:solidFill>
                <a:latin typeface="Tahoma"/>
              </a:rPr>
              <a:t>10</a:t>
            </a:r>
            <a:r>
              <a:rPr b="0" lang="zh-CN" sz="4000" spc="-1" strike="noStrike">
                <a:solidFill>
                  <a:srgbClr val="ff0066"/>
                </a:solidFill>
                <a:latin typeface="Tahoma"/>
              </a:rPr>
              <a:t>项能力要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①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应会识别词义、词性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注意发音，了解词义，注意词性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②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会分析句子的基本结构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了解句子的大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③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理解句子的深层含义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对句子的用语的了解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④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了解相同词汇在不同情景下的变化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一词多义，一词多种词性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⑤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了解相同情景下使用不同词汇、句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注意句型的变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⑥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用英语的思维进行思考，表达自己一定的情感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⑦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把语言的使用与情景、人、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人的社会身份相结合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⑧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了解东西方文化差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⑨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学会使用工具书（字典）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⑩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学会自己学习英语，安排自己的学习内容和时间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备战高考时，首先要了解高考命题思路和命题原则，以及备战高考时的方法及策略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对英语产生兴趣，培养自己的自信心，对自己的目标确定合适，切实可行，掌握方法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如听，找对材料有意识地听，无意识地听结合起来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、备战高考的方法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zh-CN" sz="4000" spc="-1" strike="noStrike">
                <a:solidFill>
                  <a:srgbClr val="ff0066"/>
                </a:solidFill>
                <a:latin typeface="Tahoma"/>
              </a:rPr>
              <a:t>3</a:t>
            </a:r>
            <a:r>
              <a:rPr b="0" lang="zh-CN" sz="4000" spc="-1" strike="noStrike">
                <a:solidFill>
                  <a:srgbClr val="ff0066"/>
                </a:solidFill>
                <a:latin typeface="Tahoma"/>
              </a:rPr>
              <a:t>背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4000" spc="-1" strike="noStrike">
                <a:solidFill>
                  <a:srgbClr val="ff0066"/>
                </a:solidFill>
                <a:latin typeface="Tahoma"/>
              </a:rPr>
              <a:t>背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词汇表，带着一定的句子去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4000" spc="-1" strike="noStrike">
                <a:solidFill>
                  <a:srgbClr val="ff0066"/>
                </a:solidFill>
                <a:latin typeface="Tahoma"/>
              </a:rPr>
              <a:t>背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基本句型、常见试题，注意错题的积累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4000" spc="-1" strike="noStrike">
                <a:solidFill>
                  <a:srgbClr val="ff0066"/>
                </a:solidFill>
                <a:latin typeface="Tahoma"/>
              </a:rPr>
              <a:t>背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范文、小短文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使用好的句式进行书面表达，如新概念第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册中小短文，写作答案等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zh-CN" sz="4000" spc="-1" strike="noStrike">
                <a:solidFill>
                  <a:srgbClr val="ff0066"/>
                </a:solidFill>
                <a:latin typeface="Tahoma"/>
              </a:rPr>
              <a:t>3</a:t>
            </a:r>
            <a:r>
              <a:rPr b="0" lang="zh-CN" sz="4000" spc="-1" strike="noStrike">
                <a:solidFill>
                  <a:srgbClr val="ff0066"/>
                </a:solidFill>
                <a:latin typeface="Tahoma"/>
              </a:rPr>
              <a:t>练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4000" spc="-1" strike="noStrike">
                <a:solidFill>
                  <a:srgbClr val="ff0066"/>
                </a:solidFill>
                <a:latin typeface="Tahoma"/>
              </a:rPr>
              <a:t>练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基本题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4000" spc="-1" strike="noStrike">
                <a:solidFill>
                  <a:srgbClr val="ff0066"/>
                </a:solidFill>
                <a:latin typeface="Tahoma"/>
              </a:rPr>
              <a:t>练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能力（听、读方面）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针对自己的问题针对性地</a:t>
            </a:r>
            <a:r>
              <a:rPr b="0" lang="zh-CN" sz="4000" spc="-1" strike="noStrike">
                <a:solidFill>
                  <a:srgbClr val="ff0066"/>
                </a:solidFill>
                <a:latin typeface="Tahoma"/>
              </a:rPr>
              <a:t>练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不求第一次都对都会，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但求第二次不错。”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愈到考试时，降低难度，英语学习以练为主，以模仿为主，以理解为辅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、高考的题型特点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zh-CN" sz="4000" spc="-1" strike="noStrike">
                <a:solidFill>
                  <a:srgbClr val="ff0066"/>
                </a:solidFill>
                <a:latin typeface="Tahoma"/>
              </a:rPr>
              <a:t>高考命题原则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al Englis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ten Englis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itish  Englis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认真学习考纲，以课本为依据，不拘泥于课本，明确了解大纲说明，注重能力培养，明确对题型分值要求的注释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以词汇表为主，对短语词汇有基本了解，参考教材，作为阅读材料、复习知识点的依据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高考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2/3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题属于中等难题和容易题，按照自己水平安排复习思路和重点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高考中淡化语法知识，重在交际，对各部分考试有所了解，复习时既要重视语法又不能完全陷入语法框架中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单项填空四个考查要点：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基本语法知识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惯用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词语辨析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情景交际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侧重能力的考核：思维能力、阅读能力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高考试卷比较稳定，有些变化，北京市命题，听力记入总分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7T02:42:52Z</dcterms:created>
  <dc:creator>shihui</dc:creator>
  <dc:description/>
  <dc:language>en-US</dc:language>
  <cp:lastModifiedBy>aoxiao33</cp:lastModifiedBy>
  <dcterms:modified xsi:type="dcterms:W3CDTF">2002-07-02T01:37:18Z</dcterms:modified>
  <cp:revision>150</cp:revision>
  <dc:subject/>
  <dc:title>高一化学</dc:title>
</cp:coreProperties>
</file>