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6.gif" ContentType="image/gif"/>
  <Override PartName="/ppt/media/image12.png" ContentType="image/png"/>
  <Override PartName="/ppt/media/image3.gif" ContentType="image/gif"/>
  <Override PartName="/ppt/media/image11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applause.wav" ContentType="audio/x-wav"/>
  <Override PartName="/ppt/media/image8.gif" ContentType="image/gif"/>
  <Override PartName="/ppt/media/image13.gif" ContentType="image/gif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689-87BB-4A06-B1D3-17BF74AE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358-716A-441D-86A4-AF5AF569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0D5-8B19-4EFA-B579-1933B056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BB0-F3CD-4213-B2FD-461343E5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CC3-D2D5-4041-B836-419C1AA1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788-418F-4758-B551-A851B9D6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C80-047D-407E-84F2-2FFBC451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1AB-5BEA-4F2C-90A3-F287A0F3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6FC-D82B-4598-AB51-7B68EEE1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C52-9DBC-4889-A46E-1976D2C9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0EB-3CD5-4E5D-B10A-1BFA4381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903-FDA4-40FF-B3B9-BAEB95B3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DE06-9B6F-453E-BEAA-B17AE3ABC4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71424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方正舒体"/>
                <a:ea typeface="方正舒体"/>
              </a:rPr>
              <a:t>Unit 11  Planting Tr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7560" y="2173320"/>
            <a:ext cx="31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99ff"/>
                </a:solidFill>
                <a:latin typeface="Arial"/>
              </a:rPr>
              <a:t>Lesson 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10160" y="5516640"/>
            <a:ext cx="3670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初三英语备课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      </a:t>
            </a:r>
            <a:r>
              <a:rPr b="1" i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Oct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54152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51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Times New Roman"/>
              </a:rPr>
              <a:t>Hi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5030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0200" y="4527720"/>
            <a:ext cx="63374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th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be f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341360"/>
            <a:ext cx="7345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带情态动词的被动语态的构成形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501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情态动词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44500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an, may, must, could, should have to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692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被动语态的构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4560" y="692280"/>
            <a:ext cx="1873080" cy="6426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066760"/>
            <a:ext cx="417672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情态动词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+ 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12760" cy="21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5229360"/>
            <a:ext cx="231840" cy="236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1608120"/>
            <a:ext cx="233640" cy="23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2873520"/>
            <a:ext cx="73087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否定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情态动词后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+ not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疑问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将情态动词调至主语之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2924280"/>
            <a:ext cx="216000" cy="64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8560" y="3951360"/>
            <a:ext cx="5761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fi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the tru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446040"/>
            <a:ext cx="802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小树应每天浇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你的自行车需好好修修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书不能带出阅览室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这水能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05876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hese young tree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hould be water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579840"/>
            <a:ext cx="72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ook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be take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out of the reading-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4987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Your bik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as to be mend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08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the water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be drunk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977080" y="4149720"/>
            <a:ext cx="2915640" cy="1922760"/>
            <a:chOff x="5977080" y="4149720"/>
            <a:chExt cx="2915640" cy="1922760"/>
          </a:xfrm>
        </p:grpSpPr>
        <p:sp>
          <p:nvSpPr>
            <p:cNvPr id="101" name=""/>
            <p:cNvSpPr/>
            <p:nvPr/>
          </p:nvSpPr>
          <p:spPr>
            <a:xfrm>
              <a:off x="7499880" y="4149720"/>
              <a:ext cx="1392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3300"/>
                  </a:solidFill>
                  <a:latin typeface="宋体"/>
                </a:rPr>
                <a:t>OK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977080" y="4278600"/>
              <a:ext cx="1529640" cy="1742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3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1280" y="115920"/>
            <a:ext cx="889344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Rewrite these sentenc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Students should correct their mistak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e must type the letter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They must clean their classroom 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Students should speak English in and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mistak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correct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206064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letter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typ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360" y="3645000"/>
            <a:ext cx="86756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classroom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clean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th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00" y="5553000"/>
            <a:ext cx="89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nglish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hould be spoken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 in and out 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" y="-27000"/>
            <a:ext cx="914400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You should hand in your composition the day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fter tomorr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.We should knock a long stick into the earth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ext to the ho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7.We should tie the tree to the top of the sti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8.We must water the trees we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1305000"/>
            <a:ext cx="882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Your composition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hand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 by you the day after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280" y="3249720"/>
            <a:ext cx="8317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A long stick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knock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to the earth next to the hole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4784760"/>
            <a:ext cx="8675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ti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o the top of the st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080" y="5873760"/>
            <a:ext cx="75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water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well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187280" cy="1528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84360"/>
            <a:ext cx="9144000" cy="317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表示一个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动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带表语的结构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主语的特点或所处的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状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e library is now closed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It is usually closed at 6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760"/>
            <a:ext cx="7488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146480"/>
            <a:ext cx="9144000" cy="2706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后面可带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y +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施动作者，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一般没有。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The glass is broken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It was broken by my sister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语态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表语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146160"/>
            <a:ext cx="7056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81000"/>
            <a:ext cx="9144000" cy="3087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”中的过去分词可以被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ll , ver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副词修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“被动结构”中的过去分词则一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如此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book is well written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The book is written by Li Ming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76640"/>
            <a:ext cx="9144000" cy="2774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可以用于各种时态，而系表结构只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一般现在时和一般过去时这两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being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语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8000" y="1413000"/>
            <a:ext cx="8964720" cy="4157640"/>
          </a:xfrm>
          <a:prstGeom prst="rect">
            <a:avLst/>
          </a:prstGeom>
          <a:noFill/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主动意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被动结构只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被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被动结构的句子往往有表示动作的时间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点、方式、目的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状语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系表结构一般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这样的状语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he photo was taken last month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被动语态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br>
              <a:rPr sz="3600"/>
            </a:b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The photo was well taken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系表结构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90520"/>
            <a:ext cx="7488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76360" y="119700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51400" y="3789360"/>
            <a:ext cx="2065680" cy="1581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51400" y="3573360"/>
            <a:ext cx="1138320" cy="995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24000" y="4237200"/>
            <a:ext cx="5435640" cy="109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05320" y="5248440"/>
            <a:ext cx="5333760" cy="107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578560" y="4952880"/>
            <a:ext cx="5333760" cy="10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911320" cy="2427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43200" y="2819520"/>
            <a:ext cx="4495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hank you !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6640" y="914400"/>
            <a:ext cx="1600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Bye-by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9370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6876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76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Teaching aims</a:t>
            </a: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92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3ff"/>
                </a:solidFill>
                <a:latin typeface="Times New Roman"/>
              </a:rPr>
              <a:t>Retell the Great Green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700280"/>
            <a:ext cx="7543800" cy="4331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keep…from…,  wash…away,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ay in one place,  pr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cross,  is…long and …wid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op…from, save, needed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ll over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57800"/>
            <a:ext cx="7925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19700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ustralia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ousands of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awa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om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20667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Mr Bell is nearly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o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2673360"/>
            <a:ext cx="828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The river near here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573360"/>
            <a:ext cx="896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Our classroom is abou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elve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eight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360" y="450864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he Yellow River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5,464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501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The hole must be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half a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5661000"/>
            <a:ext cx="817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Mount Emei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ree thous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hig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592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The Great Green Wall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etween 400 an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1,700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1484280"/>
            <a:ext cx="9109080" cy="15080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metre(s) / kilometer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幼圆"/>
              </a:rPr>
              <a:t>long/ wide/ high/ tall/ deep/thick/lo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69228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计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328464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重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280" y="4005360"/>
            <a:ext cx="8964720" cy="16304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kilo(s) +hea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000" y="1484280"/>
            <a:ext cx="9036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1.A: Can I skate on the ri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B: Of course. The ice in the river 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over on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______. It’s stro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en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The Great Wall is more than 6,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ilometres _____,and 5 met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 enough for five horse or ten 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walk side by side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along the 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234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h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4148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79592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w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365120"/>
            <a:ext cx="90360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A: How ______is the Baikal Lake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贝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尔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, 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It’s 1,620 metres _____, I think. It is th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epest lake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A: I’ve never climbed such a 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un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Oh, have ypu? It’s about 2,400 me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1197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2492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860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582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1844640"/>
            <a:ext cx="741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A: Michael Jordan is a fantastic basketball pl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 Yes, you know, he’s about 2 metre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6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21408600">
            <a:off x="1770120" y="1480680"/>
            <a:ext cx="56084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Watch and listen carefully!</a:t>
            </a:r>
            <a:endParaRPr b="1" lang="en-US" sz="32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7:53:05Z</dcterms:created>
  <dc:creator>user</dc:creator>
  <dc:description/>
  <dc:language>en-US</dc:language>
  <cp:lastModifiedBy>mmh</cp:lastModifiedBy>
  <dcterms:modified xsi:type="dcterms:W3CDTF">2004-10-17T00:54:31Z</dcterms:modified>
  <cp:revision>16</cp:revision>
  <dc:subject/>
  <dc:title>幻灯片 1</dc:title>
</cp:coreProperties>
</file>