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9.png" ContentType="image/png"/>
  <Override PartName="/ppt/media/image16.jpeg" ContentType="image/jpeg"/>
  <Override PartName="/ppt/media/image13.gif" ContentType="image/gif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29.gif" ContentType="image/gif"/>
  <Override PartName="/ppt/media/image15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383-2202-4820-B0C0-F1C5EA78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5F5-92B8-4D7B-911B-61D524D2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930-4571-4AC2-96DB-E81580A6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318-F6E8-43E3-BAF5-97ACCC99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B535-1B20-4C65-BB0C-8D6B83F6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8FA6-A741-437B-87AD-5004AE50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10FE-40B9-4790-9E1F-C75895C0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F1D5-5CBB-40A4-BF00-681627BD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1A2C-FCD4-42B0-BC17-08672F13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B49B-947E-426A-B8C2-1D597324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B8ED-7B54-4F3D-AA46-AA300C2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55C-BEE8-41BF-9264-5BC454D9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0714-A5E0-4FA6-8F95-8A137DAD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5AF7-C806-49F7-9192-691A9E4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AAFD-84EE-4C3E-839B-70FA9DF3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97BB-D4F5-4B0F-8DC7-188A6CEF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A592-1130-4E2C-84EE-52531321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C13-ABD5-492A-856D-30721931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C55-EDD2-4201-83A7-8135BF83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373-53D3-467A-B714-04F64E86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DD8-C011-4D25-8548-5F3D22E3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4AC-C290-4103-89F6-69BB3F79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792-7C9B-4697-9366-B5BC6A3F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884-7FA1-4A72-8B59-605F5B28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94F1-DA5B-4CE6-9C65-B52EBD793A58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E206-4DF9-4988-83A6-E95A2CFB0BF9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6.jpeg"/><Relationship Id="rId7" Type="http://schemas.openxmlformats.org/officeDocument/2006/relationships/image" Target="../media/image28.gif"/><Relationship Id="rId8" Type="http://schemas.openxmlformats.org/officeDocument/2006/relationships/image" Target="../media/image27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19520" y="2590920"/>
            <a:ext cx="480060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Lesson 7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6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observe (a day or event) with ceremonies of respect, festivity, or rejoic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720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elebr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hape, outline, or boundary of a co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oas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252440" y="1766880"/>
          <a:ext cx="73868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440" y="1766880"/>
                    <a:ext cx="738684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371600" y="380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Voyage(1768-17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Second Voyage(1772-1775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8080" y="1766880"/>
          <a:ext cx="713736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8080" y="1766880"/>
                    <a:ext cx="71373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Third Voyage(1776-1779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1828800"/>
          <a:ext cx="7620120" cy="46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828800"/>
                    <a:ext cx="762012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380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ad the passage ,then fill in the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09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666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2209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ime for st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209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hat they did or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ah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ree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2743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atch the planet Venus crossing in front of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73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495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257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095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733920"/>
            <a:ext cx="1752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ew Zealand   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648320"/>
            <a:ext cx="1752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ustralia                      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6095880"/>
            <a:ext cx="1600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sland of Java   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5334120"/>
            <a:ext cx="17528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Great Barrier Reef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　　　　　　 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6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65760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charted the coasts of the 2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44956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pped the east coast/ landed in Botany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5478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25780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uck a coral bed, not died/saved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ssed close by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7621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isten and fo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600200"/>
            <a:ext cx="83818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or 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ahiti is separated by Cook Strait from New Zea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Other sailors had already charted the 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They found a lot of strange animals in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A disaster happened when they passed by the island of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They returned to England by way of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2743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3657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724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41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304920"/>
            <a:ext cx="7848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expedition at last succeeded in achieving its purpose of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ing a new lan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watching an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charting the coasts of the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Cook charted the ______coast of Austra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west      B. north      C. east      D. s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RW_002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RW_002" descr=""/>
          <p:cNvPicPr/>
          <p:nvPr/>
        </p:nvPicPr>
        <p:blipFill>
          <a:blip r:embed="rId3"/>
          <a:stretch/>
        </p:blipFill>
        <p:spPr>
          <a:xfrm>
            <a:off x="4419720" y="5867280"/>
            <a:ext cx="7617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80880"/>
            <a:ext cx="8001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ptain Cook and his sailors found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. New Zealand            B.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Tasmania                   D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at is not popular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Red soil              B. Climbing tree b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Kangaroo            D. P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RW_00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RW_002" descr=""/>
          <p:cNvPicPr/>
          <p:nvPr/>
        </p:nvPicPr>
        <p:blipFill>
          <a:blip r:embed="rId3"/>
          <a:stretch/>
        </p:blipFill>
        <p:spPr>
          <a:xfrm>
            <a:off x="3886200" y="47242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914400"/>
            <a:ext cx="8534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Paragraph 3 shows us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danger of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ou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lev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RW_00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706320"/>
            <a:ext cx="83818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老板坚持要我把报告再检查一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人建议我们免费给老人们提供热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我对谁将负责这项工程不感兴趣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那些水手熟练地把货物装到船上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7524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boss insisted that I (should)go over the repor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971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meone suggests us providing the elderly with hot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34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 take no interest in who will take charge of the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791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ose seamen loaded the goods  onto the ship skill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 the island of Tahiti in the Pacific Ocean, Cook’s expedition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pent a period of six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spent three hard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tched the planet Venus passing between the earth a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nd a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0" y="495288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ahoma"/>
              </a:rPr>
              <a:t>C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. New Zealand is separated from the other island by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Cook S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island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Great Barrier Re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010280" y="3276720"/>
            <a:ext cx="51300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Verdana"/>
              </a:rPr>
              <a:t>A</a:t>
            </a:r>
            <a:endParaRPr b="1" lang="en-US" sz="24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. Cook was the first to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ail to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map the coast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ke Australia the foreign sett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chart the east coast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4952880"/>
            <a:ext cx="3621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. The expedition passed ____ oceans in the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o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34120" y="3048120"/>
            <a:ext cx="622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Impact"/>
              </a:rPr>
              <a:t>A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. Which of the following you can’t see except in Austral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e coral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beautiful b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bears which can climb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birds that can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924680" y="464832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C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88640"/>
            <a:ext cx="8381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July they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set sai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again and headed south and west in search of a new land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七月，他们两度启航，向南然后向西行驶，以寻找新的陆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1337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sail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启航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= sail, 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</a:rPr>
              <a:t>begin to sail 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set up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建立，竖起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up home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安家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out for sp. =  set off for sp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出发去某地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 clock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对表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bout doing sth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开始做…着手做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54100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set sail for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in the morning, they set sail south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33336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ead  vi---advance;prog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朝向，走向，驶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14300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urried off and headed north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匆忙离开朝北走了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ad sou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南走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u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表方向的词，跟在动词后副词用，若作名词须加介词和冠词）如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lk to the ea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东走去 ； 后面还可接介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r /to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4419720"/>
            <a:ext cx="61196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hip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is heading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/ toward Tianjin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船正驶往天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he train is heading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</a:rPr>
              <a:t>for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Fosh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18960" y="380520"/>
            <a:ext cx="7670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search of = looking 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寻找，搜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 in one's search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0512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sb./sth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查（身、屋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for sb./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索、寻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426708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ent to many places in search of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He searched many places for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58128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他跑了很多地方，力求找到一个能为他治好病的医生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14300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ple went to town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 search of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arched every bookstore in the town for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484360" y="188640"/>
            <a:ext cx="61610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… to be…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现…是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时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b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以省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Alice found the place to be a new and strange place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爱丽丝发现那个地方是一个新奇的地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ally, it was found to be a chea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最后才发现那是一个骗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407664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it + adj. +to do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sth +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 that-clau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6095880"/>
            <a:ext cx="21333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t ,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6095880"/>
            <a:ext cx="14479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6019920"/>
            <a:ext cx="19814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14240" y="1173240"/>
            <a:ext cx="63054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115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Language study</a:t>
            </a:r>
            <a:r>
              <a:rPr b="0" lang="zh-CN" sz="3200" spc="-1" strike="noStrike">
                <a:solidFill>
                  <a:srgbClr val="6600cc"/>
                </a:solidFill>
                <a:latin typeface="Times New Roman"/>
              </a:rPr>
              <a:t> ------  the –ing form as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6858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下面动词只能接动名词做宾语（不可接不定式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341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mit, avoid, appreciate, delay, deny, dislike, enjoy, excuse, escape, complete, finish, consider, imagine, keep, mind, miss, pardon, postpone, risk, suggest, fancy, understand, practise, forgive, disc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4038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ow sb to do sth  (permit, advise, consider, forbid, can’t hel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1055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 how/what…to do s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7913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/ think/ find/ feel/ make + it +adj. to do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oceaniabora32sm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3409920"/>
          </a:xfrm>
          <a:prstGeom prst="rect">
            <a:avLst/>
          </a:prstGeom>
          <a:ln w="0">
            <a:noFill/>
          </a:ln>
        </p:spPr>
      </p:pic>
      <p:pic>
        <p:nvPicPr>
          <p:cNvPr id="217" name="oceaniamoorea21sm" descr=""/>
          <p:cNvPicPr/>
          <p:nvPr/>
        </p:nvPicPr>
        <p:blipFill>
          <a:blip r:embed="rId3"/>
          <a:stretch/>
        </p:blipFill>
        <p:spPr>
          <a:xfrm>
            <a:off x="4648320" y="-19080"/>
            <a:ext cx="4495680" cy="3448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105520" y="48006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ceneries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oit%20dume%20after%20storm" descr=""/>
          <p:cNvPicPr/>
          <p:nvPr/>
        </p:nvPicPr>
        <p:blipFill>
          <a:blip r:embed="rId4"/>
          <a:stretch/>
        </p:blipFill>
        <p:spPr>
          <a:xfrm>
            <a:off x="0" y="3386160"/>
            <a:ext cx="4648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wineglass%20Tasmania" descr=""/>
          <p:cNvPicPr/>
          <p:nvPr/>
        </p:nvPicPr>
        <p:blipFill>
          <a:blip r:embed="rId2"/>
          <a:stretch/>
        </p:blipFill>
        <p:spPr>
          <a:xfrm>
            <a:off x="182880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asm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flower6" descr=""/>
          <p:cNvPicPr/>
          <p:nvPr/>
        </p:nvPicPr>
        <p:blipFill>
          <a:blip r:embed="rId3"/>
          <a:stretch/>
        </p:blipFill>
        <p:spPr>
          <a:xfrm>
            <a:off x="7924680" y="6118200"/>
            <a:ext cx="121932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482400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James Cook was a very skilled seaman. He was famous for making an ___________ to the South Pacific Ocean. In July 1768, Cook and his sailors took an old but strong _______ named </a:t>
            </a:r>
            <a:r>
              <a:rPr b="0" i="1" lang="zh-CN" sz="3200" spc="-1" strike="noStrike">
                <a:solidFill>
                  <a:srgbClr val="000000"/>
                </a:solidFill>
                <a:latin typeface="Tahoma"/>
              </a:rPr>
              <a:t>Endeavou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to _______ out for the Pacific in _________ to find a new continent. The ship carried a total of 9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191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, ___________ scientists. It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ly a very hard journey for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 the expedition, 38 peo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d ______ diseases. In April 1769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t the beautiful island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hiti in the Pacific Ocean. They 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for three months. And then they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gain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182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clu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2895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D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3429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962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rri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449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a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55627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ed south and west _____ search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ew land. They finally reached N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aland ______ spent six months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that they sailed west to 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________ the east coast of Austral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found Australia to be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tonishing country. Next they sailed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______ co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819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3352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886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ap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the expedition nearly end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ster. The ship struck a coral b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_______ a large hole in the sid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ip. But Cook’s quick thin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the expedition.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ed close ______ the island of Ja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turned by the southern point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. In July 1771 they success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2743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43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ived back _____ England. The wh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ntry celebrated their _________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outh Pacific. So James Cook bec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ero of th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me of the __________ on the ship had special jobs.The captain of the boat had a lot of ________. He could order sailors to be kept in chains or _________ if they did not _______ his orders. The master’s job was to set the ________ for the ship by the sun and the stars. There was a doctor on board who _________ the men’s illnesses and wounds . the gunner looked after the guns and the iron balls for the guns. A wood worker stopped any _______ in the sides of the ship and carried out any necessary ________ to the woodwork , the sailmaker repaired sails and made new sails when necessary. Another sailor was in ________ of the ship’s stores and gave the sailors their orders. The _______ did the cook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ilo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5335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99072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ate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1447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e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1981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ur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438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8862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l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4419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pai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54100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ar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248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o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908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2666880"/>
            <a:ext cx="1981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819520"/>
            <a:ext cx="23623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(disas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266688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eb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97384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s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943600"/>
            <a:ext cx="990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9436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they enjoyed a happy stay of three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1148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re they spent three happy mon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ed their jour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veled in a southerly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4382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et sail ag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3581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aded sou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search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d already made maps of the co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map of the east co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24382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d already charted parts of the ….   co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343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oala bears spend most of their lives in eucalyptus trees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桉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ears climbed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4952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rge animals … stomach po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ongest coral reef in the world, off the Northeast coast of Australia. It is 2, 000 km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the boat would float higher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3429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Great Barrier Ree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5029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 raise the boat in the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pulled the boat up onto the s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k’s quick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2666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y beached the ship on the sh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495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ok’s quick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iled close to the island of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hen returned to England by passing the southern point of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2590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assed close by the island of 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n returned by the southern point of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 is an organized journey with a particular purpose such as exploration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time when the national flag will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tomorrow mo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, your body temperature is higher than u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1676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i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3848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someone or something, you try to protect them against d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is a ship with guns and other equipment needed for fighting in w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ound [v] doesn’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895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4038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5181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is a terrible accident such as an earthquake or an air crash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机失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was not a surprise that our football team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 some major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ay when Hong Kong returned to China is wor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1752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a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3581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5029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lebr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narrow channel joining two larger bodies of wa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733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tra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noun form of sick i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wo policemen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clothes came to the village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tea time in the afternoon, you can drink tea and eat so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1752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ck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243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2971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1320" y="4038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c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93824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8088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3 :Retell the whole sto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93824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93824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fire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7" descr="7.gif (17053 字节)"/>
          <p:cNvPicPr/>
          <p:nvPr/>
        </p:nvPicPr>
        <p:blipFill>
          <a:blip r:embed="rId3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7" name="7" descr="7.gif (17053 字节)"/>
          <p:cNvPicPr/>
          <p:nvPr/>
        </p:nvPicPr>
        <p:blipFill>
          <a:blip r:embed="rId4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8" name="7" descr="7.gif (17053 字节)"/>
          <p:cNvPicPr/>
          <p:nvPr/>
        </p:nvPicPr>
        <p:blipFill>
          <a:blip r:embed="rId5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9" name="fire06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0" name="2" descr="2.gif (8966 字节)"/>
          <p:cNvPicPr/>
          <p:nvPr/>
        </p:nvPicPr>
        <p:blipFill>
          <a:blip r:embed="rId7"/>
          <a:stretch/>
        </p:blipFill>
        <p:spPr>
          <a:xfrm>
            <a:off x="3962520" y="297180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331" name="7" descr="7.gif (17053 字节)"/>
          <p:cNvPicPr/>
          <p:nvPr/>
        </p:nvPicPr>
        <p:blipFill>
          <a:blip r:embed="rId8"/>
          <a:stretch/>
        </p:blipFill>
        <p:spPr>
          <a:xfrm>
            <a:off x="1295280" y="3352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32" name="6" descr="6.gif (22983 字节)"/>
          <p:cNvPicPr/>
          <p:nvPr/>
        </p:nvPicPr>
        <p:blipFill>
          <a:blip r:embed="rId9"/>
          <a:stretch/>
        </p:blipFill>
        <p:spPr>
          <a:xfrm>
            <a:off x="746748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3" name="3" descr="3.gif (41629 字节)"/>
          <p:cNvPicPr/>
          <p:nvPr/>
        </p:nvPicPr>
        <p:blipFill>
          <a:blip r:embed="rId10"/>
          <a:stretch/>
        </p:blipFill>
        <p:spPr>
          <a:xfrm>
            <a:off x="228600" y="3049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124080" y="4114800"/>
            <a:ext cx="2971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Good Bye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cience or study of pla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80988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botan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3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fill with sudden wonder or amaz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ston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ccurrence causing widespread destruction and distress; a catastroph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5720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sas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5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ersonnel operating or serving aboard a shi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886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r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9:35:31Z</dcterms:created>
  <dc:creator>Benny Lee</dc:creator>
  <dc:description/>
  <dc:language>en-US</dc:language>
  <cp:lastModifiedBy>w</cp:lastModifiedBy>
  <dcterms:modified xsi:type="dcterms:W3CDTF">2004-08-12T08:15:54Z</dcterms:modified>
  <cp:revision>39</cp:revision>
  <dc:subject/>
  <dc:title>PowerPoint 演示文稿</dc:title>
</cp:coreProperties>
</file>