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5AE5-508A-4DD1-B5F0-3415D95E3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E1D9-6EF9-417E-A6D7-AAB4063B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0D0D-D8D5-4D42-804E-A164AF4DB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1F49-A97B-4BE3-97E7-F24EA6158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C3EC-609A-4047-A0B5-A1A846B28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865D-C2EC-4C04-B3AE-9D9199A3F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A19A-4DF8-4046-BB4D-AF83F513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A3FE-8A98-4707-978C-A172FB7CA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C175-34FA-4F00-9928-120B07A3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CD03-697C-4BD2-B129-5332711B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89E4-45DB-4B57-9A00-0F193334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D19F-B61B-467C-818D-3A504AE12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2F13-DE0B-442D-B059-39A51E80E1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z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z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5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z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z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z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03:03:08Z</dcterms:created>
  <dc:creator>USER13</dc:creator>
  <dc:description/>
  <dc:language>en-US</dc:language>
  <cp:lastModifiedBy>USER13</cp:lastModifiedBy>
  <dcterms:modified xsi:type="dcterms:W3CDTF">2002-05-04T03:03:34Z</dcterms:modified>
  <cp:revision>1</cp:revision>
  <dc:subject/>
  <dc:title>PowerPoint 演示文稿</dc:title>
</cp:coreProperties>
</file>