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D1BA-0009-4E07-AA20-A9BF30441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E53B-B98D-4139-A2FA-C3A85939A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40B5-CE3C-4787-B151-8F199FEE2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8FAF-219E-409A-B8D3-137E16CBF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017C-6D38-496C-81BE-4BD7A1851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96EB-EB34-4D53-8358-7BD8077E8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3095-A648-4F53-9322-107D02C56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1B9A-033B-474B-8D73-1E7EA0701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52B7-DB58-4FD8-B70A-4C53B25D0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D90D-2B1C-4851-9797-1DD6B80A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B707-84F2-46F0-950E-9AEFCC9B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005D-4682-4626-956C-BBD56638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81823-190D-48DD-993B-D4210462A43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z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z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z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z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z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4T03:03:08Z</dcterms:created>
  <dc:creator>USER13</dc:creator>
  <dc:description/>
  <dc:language>en-US</dc:language>
  <cp:lastModifiedBy>USER13</cp:lastModifiedBy>
  <dcterms:modified xsi:type="dcterms:W3CDTF">2002-05-04T03:03:34Z</dcterms:modified>
  <cp:revision>1</cp:revision>
  <dc:subject/>
  <dc:title>PowerPoint 演示文稿</dc:title>
</cp:coreProperties>
</file>