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E9DD-3880-4E99-AB4A-1230A77D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52D-314E-44ED-9A06-8B633F3A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A5D-AC6A-4A6B-8573-96EBD2CC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16E-9931-4472-A437-445982D5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FBA-4875-4FB2-AA1E-853344B7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F40-6510-4015-9AD9-B2255CBC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C14-A8A6-4A07-B2B5-6CB5DD88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F0D-3631-4F87-B23B-AA639445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2B64-7B2D-40F0-8936-1F92C42C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E06-A6CD-4477-AD4D-F1A2A7AF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8A41-395A-4795-AFAE-FC8D3536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C9C-C58F-4015-BF28-5C818CF6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B603-7B0C-4E6A-97BB-02A0320467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gb3u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362320" y="1600200"/>
            <a:ext cx="5029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0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Unit 2</a:t>
            </a:r>
            <a:endParaRPr b="1" lang="en-US" sz="4000" spc="1" strike="noStrike">
              <a:ln w="9360">
                <a:solidFill>
                  <a:srgbClr val="333399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  </a:t>
            </a: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Captain Cook</a:t>
            </a:r>
            <a:endParaRPr b="1" lang="en-US" sz="4000" spc="1" strike="noStrike">
              <a:ln w="9360">
                <a:solidFill>
                  <a:srgbClr val="333399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11360" y="0"/>
            <a:ext cx="83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Step 2 New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85800"/>
            <a:ext cx="914400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merchan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1)adj. of business    e.g -----a merchant 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n. a businessman  e.g :My father is a merch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ex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vi.To have actual being; be real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际存在；真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:Dinosaur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恐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no longer exists on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majo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1)adj. more important than others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major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 vi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修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ll of you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major 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poli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pla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1) adj.  ordinary,simple,clear--- a plain fact/a plain girl      2)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原；旷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211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New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352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hart  1)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图；水路图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；图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-a weather 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vt. To make a chart of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绘制…的图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iscuit----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饼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点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fend---vt. Protect—e.g:It’s our duty to defend ou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ize-----vt. Catch sth tightl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捉，抓；掠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hief was seized by the pol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enus---n.another planet of the sun.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罗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纳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860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ep 3 Read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in 2-3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523880"/>
            <a:ext cx="8839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 th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In which war did Cook play an important p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Why did Cook go on his journey to the Pacific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97180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Seven Years War, and the battle of Quebec in Cana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5105520"/>
            <a:ext cx="8001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To see Venus passing between the earth and the sun, and to look for a new continent in the India/Pacific Ocean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9a0972b96468347a98cbb25b88990e0d%5B1%5D" descr="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049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tep 4 Reading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9072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text once again, and divide the text into several parts, summarizing the main idea for each p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514600"/>
            <a:ext cx="23619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4969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Para 1) A brief introduction about Captain C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657600"/>
            <a:ext cx="7620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ara2)  The Seven Years War between Britain and France..(the French was defeate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4876920"/>
            <a:ext cx="7543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para3-6) The expedition to the South Pacific Ocean.(to watch a very unusual Event, the planet Venus passing between the earth and the su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10011a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ep 5  T or F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371600"/>
            <a:ext cx="81532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James cook was a great English scient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Britain and France were in peace in 175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Cook went up and down the St Lawrence river in order to find a safe path for the warship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The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Endeavour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was a fast, strongly-built merchant 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4680" y="129528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F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2057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3809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029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10068a" descr=""/>
          <p:cNvPicPr/>
          <p:nvPr/>
        </p:nvPicPr>
        <p:blipFill>
          <a:blip r:embed="rId1"/>
          <a:stretch/>
        </p:blipFill>
        <p:spPr>
          <a:xfrm>
            <a:off x="3429000" y="5726160"/>
            <a:ext cx="285768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533520"/>
            <a:ext cx="876312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In the text the author mainly talks about Captain Cook’s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contribution to English navy during the Seven Years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Sailing to the east of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Expedition to the South Pacific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Both A and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12" descr="12.gif (59147 bytes)"/>
          <p:cNvPicPr/>
          <p:nvPr/>
        </p:nvPicPr>
        <p:blipFill>
          <a:blip r:embed="rId1"/>
          <a:stretch/>
        </p:blipFill>
        <p:spPr>
          <a:xfrm>
            <a:off x="304920" y="449568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380880"/>
            <a:ext cx="86868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he word “particularly” means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especially              B.exactly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partially                 D.pract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James Cook owed his education to 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a stranger                B.a teacher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a landowner             D.his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Cook joined a_____ at the age of  1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merchant ship               B. wa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fishing ship                    D.b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12" descr="12.gif (59147 bytes)"/>
          <p:cNvPicPr/>
          <p:nvPr/>
        </p:nvPicPr>
        <p:blipFill>
          <a:blip r:embed="rId1"/>
          <a:stretch/>
        </p:blipFill>
        <p:spPr>
          <a:xfrm>
            <a:off x="762120" y="1219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12" descr="12.gif (59147 bytes)"/>
          <p:cNvPicPr/>
          <p:nvPr/>
        </p:nvPicPr>
        <p:blipFill>
          <a:blip r:embed="rId2"/>
          <a:stretch/>
        </p:blipFill>
        <p:spPr>
          <a:xfrm>
            <a:off x="838080" y="41148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5" name="12" descr="12.gif (59147 bytes)"/>
          <p:cNvPicPr/>
          <p:nvPr/>
        </p:nvPicPr>
        <p:blipFill>
          <a:blip r:embed="rId3"/>
          <a:stretch/>
        </p:blipFill>
        <p:spPr>
          <a:xfrm>
            <a:off x="762120" y="5562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457200"/>
            <a:ext cx="883944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What does the word “exist” mean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ntinue to live        B.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have                           D.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Paragraph 2 is mainly about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Seven Years War between Britain and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ok’s joining the na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ok’s contribution to English navy during the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ok’s fighting in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12" descr="12.gif (59147 bytes)"/>
          <p:cNvPicPr/>
          <p:nvPr/>
        </p:nvPicPr>
        <p:blipFill>
          <a:blip r:embed="rId1"/>
          <a:stretch/>
        </p:blipFill>
        <p:spPr>
          <a:xfrm>
            <a:off x="4038480" y="19051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12" descr="12.gif (59147 bytes)"/>
          <p:cNvPicPr/>
          <p:nvPr/>
        </p:nvPicPr>
        <p:blipFill>
          <a:blip r:embed="rId2"/>
          <a:stretch/>
        </p:blipFill>
        <p:spPr>
          <a:xfrm>
            <a:off x="76320" y="48769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380880"/>
            <a:ext cx="8839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 Without Cook’s work of marking a path , perhaps English navy would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ake great risks in their l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ot be on time on the l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attacked by French A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ose their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4648320"/>
            <a:ext cx="8763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 A ship used for expedition usually should be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ast and strong               B. fast and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fast and spacious           D. strong and spa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12" descr="12.gif (59147 bytes)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22" name="12" descr="12.gif (59147 bytes)"/>
          <p:cNvPicPr/>
          <p:nvPr/>
        </p:nvPicPr>
        <p:blipFill>
          <a:blip r:embed="rId2"/>
          <a:stretch/>
        </p:blipFill>
        <p:spPr>
          <a:xfrm>
            <a:off x="4724280" y="609588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914400"/>
            <a:ext cx="87631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The purpose of the expedition was to 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atch a very unusual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 a new conti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ght against Austral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oth A and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12" descr="12.gif (59147 bytes)"/>
          <p:cNvPicPr/>
          <p:nvPr/>
        </p:nvPicPr>
        <p:blipFill>
          <a:blip r:embed="rId1"/>
          <a:stretch/>
        </p:blipFill>
        <p:spPr>
          <a:xfrm>
            <a:off x="304920" y="388620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Lesson 6  Captain Cook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Step 1   Re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Word sp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Step 2    Discussion   (teamwor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o you know anything about Captain Cook?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en and wher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is interest? His schooling? His job? His life? His contribution/ success ?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3276720" y="5791320"/>
            <a:ext cx="76176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762120"/>
            <a:ext cx="86104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 The fifth paragraph shows us that Captain Cook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d for his sailo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knew something about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knew something about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knew something about sai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12" descr="12.gif (59147 bytes)"/>
          <p:cNvPicPr/>
          <p:nvPr/>
        </p:nvPicPr>
        <p:blipFill>
          <a:blip r:embed="rId1"/>
          <a:stretch/>
        </p:blipFill>
        <p:spPr>
          <a:xfrm>
            <a:off x="228600" y="21337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19280" y="538200"/>
            <a:ext cx="64800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ll in blanks    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考完型填空的基础训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2236680"/>
            <a:ext cx="756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The local landowner paid for his 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Cook learnt fast and quickly became a_________  seam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320" y="2743200"/>
            <a:ext cx="22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schooling</a:t>
            </a:r>
            <a:r>
              <a:rPr b="1" lang="zh-CN" sz="32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3560" y="419112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s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3573360"/>
            <a:ext cx="741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5228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ep 6 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066680"/>
            <a:ext cx="90676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ake/show/have a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nteres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in…= be/feel/becom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nteres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in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opp:lose interest 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The lion showed a great interest in the leg of 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8128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take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by surpri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吃惊，出其不意地进行突然袭击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) The Japanese planes took the island by surprise on a Sunday mor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)Their visit took me by surpri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10011a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3880" y="457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urprise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其他用法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44792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)in surpris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惊奇地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looked at me in surpri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他吃惊地看着我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3733920"/>
            <a:ext cx="8305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to one's surprise/to the surprise o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某人惊奇的是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my surprise, the door was unlock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使我吃惊的是，门没有锁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0492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s well, too, als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用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As well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也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又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用于肯定句句尾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He knows English, and he knows French as wel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Too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用于肯定句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放在句尾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有时前有逗号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. I can swim, t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Also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多用于书面语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出现在句中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I also w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100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knows English, and he knows French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He knows English as well as Fren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81080" y="2286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charge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的短语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90720"/>
            <a:ext cx="9144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in charge of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负责某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示状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ake charge of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负责管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示动作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g:He began to take charge of the department three years ago.He has been in charge of it for three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4327560"/>
            <a:ext cx="85341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charge of sb./in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b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‘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char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……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department has been in his charge for three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248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free of charge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免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304920"/>
            <a:ext cx="84582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Charge .n.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费用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价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The hotel paid the taxi driver and put the charge on their hotel b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v.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索取费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much do you charge for a ro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pass close by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紧靠…经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Don’t pass close by the fire. It will burn your clot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紧靠火堆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火会烧着你的衣服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18288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a strict but good captain,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o,unusually,took good care of the sailor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429000"/>
            <a:ext cx="8076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eting my uncle after all these years was an unforgettable moment,_____I will always tr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that   B one    C.it     D. 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886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3808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ructure of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flower6" descr=""/>
          <p:cNvPicPr/>
          <p:nvPr/>
        </p:nvPicPr>
        <p:blipFill>
          <a:blip r:embed="rId1"/>
          <a:stretch/>
        </p:blipFill>
        <p:spPr>
          <a:xfrm>
            <a:off x="6705720" y="5475240"/>
            <a:ext cx="243828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45720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ize v. take hold of suddenly and by force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抓住，夺取，占领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警察一把揪住小偷的衣领，把他扔进警车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policeman seized the thief by the collar, and threw him into the police car.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放军突然夜袭，占领了那个城市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PLA men ____________ in a sudden night attack.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exist v. to be; to have life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存在，生存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别的星球上存在生命吗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4343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ized the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80880"/>
            <a:ext cx="9144000" cy="67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Does life exist on other planets?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不要相信他的话，这样的事根本不存在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Don't believe him. Such a thing doesn't exist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map v. to make a map of; show on a ma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绘制……的地图，勘测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库克是第一个把澳大利亚东岸地图绘制出来的人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ook was the first to ________________ of Australia.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探险家把他们发现的岛屿地图绘制出来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explorer __________________ they had discovered.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601992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mapped the isl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4343400"/>
            <a:ext cx="30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map the east coa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f you d________ yourself to something, you use that time for a particular purp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f something is e_______ , it seems as if you will never reach the end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f you have the d___________ to do something , you have made up your mind to do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You must save more money until your d______ is paid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914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1981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d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29718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ear v. to break by pulling apar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撕开，撕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马莉从邮递员手中一接过信，就把它撕开了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s soon as the postman passed her the letter, Mary _____________.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义词辨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aise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ise;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aise v.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个多义词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要有：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 lift up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举起，抬起，增加，提高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 produce, or cause to gro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饲养，抚养，种植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2286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ore it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304920"/>
            <a:ext cx="8839080" cy="67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经理说他要给你长工资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manager said he would _______________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是他一手把孩子们抚养成人的。他妻子几年前就去世了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He _________________ by himself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his wife died years ago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rise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是不及物动词。作起身讲时是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get u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stand u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的正式用语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I used to like seeing _____________.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old man _________________.</a:t>
            </a: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990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aise your p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8195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aised the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556272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the sun ri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6019920"/>
            <a:ext cx="30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rose from his se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860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end 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意思是“以……告终，结果……”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talks between the two sides ended in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be to do sth.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指“计划、职责、义务、约定要做某事”，表示将来时态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is to be a meeting on Saturday aftern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were to meet at the school  g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457200"/>
            <a:ext cx="83055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ok knew that sailors often suffered fever while at s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库克知道水手们在海上时常常会发烧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while at sea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是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while they were at sea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的省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'm sorry  that I  missed seeing   you  whi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a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 Beij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 doing his homework whi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stening to some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Language Foc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Take / show / find an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interest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in…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Pay for one’s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schooling /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Joi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a ship / a club / the navy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vt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Learn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f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Quickly / soo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becom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Skilled / experienced / trained /advanced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adj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Break out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v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304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Take sb. / some plac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by surpri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B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defea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B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seiz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Go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up and down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 the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Set up home in…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With/ for  the purpose of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B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in charge of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 //    ( be in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 charge of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Load …with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Not only A …but also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B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…, as well as B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He, as well as I,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is 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a League memb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Set out/off for…/ leave / start /head for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A total of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Mark on a map the location of …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chart  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Great in size  or important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major   adj.(n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Something important that happened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o live / be / continue liv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exist  v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Fight to protect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defend 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A ship for trading/ carrying goods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merchant 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he skills of sailing at sea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seama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Lo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in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43020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.In 1759 the French army was _________ the city of Quebec, which stood high on a rock ______ the St. Lawrence river. Cook went up and _____ the river in order to _____ all the dangerous rocks. Finally he was able to _____ a _____ for the warships to follow. He led the ships _____ the river to a place where the British army could ____ safely and take the enemy ___ surprise. After a short_____ , the French were ________ and the city of Quebec was 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380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ef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14018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828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43600" y="1828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231624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2819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33526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3809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4343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43434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480060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ef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53341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se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71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ll in the blan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mes Cook was born______________England in 1728. The_____land-owner took______________in him and paid for his ___________.At the age of_____,he joined a ship.Cook learnt fast and quickly became a _____sea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1759 the French army w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city of Quebec, which stood high on a rock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St.Lawrence river. Cook went ___________ the river in order to______ all the dangerous rocks. Finally he was able 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the warships to follow. He led the ship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w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river to a place where the British army could______safely and take the enem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After a shor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French we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the city of Quebec w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609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 the nor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1066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1523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choo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81480" y="16002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1981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k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514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ef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2971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3429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up an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3048120"/>
            <a:ext cx="106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3809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mark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a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lan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5181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y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su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51055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attl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5486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def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e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33520"/>
            <a:ext cx="9144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-What will you do after g__________ ?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My parents suggest that I should go to university first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It is a d__________ not to be able to keep the balance of nature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The villagers will carry out their plan with d___________ that they would cover the desert nearby with green trees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With many factories Shenyang is the centre of i_________area in Liaoning Province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Jane said she would be w______ to help us with our English in any way she could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5335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rad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1523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sadvant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971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419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dustr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952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l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60948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fter the war,Cook married and ________home.In1768 his big chance for a ________expedition came The navy was__________an expedition to the South Pacific Ocean_______the purpose of _________the planet Venus passing between the earth and the sun in 1769.Cook was to be__________   the expedition.He knew sailors often suffered fever and got sick because of the_______________fresh meat,fruit and vegetables.He therefore________the ship______litres of vinegar._____________the normal supplies,he took live animals. They_______________the Pacific in July1768.Cook’s diet of_______food kept most of the sailors healt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609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1066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aj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371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828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1828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a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743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 charg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3581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ack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40384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4114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s well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4952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t out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5257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ro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3808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A 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___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is a person who buys and sells goods for making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he sound [v] does 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_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n Chin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A 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___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s a terrible accident such as  an earthqua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wo policemen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clothes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came to the village in search of the lost gi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我们的足球队打败了亚洲的一些主队，这不是一件奇怪的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334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merch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1447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1981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is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3078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l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410080"/>
            <a:ext cx="845820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t is not a surprise that our football team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efeated some major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teams in 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79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Everyone was s______ by the sudden earthquake but nobody was killed with the help of the PLA men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The old man looked very pale, and seemed to have s_________ a great deal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The line of waiting people seemed to be e_________ before the ticket window and the Smiths had no choice but to stand in line patient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“Why m_______ water is good for heath?” little Tom asked his mother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In China, many universities have i_________ of education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o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ff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666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d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800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5791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stitu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8534520" y="624852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gb3u21" descr=""/>
          <p:cNvPicPr/>
          <p:nvPr/>
        </p:nvPicPr>
        <p:blipFill>
          <a:blip r:embed="rId1"/>
          <a:stretch/>
        </p:blipFill>
        <p:spPr>
          <a:xfrm>
            <a:off x="0" y="0"/>
            <a:ext cx="2803680" cy="2687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971800" y="228600"/>
            <a:ext cx="61722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British explorer and navigator </a:t>
            </a:r>
            <a:r>
              <a:rPr b="1" lang="en-US" sz="2600" spc="-1" strike="noStrike">
                <a:solidFill>
                  <a:srgbClr val="ff3300"/>
                </a:solidFill>
                <a:latin typeface="宋体"/>
              </a:rPr>
              <a:t>James Cook</a:t>
            </a:r>
            <a:r>
              <a:rPr b="1" lang="en-US" sz="2600" spc="-1" strike="noStrike">
                <a:solidFill>
                  <a:srgbClr val="ff00ff"/>
                </a:solidFill>
                <a:latin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sailed around the world twice, made three voyages to the Pacific Ocean, and became the first European to visit Hawaii. Cook sailed to </a:t>
            </a:r>
            <a:r>
              <a:rPr b="1" lang="en-US" sz="2600" spc="-1" strike="noStrike">
                <a:solidFill>
                  <a:srgbClr val="ff3300"/>
                </a:solidFill>
                <a:latin typeface="宋体"/>
              </a:rPr>
              <a:t>Tahiti, New Zealand, Australia, Vancouver Island, and the Hawaiian Islands,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where he was killed in a fight with island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895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aptain C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gb3u22" descr=""/>
          <p:cNvPicPr/>
          <p:nvPr/>
        </p:nvPicPr>
        <p:blipFill>
          <a:blip r:embed="rId2"/>
          <a:stretch/>
        </p:blipFill>
        <p:spPr>
          <a:xfrm>
            <a:off x="0" y="4038480"/>
            <a:ext cx="2819520" cy="248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124080" y="3809880"/>
            <a:ext cx="60199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he fight took place on the Sandwich Islands (now Hawaii) when the explorers and the islanders argued over the theft of a boat. Cook landed on the islands in 1778. This painting is by English artist John Webber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3824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971800" y="6202440"/>
            <a:ext cx="25909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(cit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6126120"/>
            <a:ext cx="2209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 (f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0016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2120" y="3048120"/>
            <a:ext cx="1066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3124080"/>
            <a:ext cx="14479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s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3048120"/>
            <a:ext cx="29718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lled (worker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049800"/>
            <a:ext cx="41911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nd (himself again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6095880"/>
            <a:ext cx="16002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6172200"/>
            <a:ext cx="23623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at, b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242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2819520"/>
            <a:ext cx="17524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2895480"/>
            <a:ext cx="11430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2819520"/>
            <a:ext cx="1066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0:32:42Z</dcterms:created>
  <dc:creator>w</dc:creator>
  <dc:description/>
  <dc:language>en-US</dc:language>
  <cp:lastModifiedBy>w</cp:lastModifiedBy>
  <dcterms:modified xsi:type="dcterms:W3CDTF">2004-08-05T16:26:20Z</dcterms:modified>
  <cp:revision>51</cp:revision>
  <dc:subject/>
  <dc:title>PowerPoint 演示文稿</dc:title>
</cp:coreProperties>
</file>