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253-83DC-4BB3-95CD-AF2FBC6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A13-5347-43B4-A4CC-C419B21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603-CF64-4EAF-9294-8D5CB715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DB6-BD94-427E-B075-E1D09F69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9B5-58C9-4ABA-A48E-24B9D82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A45-B087-4946-B707-E9FBF262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F49-ACE9-4459-8FF6-0918A391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895-C368-4702-BAE4-6B1CAA46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3B5-D121-4BF6-A348-06B6089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75-1591-41C1-9F64-9849353E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A5C-B61E-47BF-8DA0-5370500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BF3-A11E-41D0-83E8-A8E172A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522-E90F-4E52-908F-7E7549D37A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C:\Documents and Settings\Owner\My Documents\writing\juzi.ex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My Documents\writing\thanks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34_hello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924680" cy="1486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1143000" y="762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733920" y="2209680"/>
            <a:ext cx="5029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and,both…and,   not only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 also, neither…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,however,while,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for,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0" y="563868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or,either…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请用合适的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把每组句子合并为一个并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He was tir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went to b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.The child hid behind his mother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kirt.  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7760" y="3048120"/>
            <a:ext cx="6683760" cy="7034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was tired,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ent to b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257800"/>
            <a:ext cx="7620120" cy="13129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ld hid behind his mother's skirt,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7400" y="68256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.He didn’t keep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780408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,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bu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He didn’t keep 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9152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724280"/>
            <a:ext cx="800100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,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44792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复合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是一个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independent sentence)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可以独立存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是一个不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必须和一个主句连用，不能独立存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80600">
            <a:off x="2819160" y="4038480"/>
            <a:ext cx="1981080" cy="152424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80600">
            <a:off x="2742840" y="1905120"/>
            <a:ext cx="1917720" cy="131760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81952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y the time he arriv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e had already lef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指出该复合句的主句和从句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0"/>
            <a:ext cx="1523880" cy="838080"/>
          </a:xfrm>
          <a:prstGeom prst="wedgeRoundRectCallout">
            <a:avLst>
              <a:gd name="adj1" fmla="val -82916"/>
              <a:gd name="adj2" fmla="val 6344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809880"/>
            <a:ext cx="1447920" cy="838440"/>
          </a:xfrm>
          <a:prstGeom prst="wedgeRoundRectCallout">
            <a:avLst>
              <a:gd name="adj1" fmla="val -93532"/>
              <a:gd name="adj2" fmla="val 5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44720" y="1319040"/>
            <a:ext cx="554328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复合句中，主要包含以下类型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762120"/>
            <a:ext cx="5333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学生英文写作中经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使用的从句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3352680" cy="34290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指出下列各从句的类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at everything is all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reading the newspaper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 sings best of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.She was late.(wh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948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用括号中所给的词把每组句子连接为一个复合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962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.I first came to Beijing on that day.(w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2360" y="5257800"/>
            <a:ext cx="6880680" cy="11912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fir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o Beij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124080"/>
            <a:ext cx="6705720" cy="642600"/>
          </a:xfrm>
          <a:prstGeom prst="rect">
            <a:avLst/>
          </a:pr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he was 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88390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把每组句子连接为一个含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状语从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复合句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.I se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时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.He was 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原因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.Nobody can mov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.It’s f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morrow.  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条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lace is quite pleasant.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让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句子的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8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列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ound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114800"/>
            <a:ext cx="6705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合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lex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533520" y="2057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3520" y="4191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when I see hi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because he was 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that nobody can move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if it’s fine tomorr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828800"/>
            <a:ext cx="7621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438280"/>
            <a:ext cx="144756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715000"/>
            <a:ext cx="18288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0"/>
            <a:ext cx="603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下划线的词叫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属连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(subordinating conj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请用所学知识改正下列病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y roommate was sleep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 went to bed.Because I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,  s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I went to bed  because I 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315200" y="1752480"/>
            <a:ext cx="380880" cy="38124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819520"/>
            <a:ext cx="76176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14800"/>
            <a:ext cx="198144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457200" y="6858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7301"/>
                </a:moveTo>
                <a:lnTo>
                  <a:pt x="14156" y="7301"/>
                </a:lnTo>
                <a:lnTo>
                  <a:pt x="14539" y="7667"/>
                </a:lnTo>
                <a:lnTo>
                  <a:pt x="23747" y="7667"/>
                </a:lnTo>
                <a:lnTo>
                  <a:pt x="24304" y="8224"/>
                </a:lnTo>
                <a:lnTo>
                  <a:pt x="24304" y="8772"/>
                </a:lnTo>
                <a:lnTo>
                  <a:pt x="26150" y="8772"/>
                </a:lnTo>
                <a:lnTo>
                  <a:pt x="26515" y="8224"/>
                </a:lnTo>
                <a:lnTo>
                  <a:pt x="27255" y="8224"/>
                </a:lnTo>
                <a:lnTo>
                  <a:pt x="27255" y="13376"/>
                </a:lnTo>
                <a:lnTo>
                  <a:pt x="26515" y="13376"/>
                </a:lnTo>
                <a:lnTo>
                  <a:pt x="26150" y="12828"/>
                </a:lnTo>
                <a:lnTo>
                  <a:pt x="24304" y="12828"/>
                </a:lnTo>
                <a:lnTo>
                  <a:pt x="24304" y="14107"/>
                </a:lnTo>
                <a:lnTo>
                  <a:pt x="14722" y="14107"/>
                </a:lnTo>
                <a:lnTo>
                  <a:pt x="14722" y="9877"/>
                </a:lnTo>
                <a:lnTo>
                  <a:pt x="14539" y="9877"/>
                </a:lnTo>
                <a:lnTo>
                  <a:pt x="14156" y="10243"/>
                </a:lnTo>
                <a:lnTo>
                  <a:pt x="13242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2859120"/>
            <a:ext cx="67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600200"/>
            <a:ext cx="5249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只包含一个主谓结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两个主语和一个谓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ev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 frie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re coming to d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个主语和两个谓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ary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eet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guests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简单句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五种基本句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7848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连系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表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P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weather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i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ughe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O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inese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1828800"/>
            <a:ext cx="266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400" y="40384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i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60958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t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7180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O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9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90720"/>
            <a:ext cx="8305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间接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直接宾语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IO+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taugh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physic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补足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O+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e must keep the room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r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IO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242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O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992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7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说出下列句子类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Summer is co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They won’t let me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He showed me a new TV s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She knows what to 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The weather is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1523880"/>
            <a:ext cx="1153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2286000"/>
            <a:ext cx="161784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600" y="3048120"/>
            <a:ext cx="27669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IO+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5560" y="4343400"/>
            <a:ext cx="16423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5560" y="5029200"/>
            <a:ext cx="15660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057400"/>
            <a:ext cx="26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i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IO+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20120" y="5715000"/>
            <a:ext cx="733320" cy="762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31760 h 762120"/>
              <a:gd name="textAreaBottom" fmla="*/ 56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1039604"/>
                <a:lnTo>
                  <a:pt x="16035" y="19136"/>
                </a:lnTo>
                <a:lnTo>
                  <a:pt x="0" y="17299"/>
                </a:lnTo>
                <a:lnTo>
                  <a:pt x="16035" y="10534"/>
                </a:lnTo>
                <a:lnTo>
                  <a:pt x="16035" y="12469"/>
                </a:lnTo>
                <a:arcTo wR="21600" hR="7467" stAng="1039604" swAng="-644334"/>
                <a:lnTo>
                  <a:pt x="20487" y="9833"/>
                </a:lnTo>
                <a:arcTo wR="21600" hR="7467" stAng="-395270" swAng="-5004730"/>
                <a:close/>
              </a:path>
              <a:path fill="darkenLess"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-395270"/>
                <a:lnTo>
                  <a:pt x="20487" y="9833"/>
                </a:lnTo>
                <a:arcTo wR="21600" hR="7467" stAng="-395270" swAng="-500473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2240" y="1471680"/>
            <a:ext cx="74836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并列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(compound sentence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两个或几个简单句用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连接起来，则成为一个并列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68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turned on the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watch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turned on the TV  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and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watched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bought my sister a   pres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bought my sister a  present,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but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i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2286000" cy="685800"/>
          </a:xfrm>
          <a:prstGeom prst="wedgeEllipseCallout">
            <a:avLst>
              <a:gd name="adj1" fmla="val -82152"/>
              <a:gd name="adj2" fmla="val 8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2286000" cy="685800"/>
          </a:xfrm>
          <a:prstGeom prst="wedgeEllipseCallout">
            <a:avLst>
              <a:gd name="adj1" fmla="val -58680"/>
              <a:gd name="adj2" fmla="val 9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1:59:21Z</dcterms:created>
  <dc:creator>Legend User</dc:creator>
  <dc:description/>
  <dc:language>en-US</dc:language>
  <cp:lastModifiedBy>Legend User</cp:lastModifiedBy>
  <dcterms:modified xsi:type="dcterms:W3CDTF">2002-05-23T22:26:18Z</dcterms:modified>
  <cp:revision>69</cp:revision>
  <dc:subject/>
  <dc:title>PowerPoint 演示文稿</dc:title>
</cp:coreProperties>
</file>