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wind.wav" ContentType="audio/x-wav"/>
  <Override PartName="/ppt/media/type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AF19-252F-4936-BBA5-EAB2E496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FD4-F4B1-43AF-874C-5AF81CCE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C79-4980-4470-AA4B-2581E71C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EBB-8B4A-4CD7-91CA-BBC95419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CF81-F0DE-4196-8A06-88211E04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86CA-BB6E-43CF-A6D3-9767924C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FA87-FE2C-48CB-A29A-6225F529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62C3-B6D7-4953-9EF6-0B283209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9E72-DD98-4468-A9B6-F6503472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BDF7-1E4B-46D7-8114-AE8A0BF4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452C-66B8-4EB0-A768-F191A914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50A9-BC4F-4025-A4B0-AF09B590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9AF7-80A5-4076-B83D-581E8976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01DE-839D-45E0-9D3D-2FF93A36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7CF1-E109-4817-86FF-AC408C47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D046-0E78-41B4-93C1-3CE943FA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CEB6-87CE-4FD3-AF49-43403CCE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05B98-F897-4B04-9E5A-44AB3734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92B6A-B1A2-4BBB-9C1C-C124F363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7490F-2B2E-4853-BE1A-7FA4FB33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7D3F8-F424-44EC-B99D-19222AC6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1425F-0D57-445A-8B15-1550DF19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967-A2B4-4CD7-BA73-F5BBC22F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D5AB2-69F9-4698-B5B6-0C0FB28D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4C956-3C16-4C11-AA63-49561D80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24265-DCB7-44AC-A58B-CB1B2115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ADCF3-93D1-43B0-B0D4-D032E059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918AC-2247-4918-A400-1981990F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B4004-667A-4457-9DAE-FF7F7F5C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9F52E-3752-41F0-927B-7B320DE7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4C038-5FFA-47F5-9874-BA9D316A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56A21-54EC-438E-B818-00831D7D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DAA1B-E2BF-48E1-9A90-5C307F27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5040-73FE-4D5B-86A5-0F6CA087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865D4-250A-4DB3-9ED6-F50C40F2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C7536-95A8-4024-9C48-51788362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DD342-B38B-41B7-880E-5973DE50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5B110-25CC-4C7E-871D-E81A0536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B833B-3793-44DE-8DF6-88463BF2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D10D8-8F31-4993-912C-60A1E493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F84A2-B1A7-4063-B982-3018391E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E7C4B-D645-436E-AA53-E3F0FB51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1BAA6-5A24-4E0B-A552-307C9D6D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BDF0C-B2E1-4AFD-860C-1C595650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537-605A-4080-BCE3-E2CBE45D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2B7AE-F743-413D-B091-06644797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AE613-7CCC-4CE4-A44A-108558CE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DA051-F458-41A2-B001-4EB06044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CEA53-092F-4176-9A55-A20FE9EC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970C5-C3E3-42EE-A806-F0571F38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36950-C48D-4623-9ADD-D2940355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9E03E-2C8A-4E1E-A87C-503D8F69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C4910-2ED1-4B8E-BC0D-45815CBC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84AED-C740-470C-B995-649C0032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01533-98E5-4C58-BFEA-89073DD3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79C-72D2-42E9-916C-7CB7B728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206DE-4BD1-4C71-9055-695B9577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85D2F-DDA2-4D1E-B204-11BED4CD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2CCE5-4D2D-4833-A26F-77E49B38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DBD45-DEFD-413F-AE40-61EB6A34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DC6D7-4B9E-4F7B-9047-47DF6EC4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72A1B-6C2A-450D-A8EA-0E473110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BF4B5-203F-4ACD-9809-549AE08A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5A44E-A7A1-4B4F-8F89-106004B4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2E314-485D-4798-A342-69AB3F58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F75E1-E9AE-42D3-B06C-C94EEEF4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247-EC65-45D9-A9BB-26FADA8B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4AA23-B77A-4A2F-A5C2-2050E4C5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E9BA1-15A9-4849-AC88-A0D27952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8D857-184A-465A-9D98-D0A596E0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FC1-F453-4AEF-9EDB-461E05DA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844D-A0F0-4933-B7B3-4A461BC6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30F3-D80A-4B5E-A5CC-39E2411258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D802-19BB-4E52-9AF0-E3654D0D79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DCD2-3A76-444E-87EA-928A8472539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E5E0-C194-4E87-A9C0-B282560F6ED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3994-BFC4-4577-BC51-488760B7CF35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614D-2C77-4BEF-BA1A-386AB1B4AB9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slide" Target="slide52.xml"/><Relationship Id="rId6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22093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复合句中，修饰某个名词或代词的从句称为定语从句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The Attributive Clause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被定语从句所修饰的名词或代词叫先行词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ntecedent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049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  <a:ea typeface="楷体_GB2312"/>
              </a:rPr>
              <a:t>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  <a:ea typeface="楷体_GB2312"/>
              </a:rPr>
              <a:t>The Attributive Clause(1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57360" y="1947960"/>
            <a:ext cx="7731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a machine. The machine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86240" y="1052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</a:rPr>
              <a:t>先行词和关系词的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96240" y="1947960"/>
            <a:ext cx="7652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a machine. The machine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                                         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60840" y="4076640"/>
            <a:ext cx="2387520" cy="9471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82920" y="4076640"/>
            <a:ext cx="2089080" cy="647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ahoma"/>
              </a:rPr>
              <a:t>a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96240" y="1947960"/>
            <a:ext cx="7652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a machine. The machine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plane is                                           can f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82920" y="4076640"/>
            <a:ext cx="2089080" cy="647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ahoma"/>
              </a:rPr>
              <a:t>a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95840" y="4226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00440" y="4149720"/>
            <a:ext cx="22366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at /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198900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2120" y="1989000"/>
            <a:ext cx="7235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19520" y="422100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2120" y="1989000"/>
            <a:ext cx="7235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5932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2120" y="1989000"/>
            <a:ext cx="7235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7204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5520" y="1989000"/>
            <a:ext cx="76071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   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2260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9760" y="1989000"/>
            <a:ext cx="7514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19320" y="371628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9760" y="1989000"/>
            <a:ext cx="7514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e saw   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3680" y="4221000"/>
            <a:ext cx="78588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7760" y="4221000"/>
            <a:ext cx="15249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ahoma"/>
              </a:rPr>
              <a:t>The gir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引导定语从句的关系代词有：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who , whom , whose , that , whic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系代词的作用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连接定语从句的主句和从句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指代先行词 ，并在从句中充当主语、宾语或定语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ahoma"/>
                <a:ea typeface="华文新魏"/>
              </a:rPr>
              <a:t>关系代词的实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8800" y="1989000"/>
            <a:ext cx="81925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ahoma"/>
              </a:rPr>
              <a:t>Join the following senten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is Mary. We saw h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that / who we saw yesterday is M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5076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95280" y="2708280"/>
          <a:ext cx="7921800" cy="288756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4360"/>
                <a:gridCol w="1584360"/>
                <a:gridCol w="15843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主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宾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i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用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28720" y="20462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代词在从句中可以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18960" y="5805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何时可以省略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5076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95280" y="2708280"/>
          <a:ext cx="7921800" cy="288756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4360"/>
                <a:gridCol w="1584360"/>
                <a:gridCol w="15843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指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主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宾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i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2905920" y="1063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用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54200" y="3354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3712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49840" y="33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3420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3712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2148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420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8112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340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6528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6292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56000" y="3925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45018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24360" y="5149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40360" y="51494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28720" y="20462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代词在从句中可以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8960" y="5805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何时可以省略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0240" y="6237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做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宾语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时可以省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68280" y="10638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用法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3400" y="1844640"/>
            <a:ext cx="9096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eggs were not fresh. I bought them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The friend was not hungry. He came to supper last n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He prefers the cheese. It comes from his parent’s fa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The noodles were delicious. You cooked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I don’t like the people. They smoke a l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1760" y="2276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egg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that/which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 bought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were not fres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6680" y="3137040"/>
            <a:ext cx="104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frie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/ th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ame to supper last night was not hungr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8480" y="3989520"/>
            <a:ext cx="1041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 prefers the chees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 / which 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comes from his parent’s fa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9600" y="4869000"/>
            <a:ext cx="901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noodl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which/ that 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ou cook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were delici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5200" y="5657760"/>
            <a:ext cx="77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don’t like the peopl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 / who the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moke a l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2349360"/>
            <a:ext cx="86364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64000" y="3284640"/>
            <a:ext cx="43164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80000" y="4076640"/>
            <a:ext cx="43200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56360" y="4941720"/>
            <a:ext cx="79200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35640" y="5734080"/>
            <a:ext cx="792000" cy="4316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231000" y="10638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副词和先行词的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5000" y="2133720"/>
            <a:ext cx="913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 still rememb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da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came 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hou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r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lived last y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re are man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y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ople like trave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 don’t lik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wa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you spe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50360" y="2565360"/>
            <a:ext cx="33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day 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6640" y="3429000"/>
            <a:ext cx="37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house=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87800" y="4292640"/>
            <a:ext cx="39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reasons 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53320" y="5229360"/>
            <a:ext cx="30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he way 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5640" y="5877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副词实际上是介词＋先行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先行词为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tuation, case, point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时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, using whe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you think of a situation where you can use the wor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5640" y="1700280"/>
            <a:ext cx="9850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’ll never forget the days______________ w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ork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I’ll never forget the days ___________ w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p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I went to the place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ork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en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I went to the place _____________ 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isit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en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This is the reason _____________________ he was l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the reason _____________________ 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a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87960" y="1628640"/>
            <a:ext cx="24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 /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60120" y="2565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95960" y="335772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/ 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10800" y="427824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1880" y="5070600"/>
            <a:ext cx="24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y/ for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50160" y="593424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/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7964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几种易混的情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89160" y="2997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41520" y="465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65520" y="640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97964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难用的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wh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eacher praised the student. His English is the best in our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933720"/>
            <a:ext cx="90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eacher praised the studen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English 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best in our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77360" y="2133720"/>
            <a:ext cx="56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Join the following pair of sent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33920" y="4724280"/>
            <a:ext cx="39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 =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tuden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5280" y="5300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关系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实际上是先行词的所有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97964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难用的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wh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9280" y="2565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house is mine. The window of the house is brok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7360" y="2133720"/>
            <a:ext cx="56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Join the following pair of sent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200" y="3573360"/>
            <a:ext cx="79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hous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indow is broken is m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13000" y="413388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se=the house’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6400" y="51577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house                                                    is m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4941720"/>
            <a:ext cx="432000" cy="1079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09200" y="4700520"/>
            <a:ext cx="48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he window of which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s bro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0360" y="5734080"/>
            <a:ext cx="48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f which the window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s bro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908000" y="981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非限制性定语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-51120" y="2997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own where I live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li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ere I liv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-82440" y="2122560"/>
            <a:ext cx="96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achers who are kind are popular with the stud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 Wang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o is ki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popular with the stud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77280" y="174780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0" y="4221000"/>
          <a:ext cx="8280360" cy="252720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形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否省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翻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非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8394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Who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ma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visited our school yesterday is Mr Brown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bo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e saw yesterday is Jack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i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o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 went to school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it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908000" y="981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非限制性定语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-51120" y="2997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own where I live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li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ere I liv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-82440" y="2122560"/>
            <a:ext cx="96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achers who are kind are popular with the stud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 Wang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o is ki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popular with the stud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77280" y="174780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0" y="4221000"/>
          <a:ext cx="8280360" cy="252720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形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翻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非限制性定语从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"/>
          <p:cNvSpPr/>
          <p:nvPr/>
        </p:nvSpPr>
        <p:spPr>
          <a:xfrm>
            <a:off x="1692360" y="602136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插入成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11880" y="5141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修饰限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62560" y="6078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补充解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08360" y="6093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36720" y="50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不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38640" y="5084640"/>
            <a:ext cx="8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5289840" y="4292640"/>
            <a:ext cx="1034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能否省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8388360" y="6435720"/>
            <a:ext cx="433440" cy="422280"/>
          </a:xfrm>
          <a:custGeom>
            <a:avLst/>
            <a:gdLst>
              <a:gd name="textAreaLeft" fmla="*/ 27360 w 433440"/>
              <a:gd name="textAreaRight" fmla="*/ 406080 w 4334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2170" h="21600">
                <a:moveTo>
                  <a:pt x="0" y="0"/>
                </a:moveTo>
                <a:lnTo>
                  <a:pt x="22170" y="0"/>
                </a:lnTo>
                <a:lnTo>
                  <a:pt x="22170" y="21600"/>
                </a:lnTo>
                <a:lnTo>
                  <a:pt x="0" y="21600"/>
                </a:lnTo>
                <a:close/>
              </a:path>
              <a:path fill="lightenLess" w="22170" h="21600">
                <a:moveTo>
                  <a:pt x="0" y="0"/>
                </a:moveTo>
                <a:lnTo>
                  <a:pt x="22170" y="0"/>
                </a:lnTo>
                <a:lnTo>
                  <a:pt x="20770" y="1400"/>
                </a:lnTo>
                <a:lnTo>
                  <a:pt x="1400" y="1400"/>
                </a:lnTo>
                <a:close/>
              </a:path>
              <a:path fill="darken" w="22170" h="21600">
                <a:moveTo>
                  <a:pt x="22170" y="0"/>
                </a:moveTo>
                <a:lnTo>
                  <a:pt x="22170" y="21600"/>
                </a:lnTo>
                <a:lnTo>
                  <a:pt x="20770" y="20200"/>
                </a:lnTo>
                <a:lnTo>
                  <a:pt x="20770" y="1400"/>
                </a:lnTo>
                <a:close/>
              </a:path>
              <a:path fill="darkenLess" w="22170" h="21600">
                <a:moveTo>
                  <a:pt x="22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0" y="20200"/>
                </a:lnTo>
                <a:close/>
              </a:path>
              <a:path fill="lighten" w="22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0" h="21600">
                <a:moveTo>
                  <a:pt x="4079" y="3794"/>
                </a:moveTo>
                <a:lnTo>
                  <a:pt x="18092" y="10800"/>
                </a:lnTo>
                <a:lnTo>
                  <a:pt x="407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-82440" y="2122560"/>
            <a:ext cx="96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achers who are kind are popular with the stud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 Wang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o is kind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popular with the studen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63640" y="2060640"/>
            <a:ext cx="223200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35280" y="2637000"/>
            <a:ext cx="1944720" cy="5029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547640" y="119700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分析两种定语从句省略后的结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099800" y="2565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town where I live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li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here I liv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auti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87640" y="2565360"/>
            <a:ext cx="2087640" cy="4334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68360" y="3068640"/>
            <a:ext cx="2087640" cy="4334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547640" y="119700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分析两种定语从句省略后的结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7973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限制性定语从句省略后主语所指就不明确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所以不能省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187280" y="98100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非限制性定语从句和单句的比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5760" y="3213000"/>
            <a:ext cx="84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He failed in the exam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_______ made his parents ang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He failed in the exam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_______made his parents ang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0400" y="5157720"/>
            <a:ext cx="74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He has two son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Both of ________ are teach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.He has two son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both of ________ are teach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389480" y="32130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58080" y="35733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512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790160" y="54450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788000" y="508464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7440" y="400536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9520" y="2708280"/>
            <a:ext cx="85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I am reading Harry Porter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_____is an interesting bo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5960" y="263700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0920" y="59500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He has two sons, both of them teac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0920" y="4437000"/>
            <a:ext cx="95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failed in the exam and this made his parents ang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58920" y="10587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as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引导的非限制性定语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2060640"/>
            <a:ext cx="79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arth is round._____ is known to 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arth is round,_____ is known to 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_____ is known to all, the earth is 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______ is known to all </a:t>
            </a:r>
            <a:r>
              <a:rPr b="1" i="1" lang="en-US" sz="2800" spc="-1" strike="noStrike">
                <a:solidFill>
                  <a:srgbClr val="1c1c1c"/>
                </a:solidFill>
                <a:latin typeface="Tahoma"/>
              </a:rPr>
              <a:t>tha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arth is 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082040" y="204624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12320" y="2770200"/>
            <a:ext cx="124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/ as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2880" y="3773520"/>
            <a:ext cx="60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3120" y="463860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5280" y="5229360"/>
            <a:ext cx="92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具有正如之意，与之搭配的动词一般是固定的，如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you know/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you see/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e planned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we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1280" y="42782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定语从句在句首时只能用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258920" y="10587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as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引导的非限制性定语从句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隶书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55640" y="2708280"/>
            <a:ext cx="5709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the same pen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l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the same p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 l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14040" y="1916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42920" y="341640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本书和我丢的那本一模一样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74720" y="4581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本书就是我丢的那本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258920" y="10587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隶书"/>
              </a:rPr>
              <a:t>as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隶书"/>
              </a:rPr>
              <a:t>引导的限制性定语从句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隶书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5760" y="2565360"/>
            <a:ext cx="869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c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an interesting book ____ we all li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nteresting a book _____ we all li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c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an interesting book ____we all lik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interesting a book ____we all lik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2549520"/>
            <a:ext cx="5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58640" y="42051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6040" y="1916280"/>
            <a:ext cx="85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ease complete the following sentences and comp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648400" y="2981160"/>
            <a:ext cx="5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284080" y="47102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394000" y="358632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是大家都喜欢的如此有趣的一本书。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定语从句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66800" y="531324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这本书如此有趣，大家都喜欢。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结果状语从句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3320" y="2565360"/>
            <a:ext cx="909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m  you spoke     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78560" y="2565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02200" y="34146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5.08553E-006 C 0.00087 -0.02472 0.00173 -0.04923 -0.01788 -0.06194 C -0.0375 -0.07466 -0.08646 -0.07373 -0.11788 -0.07674 C -0.14931 -0.07974 -0.17604 -0.07974 -0.20677 -0.07974 C -0.2375 -0.07974 -0.27604 -0.0772 -0.30226 -0.07674 C -0.32847 -0.07627 -0.34566 -0.08251 -0.36459 -0.07674 C -0.38351 -0.07096 -0.40573 -0.05454 -0.41563 -0.04137 C -0.42552 -0.02819 -0.42257 -0.00531 -0.42448 0.003 E">
                                      <p:cBhvr>
                                        <p:cTn id="402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00069 C -0.00729 -0.01203 -0.01441 -0.02451 -0.02448 -0.0319 C -0.03455 -0.0393 -0.04878 -0.04115 -0.05989 -0.04369 C -0.07101 -0.04624 -0.08073 -0.04577 -0.09114 -0.0467 C -0.10156 -0.04762 -0.10972 -0.0497 -0.12222 -0.0497 C -0.13472 -0.0497 -0.15295 -0.0467 -0.16667 -0.0467 C -0.18038 -0.0467 -0.19323 -0.04924 -0.20434 -0.0497 C -0.21545 -0.05017 -0.22292 -0.05017 -0.23333 -0.0497 C -0.24375 -0.04924 -0.25417 -0.04716 -0.26667 -0.0467 C -0.27917 -0.04624 -0.2967 -0.0467 -0.30885 -0.0467 C -0.32101 -0.0467 -0.33212 -0.04855 -0.33993 -0.0467 C -0.34774 -0.04485 -0.35156 -0.03976 -0.35555 -0.03491 C -0.35955 -0.03006 -0.3618 -0.02312 -0.36441 -0.01711 C -0.36701 -0.0111 -0.36996 -0.0037 -0.37101 0.00069 E">
                                      <p:cBhvr>
                                        <p:cTn id="406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6120" y="2565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96160" y="34146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995840" y="104292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44220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54920" y="299736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Whom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ma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you are going to visit is a famous write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you met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perso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bout whom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he was speaking?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6256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91280" y="3068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3384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06920" y="3068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62200" y="2060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46200" y="3068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989000" y="104292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5840" y="2565360"/>
            <a:ext cx="952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n       who/whom  you spoke     was a scient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city        that/which she lives     is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62200" y="2565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46200" y="34146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40000" y="25059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57000" y="3357000"/>
            <a:ext cx="5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41920" y="191628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 these two sentences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8360" y="44226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可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who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不能用与介词之后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995840" y="104292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249228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s this the watch that you ar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looking fo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old man whom I am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looking afte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is better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7840" y="480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8360" y="442260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固定短语中介词不能提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are for, call on, put off, listen to, look for, look af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26640" y="1916280"/>
            <a:ext cx="25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下面两句中的介词能提前吗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-1112760"/>
            <a:ext cx="9144000" cy="90835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-1035000"/>
            <a:ext cx="9144000" cy="7893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92400" y="47628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. 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you like the book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e spent $10?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  Do you like the boo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e paid $10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  Do you like the boo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he learned a lot?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  Do you like the boo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he often talk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  He built a telescope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e could study the sk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There is a tall tree outside,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tands our teac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  China has a lot of rivers, the second longest 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the Yellow Riv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. The tower _______             people can have a good vie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on the hi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 The man ________ I spoke on the phone last n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very good at wrestl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. He paid the boy $10 for washing ten window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st ______        hadn’t been cleaned for at least a y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788640" y="4572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781080" y="81108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781080" y="11430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om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96560" y="152388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out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78920" y="190512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rough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267800" y="227664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nder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45440" y="26668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52000" y="340344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om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039040" y="412416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 wh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51240" y="52293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 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89480" y="0"/>
            <a:ext cx="402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介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关系代词的情况       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-10440" y="1881360"/>
            <a:ext cx="9268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He did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all / everyth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_______he could to help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This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very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ng _______ I am af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We talked about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men and the thing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_______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remembered at scho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He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on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man _______ can do the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.This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fir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hing _______ I want to s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.He is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e fine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man _______ I have ever work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s the man _______ spoke to you at the g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Whic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s the star _______ is nearest to the ear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054160" y="1049400"/>
            <a:ext cx="37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t , which or wh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>
            <a:hlinkClick r:id="rId1" action="ppaction://hlinksldjump"/>
          </p:cNvPr>
          <p:cNvSpPr/>
          <p:nvPr/>
        </p:nvSpPr>
        <p:spPr>
          <a:xfrm>
            <a:off x="4573800" y="197316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>
            <a:hlinkClick r:id="rId2" action="ppaction://hlinksldjump"/>
          </p:cNvPr>
          <p:cNvSpPr/>
          <p:nvPr/>
        </p:nvSpPr>
        <p:spPr>
          <a:xfrm>
            <a:off x="4567320" y="24922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>
            <a:hlinkClick r:id="rId3" action="ppaction://hlinksldjump"/>
          </p:cNvPr>
          <p:cNvSpPr/>
          <p:nvPr/>
        </p:nvSpPr>
        <p:spPr>
          <a:xfrm>
            <a:off x="7453440" y="29242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97440" y="386064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213440" y="44226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>
            <a:hlinkClick r:id="rId4" action="ppaction://hlinksldjump"/>
          </p:cNvPr>
          <p:cNvSpPr/>
          <p:nvPr/>
        </p:nvSpPr>
        <p:spPr>
          <a:xfrm>
            <a:off x="4206960" y="48690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65800" y="58626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>
            <a:hlinkClick r:id="rId5" action="ppaction://hlinksldjump"/>
          </p:cNvPr>
          <p:cNvSpPr/>
          <p:nvPr/>
        </p:nvSpPr>
        <p:spPr>
          <a:xfrm>
            <a:off x="3565800" y="63658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47840" y="33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397160" y="1049400"/>
            <a:ext cx="62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t , which ,whose, whom or wh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9400" y="2205000"/>
            <a:ext cx="981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9.Is there anything el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u want to sa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.Any pers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s the money can join the grou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1.He often speaks the role he played in the play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de others up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2.He opened the door, in front o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t a bo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3.The man t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 spoke is a famous scienti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.The bo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ther is dead was brought u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y his fa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02520" y="22050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61080" y="276552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>
            <a:hlinkClick r:id="rId1" action="ppaction://hlinksldjump"/>
          </p:cNvPr>
          <p:cNvSpPr/>
          <p:nvPr/>
        </p:nvSpPr>
        <p:spPr>
          <a:xfrm>
            <a:off x="250920" y="364500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>
            <a:hlinkClick r:id="rId2" action="ppaction://hlinksldjump"/>
          </p:cNvPr>
          <p:cNvSpPr/>
          <p:nvPr/>
        </p:nvSpPr>
        <p:spPr>
          <a:xfrm>
            <a:off x="6227640" y="4149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74520" y="465300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341800" y="51577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3" name="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7308720" y="6058080"/>
            <a:ext cx="122400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525960" y="2997360"/>
            <a:ext cx="729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先行词是不定代词时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如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ll ,few, little, much,  every, something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nything, everything,  none, one, any,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68720" y="1120680"/>
            <a:ext cx="40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684360" y="4797360"/>
            <a:ext cx="54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nything that I can do for you in tow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250920" y="292428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先行词被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e only, the very, the sam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ittle, few, no, any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等修饰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68720" y="1120680"/>
            <a:ext cx="40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1280" y="429264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only film I find interes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hat    </a:t>
            </a:r>
            <a:r>
              <a:rPr b="0" i="1" lang="en-US" sz="4800" spc="-1" strike="noStrike">
                <a:solidFill>
                  <a:srgbClr val="ff0033"/>
                </a:solidFill>
                <a:latin typeface="Arial"/>
              </a:rPr>
              <a:t>(people</a:t>
            </a:r>
            <a:r>
              <a:rPr b="0" i="1" lang="zh-CN" sz="4800" spc="-1" strike="noStrike">
                <a:solidFill>
                  <a:srgbClr val="ff0033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’s ask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ma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reading the book over ther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girl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e saw yesterday is Jim’s siste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人和物合做先行词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68720" y="1120680"/>
            <a:ext cx="40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16000" y="3357720"/>
            <a:ext cx="54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talked about the teachers and schools that he had visi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当先行词被序数词或形容词最高级修饰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476360" y="1120680"/>
            <a:ext cx="56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16000" y="4067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best film that I’ve ever s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476360" y="5013360"/>
            <a:ext cx="590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87280" y="4581360"/>
            <a:ext cx="60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first place that I visited last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疑问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o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ich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at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开头的句子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76360" y="1120680"/>
            <a:ext cx="56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258920" y="3933720"/>
            <a:ext cx="51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is the man that is speaking over t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关系代词在从句中作表语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1258920" y="342900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no longer the boy that he was 10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50920" y="292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非限制性定语从句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284200" y="1120680"/>
            <a:ext cx="43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ich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611280" y="2852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在介词后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237360"/>
            <a:ext cx="304560" cy="36180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2304360" y="1120680"/>
            <a:ext cx="428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只能用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ich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做关系代词的情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116000" y="3573360"/>
            <a:ext cx="6985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that we live in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we live in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in which we live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use which we live in is not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先行词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ose, he, she , anyone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等代词表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关系代词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,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般不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ose who want to go there must be at the school gate by 7:00 p.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 who doesn’t reach the Great Wall is not a true m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762120" y="685800"/>
            <a:ext cx="7696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结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先行词有下列情况时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通常 用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that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而  不用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ich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1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先行词是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ll, something, much,  little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不定代词时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2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先行词前有序数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形容词最高级或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no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ny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词时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先行词前有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the last,the very, the only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3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如果先行词中既含有表示人的名词又有表示物的名词时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4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若主句中有疑问代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o,which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为了避免重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关系代词不要再用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o,whi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79280" y="2048400"/>
            <a:ext cx="856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 I know the reason 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 he came l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Do you know the woman, _______son went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ollege las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he house _______ color is red is john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 This is the best film 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 I’ve ever s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00720" y="101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02280" y="256536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767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76720" y="289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240440" y="400536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581200" y="350028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04560" y="197964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9280" y="1803960"/>
            <a:ext cx="85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. That’s the town 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_ he worked in 198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. I have 2 brothers, 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 are both soldi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7. Next week, 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 you’ll spend in yo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ometown ,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. I’ve tried 2 pairs of shoes, neither of 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＿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__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its me w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00720" y="101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67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289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470760" y="177336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51720" y="227664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68960" y="378936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92240" y="278136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That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ff0033"/>
                </a:solidFill>
                <a:latin typeface="Arial"/>
              </a:rPr>
              <a:t>(things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plane is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 machin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cake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hat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 cooked were deliciou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95280" y="432360"/>
            <a:ext cx="834552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33cc"/>
              </a:buClr>
              <a:buFont typeface="Monotype Corsiv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Tell me the reason ____ you were late for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2. Who is the girl _____ is speaking there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3. This is Mr. Smith, _____ has something interesting to tell y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4. The computer ________ CPU doesn’t work has to b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repai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466800" y="1413000"/>
            <a:ext cx="9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88080" y="220500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91360" y="306864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85920" y="422100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210960" y="464040"/>
            <a:ext cx="89330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5. This kind of computer, _____ is well-known 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is out of d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6. This is just the place ___ I’ve been long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o visit for y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7. His mother is an engineer, ____ makes hi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very pro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8. The old man has 4 sons, three of ____ 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        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doc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76560" y="54936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00800" y="198900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11520" y="342900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27680" y="486900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99840" y="1484280"/>
            <a:ext cx="802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1.The earth is round, _________ is known to 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61160" y="270828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2. ____ is known to all, the earth is 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195440" y="138096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345280" y="13809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80560" y="248292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8360" y="4437000"/>
            <a:ext cx="92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 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具有“正如”之意，搭配的动词一般是固定的，如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you know/ </a:t>
            </a: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you see/</a:t>
            </a: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we planned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a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we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0"/>
            <a:ext cx="893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0920" y="836640"/>
            <a:ext cx="849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结论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: as ,which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均可引导非限制性定语从句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,as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引导的从句可以放在句首、句中、句末，有“如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.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正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…”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之意， 与之连用的词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know, see, expect, announce, point out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等，常用被动结构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is announced(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据宣布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is reporte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据报道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is expected(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正如所期待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料想的那样；不出所料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 has been explaine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正如所解释的那样）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04920" y="692280"/>
            <a:ext cx="85406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may be imagined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pointed out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has been said before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mentioned above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shown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is known to all,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 we all know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hich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引导的从句通常置句后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此外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the same…as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uch….as…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中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s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引导的是限制性定语从句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-24120" y="1052640"/>
            <a:ext cx="91796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1.I’ll never forget the days______________ we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worked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ogeth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2.I’ll never forget the days ___________ we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spent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ogeth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3.I went to the place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                      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I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worked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en years ag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4.I went to the place _____________ I </a:t>
            </a:r>
            <a:r>
              <a:rPr b="1" lang="en-US" sz="2600" spc="-1" strike="noStrike" u="sng">
                <a:solidFill>
                  <a:srgbClr val="0033cc"/>
                </a:solidFill>
                <a:uFillTx/>
                <a:latin typeface="Times New Roman"/>
              </a:rPr>
              <a:t>visited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ten years ag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5.This is the reason _____________________ he was lat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6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s is the reason _____________________ 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gav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83240" y="981000"/>
            <a:ext cx="24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 /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069440" y="1773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91240" y="256536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/ 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0160" y="33577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990520" y="4221000"/>
            <a:ext cx="24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y/ for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34160" y="49417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/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18912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97120" y="39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49480" y="5589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ahoma"/>
              </a:rPr>
              <a:t>及物动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78360" y="331920"/>
            <a:ext cx="33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关系代词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?             </a:t>
            </a: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关系副词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591192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7. I’ll never forget the day ____ we visited the 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067280" y="5877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-108720" y="705240"/>
            <a:ext cx="9738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 Difference Between “that” and “which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Complete the following sentences with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“that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r “which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s is the 2nd article ____ I have writt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in Engl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2. It is the best film _____ he has ever s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3. This is the very book _____ I want to re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4. All ____ they told me surprised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5. They talked about the teachers and schoo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_____ they had visi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32440" y="263700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26280" y="357336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32440" y="414504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32080" y="458136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36800" y="551664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-589320" y="1342440"/>
            <a:ext cx="1089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BatangChe"/>
              <a:buAutoNum type="arabicPeriod" startAt="9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He paid the boy $10 for washing the window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most of _______ hadn’t been cleaned at lea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a y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10. The weather turned out to be very good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_______ was more than we could exp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11. The clever boy made a hole in the wall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through _______ he could see what was going 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           </a:t>
            </a:r>
            <a:r>
              <a:rPr b="1" lang="en-US" sz="2800" spc="-1" strike="noStrike">
                <a:solidFill>
                  <a:srgbClr val="0033cc"/>
                </a:solidFill>
                <a:latin typeface="BatangChe"/>
                <a:ea typeface="BatangChe"/>
              </a:rPr>
              <a:t>inside the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300720" y="6018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315880" y="206064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71800" y="350028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71520" y="443700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h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12760" y="44280"/>
            <a:ext cx="893124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Correct mistakes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.I saw some trees leaves of which were black with diseas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ff"/>
                </a:solidFill>
                <a:latin typeface="Times New Roman"/>
              </a:rPr>
              <a:t>在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leaves </a:t>
            </a:r>
            <a:r>
              <a:rPr b="1" lang="zh-CN" sz="3000" spc="-1" strike="noStrike">
                <a:solidFill>
                  <a:srgbClr val="cc00ff"/>
                </a:solidFill>
                <a:latin typeface="Times New Roman"/>
              </a:rPr>
              <a:t>前加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the 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2.Here is the pen you lost it yesterday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ff"/>
                </a:solidFill>
                <a:latin typeface="Times New Roman"/>
              </a:rPr>
              <a:t>去掉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i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3.The girl told me the news is not here now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Adding “who” before tol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4.This is the village where my father worked in three  years   ago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①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cc00ff"/>
                </a:solidFill>
                <a:latin typeface="Times New Roman"/>
              </a:rPr>
              <a:t>Chang “where into “which”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② 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omitted “i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9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9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3000" fill="hold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3000" fill="hold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6" dur="30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2000" fill="hold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2000" fill="hold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.The reason why he gave us sounded a little strang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hange” why” into “that/which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6.He is the only one of the students who know  French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now” should be changed into “knows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7.I’ll never forget the day on which I spent with you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mit “on” or “on which” should be omitte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8.Which was planned, we met at the railway station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ich” should be changed into “as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9.This is the teacher with whom we’ve learnt a lo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ith” should be turned into “from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.Is this farm we visited last year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dding “the one” after thi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20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9" dur="2000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2000" fill="hold"/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2000" fill="hold"/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2000" fill="hold"/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2000" fill="hold"/>
                                        <p:tgtEl>
                                          <p:spTgt spid="6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8" dur="2000"/>
                                        <p:tgtEl>
                                          <p:spTgt spid="6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Whic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me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ook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ic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whit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fis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which)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e bought were not fresh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 The film brought the hours back to me ___I was taken good care of in that far-away villag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until   B. that   C. when  D. whe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___ is known to everybody, the moon travels round the earth once every month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It  B. As  C. That   D. Wh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orothy was always speaking highly of her role in the play, ___ , of course, made the others unhappy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who   B. which   C. this   D. what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11280" y="11970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26920" y="2637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64000" y="472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304920" y="259920"/>
            <a:ext cx="854064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介词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关系代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由先行词的习惯搭配或根据先行词的需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speed at which light travels is 300,000km  per secon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room in which there is a blackboard is their classroom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介词可能是从句谓语的一个部分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或动词所需要的搭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on’t bring children to see the animals of which they are afrai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s is the job at which they laughe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540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表示所有关系或整体的一部分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用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 wh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ina has hundreds of islands, the largest of which is Taiwa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 have many friends, ___ some are busines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of them   B. from which   C. who of  D. of whom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ome, any, several, many, most, all, both, neither, none, half, one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等和形容词比较级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最高级之后接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 whom / which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356000" y="2205000"/>
            <a:ext cx="100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242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North Island is famous for an area of hot springs, some of which throw hot water high into the air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re are altogether 11 books on the shelf, ___ five are min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on which   B. in which   C. of which  D. from wh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re are 2 buildings, ___ stands nearly 100 feet high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 the larger  B. the larger of them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. the larger one that   D. the larger of wh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55640" y="2421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859280" y="39337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Arial"/>
              </a:rPr>
              <a:t>Fill in the blanks with “prep + whom/which” .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406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teacher ____ _______ I learnt most was Mrs. Zhu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hat’s the name of the sport _____ ______ you go in a boat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athematics is the subject ______  _______ I am most interested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s is the question ______  __________ we have had a discussio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s is the house __________  _________ I was bor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03640" y="112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rom      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651640" y="3284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651640" y="328464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00720" y="436572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bout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00720" y="5373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88000" y="213372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540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is is the pen ________  _______ I wrote the lette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 that the girl ________  ________ you lent your bicycle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ere is the address _______  _______ you should writ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se are the things _______  ________ I spoke just now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s that the fish _______  _______ you asked the waiter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427640" y="333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ith             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140360" y="162864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o     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59280" y="27082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o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59280" y="371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bout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635280" y="4869000"/>
            <a:ext cx="331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51280" y="4869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or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40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moon is a ball ______  _______ there are no living thing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ater is very important to fish, _______  _____ it can't liv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e love the village _______  _______ we work for two year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eter,______  ______ I played tennis on Sundays, was stronger than I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859280" y="1341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n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516720" y="2349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ith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042920" y="2924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72000" y="3429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             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16360" y="4508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ith 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5406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man is in the next room. He brought us the letter yesterday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film is interesting. They saw it last nigh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pen is mine. He has taken it away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students will not pass the exam. They don’t work hard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lady is our teacher. You saw her just now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00000" y="90792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man who brought us the letter yesterday is in the next ro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971640" y="2349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film they saw last night is interes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26920" y="328464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pen he has taken away is m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84360" y="4581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students who don’t work hard will not pass the ex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26920" y="5950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lady who you saw just now is our teac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46836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The ma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who lives next to us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sells vegeta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116000" y="1916280"/>
            <a:ext cx="71280" cy="936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0840" y="3279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先行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924360" y="1916280"/>
            <a:ext cx="647640" cy="7207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403080" y="2727360"/>
            <a:ext cx="37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放置于名词之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修饰名词的从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556000" y="1844640"/>
            <a:ext cx="144360" cy="23050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06320" y="42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400560" y="408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19640" y="4076640"/>
            <a:ext cx="144360" cy="865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81120" y="3782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连接作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05280" y="3808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04560" y="481644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428080" y="47912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在从句中充当成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70664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1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72648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258920" y="1557360"/>
            <a:ext cx="431640" cy="3744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97560 h 3744720"/>
              <a:gd name="textAreaBottom" fmla="*/ 3647160 h 37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04720" y="98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12400" y="90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代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620720" y="4940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372760" y="4935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关系副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348000" y="47628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44920" y="35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73120" y="331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544920" y="1287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73120" y="1339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65440" y="2203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682520" y="2198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某一情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68560" y="351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941440" y="331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716360" y="763560"/>
            <a:ext cx="10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868720" y="7635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860720" y="13399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25080" y="1339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0" y="13590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633280" y="2224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003080" y="2224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651280" y="2637000"/>
            <a:ext cx="360360" cy="287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160240" y="2846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不能放于句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236000" y="2708280"/>
            <a:ext cx="72720" cy="1152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26520" y="3984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放于句中或句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557120" y="42926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正如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81080" y="49402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078520" y="49402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588000" y="5013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864800" y="17002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主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宾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91480" y="537228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状语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rry is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o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mother is our maths teach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saw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re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leaves were bla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saw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ome tre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he leave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f whi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were bla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saw some trees,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f whi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he leaves were bla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24000" y="3075120"/>
            <a:ext cx="85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Thank you for your attendan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（介词后置）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m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se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系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at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词后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词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ich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at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词后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ose 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f which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066680"/>
            <a:ext cx="228600" cy="4496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7000 h 4496040"/>
              <a:gd name="textAreaBottom" fmla="*/ 4379040 h 449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533520"/>
            <a:ext cx="228600" cy="2574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6960 h 2574720"/>
              <a:gd name="textAreaBottom" fmla="*/ 2507760 h 257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4495680"/>
            <a:ext cx="228600" cy="1812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160 h 1812960"/>
              <a:gd name="textAreaBottom" fmla="*/ 1765800 h 181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5181480"/>
            <a:ext cx="1523880" cy="1451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 SYSTEM</cp:lastModifiedBy>
  <dcterms:modified xsi:type="dcterms:W3CDTF">2005-09-13T14:02:35Z</dcterms:modified>
  <cp:revision>25</cp:revision>
  <dc:subject/>
  <dc:title>PowerPoint Presentation</dc:title>
</cp:coreProperties>
</file>