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5AB-5C37-4747-81F8-F665E713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66C-6DF0-4C0A-8424-96EA8FB8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6C3-E541-439F-B755-93BE17B8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79A-E675-45E8-BB95-CCBDAC2CB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D91C-9224-447E-9811-3FBCD87A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16C-38C7-4145-B397-4E09D5C5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594-A3C7-4AF3-85B0-77EBDBE0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415-511F-4BDB-8AA7-75660A35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17E-BB19-4F49-AF49-D9A21FD1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DED-89E8-49CF-B8CB-9C42F316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0BC-7765-4F69-AC2A-5ADF4D11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6B2-E962-4129-9A45-BC4F28E9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61C4-0864-4B35-BDB5-AC4E92DA6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首页大" descr=""/>
          <p:cNvPicPr/>
          <p:nvPr/>
        </p:nvPicPr>
        <p:blipFill>
          <a:blip r:embed="rId2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9360" y="914400"/>
            <a:ext cx="6727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lay a ga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Today is Sunday . Liu Mei is very busy today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Her mother is not at home . So she has to d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lot of  things  . What does she have to do ?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you gues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3962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3600" y="29718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oes she have to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2819520"/>
          <a:ext cx="8001000" cy="2819160"/>
        </p:xfrm>
        <a:graphic>
          <a:graphicData uri="http://schemas.openxmlformats.org/drawingml/2006/table">
            <a:tbl>
              <a:tblPr/>
              <a:tblGrid>
                <a:gridCol w="1398600"/>
                <a:gridCol w="2602080"/>
                <a:gridCol w="1299960"/>
                <a:gridCol w="2700360"/>
              </a:tblGrid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She / He  has to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533160" y="1371600"/>
            <a:ext cx="761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Find out three thing your friends have to do at hom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rite down their answers in the for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首页大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865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9720" y="304920"/>
            <a:ext cx="4152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does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s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tidy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9240" y="213372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in Tao :      tidy the garde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05120"/>
            <a:ext cx="510516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0320" y="281952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Bruce :         stay at ho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4840" y="3571920"/>
            <a:ext cx="49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James :        do his home work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1040" y="4343400"/>
            <a:ext cx="54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ucy :          help with the cooking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0320" y="5105520"/>
            <a:ext cx="50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Kate :          look after the bab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1040" y="586728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om :          do the washing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21640" y="219240"/>
            <a:ext cx="59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ill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Ann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do tomorr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6040" y="838080"/>
            <a:ext cx="30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She </a:t>
            </a:r>
            <a:r>
              <a:rPr b="1" lang="en-US" sz="2800" spc="-1" strike="noStrike" u="sng">
                <a:solidFill>
                  <a:srgbClr val="ffff66"/>
                </a:solidFill>
                <a:uFillTx/>
                <a:latin typeface="Times New Roman"/>
              </a:rPr>
              <a:t>will have to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7840" y="1447920"/>
            <a:ext cx="57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o some shopping with her Momm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4479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ff33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</a:rPr>
              <a:t>(Mumm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7120" y="2057400"/>
            <a:ext cx="465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ing her friends to her party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743200"/>
            <a:ext cx="9144000" cy="763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6760" y="2895480"/>
            <a:ext cx="55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will her Mommy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5680" y="335268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some shopp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73392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pare for the foo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9720" y="414972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k the meal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352680"/>
            <a:ext cx="3124080" cy="1219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0560" y="4714920"/>
            <a:ext cx="534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at will her friends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400" y="52228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y the presents for 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400" y="5680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 to her part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5181480"/>
            <a:ext cx="3657600" cy="129564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8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图1-400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3414600"/>
          </a:xfrm>
          <a:prstGeom prst="rect">
            <a:avLst/>
          </a:prstGeom>
          <a:ln w="0">
            <a:noFill/>
          </a:ln>
        </p:spPr>
      </p:pic>
      <p:pic>
        <p:nvPicPr>
          <p:cNvPr id="69" name="图1-400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0200" y="119376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y can’t she co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0200" y="1523880"/>
            <a:ext cx="39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has to help her Mommy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640" y="1905120"/>
            <a:ext cx="370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at does she have to d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2000" y="2286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has to help with the wash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120" y="266688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s she coming la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304812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She will come if she ca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143000"/>
            <a:ext cx="5333760" cy="236232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800" y="3776760"/>
            <a:ext cx="844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where’s Meime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 can’t come .She has to help her Mommy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What does she have to d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 has to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elp with the washing</a:t>
            </a: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Is she coming la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ILY   : She’ll come if she ca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LUCY : Oh well , Let’s ask Wei Hua instead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2-400" descr=""/>
          <p:cNvPicPr/>
          <p:nvPr/>
        </p:nvPicPr>
        <p:blipFill>
          <a:blip r:embed="rId2"/>
          <a:stretch/>
        </p:blipFill>
        <p:spPr>
          <a:xfrm flipH="1">
            <a:off x="-360" y="2133720"/>
            <a:ext cx="3048120" cy="2590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79" name="图3-400" descr=""/>
          <p:cNvPicPr/>
          <p:nvPr/>
        </p:nvPicPr>
        <p:blipFill>
          <a:blip r:embed="rId3"/>
          <a:stretch/>
        </p:blipFill>
        <p:spPr>
          <a:xfrm>
            <a:off x="3048120" y="2133720"/>
            <a:ext cx="3047760" cy="2624040"/>
          </a:xfrm>
          <a:prstGeom prst="rect">
            <a:avLst/>
          </a:prstGeom>
          <a:ln w="0">
            <a:noFill/>
          </a:ln>
        </p:spPr>
      </p:pic>
      <p:pic>
        <p:nvPicPr>
          <p:cNvPr id="80" name="图4-400" descr=""/>
          <p:cNvPicPr/>
          <p:nvPr/>
        </p:nvPicPr>
        <p:blipFill>
          <a:blip r:embed="rId4"/>
          <a:stretch/>
        </p:blipFill>
        <p:spPr>
          <a:xfrm>
            <a:off x="6095880" y="2133720"/>
            <a:ext cx="3048120" cy="2625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133720"/>
            <a:ext cx="2971800" cy="259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2133720"/>
            <a:ext cx="3124080" cy="259056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133720"/>
            <a:ext cx="304812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5-400" descr=""/>
          <p:cNvPicPr/>
          <p:nvPr/>
        </p:nvPicPr>
        <p:blipFill>
          <a:blip r:embed="rId2"/>
          <a:stretch/>
        </p:blipFill>
        <p:spPr>
          <a:xfrm>
            <a:off x="2666880" y="1657440"/>
            <a:ext cx="3962520" cy="3543120"/>
          </a:xfrm>
          <a:prstGeom prst="rect">
            <a:avLst/>
          </a:prstGeom>
          <a:ln w="0">
            <a:noFill/>
          </a:ln>
        </p:spPr>
      </p:pic>
      <p:pic>
        <p:nvPicPr>
          <p:cNvPr id="86" name="图5-400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3048120" cy="2362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119376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What does he have to do 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0200" y="1523880"/>
            <a:ext cx="50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I’m not sure . I think he may hav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finish his homewor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143000"/>
            <a:ext cx="5333760" cy="129528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9960" y="2971800"/>
            <a:ext cx="8737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where’s Li Lei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He can’t make it today. He has to stay at hom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I’m not sure . I think he may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have to help 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Dad in the garde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Is he coming late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BILL   : He’ll come if he ca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JIM     : Oh well , we’ll have to ask Zhang Li instead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8-400" descr=""/>
          <p:cNvPicPr/>
          <p:nvPr/>
        </p:nvPicPr>
        <p:blipFill>
          <a:blip r:embed="rId2"/>
          <a:stretch/>
        </p:blipFill>
        <p:spPr>
          <a:xfrm>
            <a:off x="6095880" y="2133720"/>
            <a:ext cx="3048120" cy="2625480"/>
          </a:xfrm>
          <a:prstGeom prst="rect">
            <a:avLst/>
          </a:prstGeom>
          <a:ln w="0">
            <a:noFill/>
          </a:ln>
        </p:spPr>
      </p:pic>
      <p:pic>
        <p:nvPicPr>
          <p:cNvPr id="93" name="图7-400" descr=""/>
          <p:cNvPicPr/>
          <p:nvPr/>
        </p:nvPicPr>
        <p:blipFill>
          <a:blip r:embed="rId3"/>
          <a:stretch/>
        </p:blipFill>
        <p:spPr>
          <a:xfrm>
            <a:off x="2971800" y="2133720"/>
            <a:ext cx="3124080" cy="26254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133720"/>
            <a:ext cx="2971800" cy="2590560"/>
          </a:xfrm>
          <a:prstGeom prst="rect">
            <a:avLst/>
          </a:pr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2133720"/>
            <a:ext cx="3124080" cy="2590560"/>
          </a:xfrm>
          <a:prstGeom prst="rect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2133720"/>
            <a:ext cx="3048120" cy="259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6-400" descr=""/>
          <p:cNvPicPr/>
          <p:nvPr/>
        </p:nvPicPr>
        <p:blipFill>
          <a:blip r:embed="rId4"/>
          <a:stretch/>
        </p:blipFill>
        <p:spPr>
          <a:xfrm>
            <a:off x="0" y="2133720"/>
            <a:ext cx="297180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31800" y="333360"/>
            <a:ext cx="610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esson 94 the ninety-fourth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51720" y="1828800"/>
            <a:ext cx="336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ere’re the twin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They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0640" y="3886200"/>
            <a:ext cx="21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Where’s …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He | Sh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9T01:33:02Z</dcterms:created>
  <dc:creator>eetdc</dc:creator>
  <dc:description/>
  <dc:language>en-US</dc:language>
  <cp:lastModifiedBy>wb</cp:lastModifiedBy>
  <dcterms:modified xsi:type="dcterms:W3CDTF">2001-04-30T05:36:36Z</dcterms:modified>
  <cp:revision>18</cp:revision>
  <dc:subject/>
  <dc:title>PowerPoint 演示文稿</dc:title>
</cp:coreProperties>
</file>