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2B2-9CD3-4260-AA4E-B443F0FB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3A4-98DE-49A0-BCCF-A7C270D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F01-D21F-446F-9AE6-DC734B35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B60-A50B-460F-A691-A8412B91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F4C-85E7-4981-8B43-EA3355B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C58-69EB-4896-A45A-B4B2F53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9AE-A0DE-4939-880E-C1B9F41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12B-4CDE-4E73-A2C6-B73B0CB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C21-2422-4C43-98DF-DB6ECC2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922-39CB-437C-B5B7-9EB6319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E1E-B9FB-4A63-955B-602F354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892-D8CB-4DBB-B82A-EEA0081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7705-F0CB-4089-8C28-C313D340BF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838080"/>
            <a:ext cx="4800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on 58  What is a healthy di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2767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9625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648320"/>
            <a:ext cx="289584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100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58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X_007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152388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RW_002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24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J_0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838080"/>
            <a:ext cx="16002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981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.Revise the names of ill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.Ask some students to act the dialo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Y_044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33344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RY_402" descr=""/>
          <p:cNvPicPr/>
          <p:nvPr/>
        </p:nvPicPr>
        <p:blipFill>
          <a:blip r:embed="rId3"/>
          <a:stretch/>
        </p:blipFill>
        <p:spPr>
          <a:xfrm>
            <a:off x="0" y="4724280"/>
            <a:ext cx="23241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7724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6094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ell me some names of Chinese food and Wester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657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133720"/>
          <a:ext cx="7707240" cy="3149640"/>
        </p:xfrm>
        <a:graphic>
          <a:graphicData uri="http://schemas.openxmlformats.org/drawingml/2006/table">
            <a:tbl>
              <a:tblPr/>
              <a:tblGrid>
                <a:gridCol w="3809880"/>
                <a:gridCol w="3897360"/>
              </a:tblGrid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,green vege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aozi, noodles,spring rolls,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ato crisps,butte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m ,sweets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,soft drinks and me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pic>
        <p:nvPicPr>
          <p:cNvPr id="61" name="SG_014" descr=""/>
          <p:cNvPicPr/>
          <p:nvPr/>
        </p:nvPicPr>
        <p:blipFill>
          <a:blip r:embed="rId1"/>
          <a:stretch/>
        </p:blipFill>
        <p:spPr>
          <a:xfrm>
            <a:off x="2209680" y="5349960"/>
            <a:ext cx="1295640" cy="1508040"/>
          </a:xfrm>
          <a:prstGeom prst="rect">
            <a:avLst/>
          </a:prstGeom>
          <a:ln w="0">
            <a:noFill/>
          </a:ln>
        </p:spPr>
      </p:pic>
      <p:pic>
        <p:nvPicPr>
          <p:cNvPr id="62" name="SP_089" descr=""/>
          <p:cNvPicPr/>
          <p:nvPr/>
        </p:nvPicPr>
        <p:blipFill>
          <a:blip r:embed="rId2"/>
          <a:stretch/>
        </p:blipFill>
        <p:spPr>
          <a:xfrm>
            <a:off x="6172200" y="5410080"/>
            <a:ext cx="179856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M_002" descr=""/>
          <p:cNvPicPr/>
          <p:nvPr/>
        </p:nvPicPr>
        <p:blipFill>
          <a:blip r:embed="rId1"/>
          <a:stretch/>
        </p:blipFill>
        <p:spPr>
          <a:xfrm>
            <a:off x="-2014560" y="-1685880"/>
            <a:ext cx="13173120" cy="10229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Read the passage and make notes about Chinese food and western food.Let is see which i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3048120"/>
          <a:ext cx="6019560" cy="2158920"/>
        </p:xfrm>
        <a:graphic>
          <a:graphicData uri="http://schemas.openxmlformats.org/drawingml/2006/table">
            <a:tbl>
              <a:tblPr/>
              <a:tblGrid>
                <a:gridCol w="3009960"/>
                <a:gridCol w="30096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ot of fruit and green vegetables,rich in fib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in sug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fat (meat ,potato crisps/chips,butter,cream and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sugar(cakes,soft drinks,sweets and so 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001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M_008" descr=""/>
          <p:cNvPicPr/>
          <p:nvPr/>
        </p:nvPicPr>
        <p:blipFill>
          <a:blip r:embed="rId1"/>
          <a:stretch/>
        </p:blipFill>
        <p:spPr>
          <a:xfrm>
            <a:off x="-2147760" y="-1685880"/>
            <a:ext cx="13439520" cy="1022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752480"/>
            <a:ext cx="7162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a diet of healthy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 di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能吃的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ods   pl.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in scientific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be asleep=feel a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睡着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bed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上床睡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进入梦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e/feel sleepy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困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burn up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烧毁，消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e burned up all his let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he house burned up before the fireman got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2012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M_024" descr=""/>
          <p:cNvPicPr/>
          <p:nvPr/>
        </p:nvPicPr>
        <p:blipFill>
          <a:blip r:embed="rId1"/>
          <a:stretch/>
        </p:blipFill>
        <p:spPr>
          <a:xfrm>
            <a:off x="-3048120" y="-1371600"/>
            <a:ext cx="15183000" cy="1011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914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,you might be using 400 calories an hour.On Sports Day,during the relay race,you will use most of all,perhaps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650 calori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514600"/>
            <a:ext cx="7391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).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=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you a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/as many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she worked there ,she could earn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500 dollar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our class ,there are as many as 67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534520" y="4876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M_001" descr=""/>
          <p:cNvPicPr/>
          <p:nvPr/>
        </p:nvPicPr>
        <p:blipFill>
          <a:blip r:embed="rId1"/>
          <a:stretch/>
        </p:blipFill>
        <p:spPr>
          <a:xfrm>
            <a:off x="-2362320" y="-1143000"/>
            <a:ext cx="12811320" cy="971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80880"/>
            <a:ext cx="77724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be rich/high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poor/low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ina is rich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Japan is poor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the Chinese /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apanese/ 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take/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have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enough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 morning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in the for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e made the suggestion in the form of a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1_041" descr=""/>
          <p:cNvPicPr/>
          <p:nvPr/>
        </p:nvPicPr>
        <p:blipFill>
          <a:blip r:embed="rId2"/>
          <a:stretch/>
        </p:blipFill>
        <p:spPr>
          <a:xfrm>
            <a:off x="5791320" y="5562720"/>
            <a:ext cx="1314360" cy="15318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858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M_045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667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2057400"/>
            <a:ext cx="7391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.soft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清凉饮料主要原料二氧化碳，加入糖、香料和色料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然后加压装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ong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含酒精成分的饮料，烈性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.by the a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 the a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By the age of ten,he had learned to play the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At the age of six,he liked to read some picture-boo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1371600" y="838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M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1066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k a student what we studi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3623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.What is a healthy di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Some useful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6386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1:16:07Z</dcterms:created>
  <dc:creator>1</dc:creator>
  <dc:description/>
  <dc:language>en-US</dc:language>
  <cp:lastModifiedBy>1</cp:lastModifiedBy>
  <dcterms:modified xsi:type="dcterms:W3CDTF">2001-03-06T14:03:49Z</dcterms:modified>
  <cp:revision>5</cp:revision>
  <dc:subject/>
  <dc:title>PowerPoint 演示文稿</dc:title>
</cp:coreProperties>
</file>