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349A-ADBB-4D56-BCCB-E4A1663CF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291-5016-4686-8516-4AECBB089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9FDA-AD6F-4527-ADC9-5115FDC0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415-AC7F-41E6-BD7B-E9068692D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AF3F-DBFC-4860-84DD-DFBF3ADBC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3A40-F460-42C5-B74D-427529778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2F1A-5935-4518-A4F2-EB9D28056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8F4-8CAB-4E70-A53E-9B3273F0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92A-3A6E-430F-9149-4AF5CDBDB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802-3D43-454F-9AB1-817FE33A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83C1-E530-456D-BD8F-6629784E7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FCC1-7B29-42A3-8CA5-A3FAD9A9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3611-E088-48A0-A837-70DA10F9ABA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53240" y="95400"/>
            <a:ext cx="268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rown  vt. v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15080" y="776160"/>
            <a:ext cx="492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in the rive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167920" y="1386000"/>
            <a:ext cx="62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man drowned himself in the river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3640" y="2057400"/>
            <a:ext cx="615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great flood drowned many hous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367000" y="2895480"/>
            <a:ext cx="540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drowning man / a drowned ma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444680" y="3610080"/>
            <a:ext cx="3904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revent … from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1520" y="4191120"/>
            <a:ext cx="859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heavy rain yesterday prevented us ( from) coming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343520" y="4875120"/>
            <a:ext cx="4348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event… (from) doing s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stop… (from)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keep.. from do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278720" y="399960"/>
            <a:ext cx="277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upside dow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20240" y="447840"/>
            <a:ext cx="180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颠倒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杂乱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64760" y="1066680"/>
            <a:ext cx="487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ang upside down from a tre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97800" y="1752480"/>
            <a:ext cx="616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boy turned the room upside dow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05640" y="2438280"/>
            <a:ext cx="55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 Second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ount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8280" y="30481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每分钟都很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8920" y="3657600"/>
            <a:ext cx="349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very minute cou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191240" y="4267080"/>
            <a:ext cx="416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5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keep /bear .. in mi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51840" y="4952880"/>
            <a:ext cx="506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keep these rules in mind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5320" y="5576760"/>
            <a:ext cx="78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ep in mind that the petrol can only last 2 hou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278000" y="171360"/>
            <a:ext cx="208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. panic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362320" y="838080"/>
            <a:ext cx="441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case of fire, don’t pani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429200" y="1630440"/>
            <a:ext cx="119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.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惊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0800" y="1690560"/>
            <a:ext cx="220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et in a pan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723320" y="2438280"/>
            <a:ext cx="421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crowd was in a panic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12000" y="3124080"/>
            <a:ext cx="50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phoned the doctor in pani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064160" y="3962520"/>
            <a:ext cx="263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. calm adj.v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34360" y="4038480"/>
            <a:ext cx="454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t was a calm, cloudless da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66200" y="4800600"/>
            <a:ext cx="708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always keeps/stays calm in an emergenc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25480" y="5553000"/>
            <a:ext cx="467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lease go to calm the pati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82560" y="5553000"/>
            <a:ext cx="64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V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355760" y="5540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60680" y="401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733400" y="399960"/>
            <a:ext cx="321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8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d   ( to 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322000" y="1209600"/>
            <a:ext cx="544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didn’t respond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394360" y="1905120"/>
            <a:ext cx="613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hasn’t responded to treatment ye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41360" y="2544840"/>
            <a:ext cx="233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sponse  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138400" y="327672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made/gave no response to my questio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138400" y="4038480"/>
            <a:ext cx="640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r cries for  help met with no respons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540440" y="4800600"/>
            <a:ext cx="26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in response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77640" y="5562720"/>
            <a:ext cx="679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opened the door in response to a knock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508040" y="554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64880" y="282600"/>
            <a:ext cx="195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9.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itn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36800" y="863640"/>
            <a:ext cx="484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id you witness the accident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296440" y="1625760"/>
            <a:ext cx="297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witness to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为。。。 作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224720" y="2235240"/>
            <a:ext cx="772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witnessed to seeing that man take the mone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87960" y="2768760"/>
            <a:ext cx="210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ness     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3800" y="3290760"/>
            <a:ext cx="75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olice found the witness to the murder cas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12360" y="3747960"/>
            <a:ext cx="521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was a witness to the accident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76560" y="4297320"/>
            <a:ext cx="28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10 .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 the wa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8520" y="4876920"/>
            <a:ext cx="408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ristmas is on the way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26320" y="5410080"/>
            <a:ext cx="527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he is on the way to getting well 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7120" y="5943600"/>
            <a:ext cx="440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e is on the way to succes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ackal</cp:lastModifiedBy>
  <dcterms:modified xsi:type="dcterms:W3CDTF">2001-05-30T16:25:31Z</dcterms:modified>
  <cp:revision>6</cp:revision>
  <dc:subject/>
  <dc:title>PowerPoint Presentation</dc:title>
</cp:coreProperties>
</file>