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7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03F2-6DFD-49E6-8AAB-4811C8C3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78E80-A2C6-4DAD-9AE3-7BFE43A3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5592-2F4D-430D-9E9D-7686C4368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02FD-6B5D-4993-9899-2ED6E673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916AD-1BD8-410C-B93D-680B313E9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BD239-B627-415F-B914-83B54884C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F9792-E0FE-41FF-A608-B5AB8EB71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8BA5-733D-434D-9BE6-0CA3AE860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6D67-DCAB-4DC3-8E2F-40106DD0F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E231B-78A4-4C57-B8FC-57DC64D1F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2889-A6A8-41C7-B9FA-05ACDD6A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9F7C-D68C-4F59-B9AD-09F0E9E8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9FB4C-954F-4AF1-AD16-CAE792EB2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5B01E-BEFB-4911-AF6F-0F07E6A1B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1CDE-82BD-4E16-8700-25A01525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16A73-2B15-4725-AF16-CECF9EB33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42509-61AC-441F-8D5F-C36F45984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754B-D51B-45F7-9D6C-62BC144C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D0F-CD3F-489D-AB14-4D1FC6CD4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069A-7608-48DE-AEF4-43DC2ACE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45FC-0848-40D2-BEF2-72E2E2D6F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504-8B51-4E07-904B-3374DE2B5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0E51-0E76-4CFF-8E6E-0FBA7F77F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09C-7F49-474C-BAA4-2BFAA2E4A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anabnr2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13FDF-B0F2-4B4F-BD44-6FCBE57B553F}" type="slidenum">
              <a:rPr b="0" lang="zh-CN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ANABNR2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6DF91-8846-4E53-A807-20F7C441FCEF}" type="slidenum">
              <a:rPr b="0" lang="zh-CN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533520" y="1752480"/>
            <a:ext cx="8219880" cy="285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Period 1 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ff6600"/>
                </a:solidFill>
                <a:latin typeface="AucoinLight"/>
              </a:rPr>
              <a:t>Warming up &amp; Listening</a:t>
            </a:r>
            <a:endParaRPr b="1" lang="en-US" sz="6000" spc="1" strike="noStrike">
              <a:ln w="9360">
                <a:solidFill>
                  <a:srgbClr val="ff6600"/>
                </a:solidFill>
                <a:miter/>
              </a:ln>
              <a:solidFill>
                <a:srgbClr val="ff6600"/>
              </a:solidFill>
              <a:latin typeface="AucoinLight"/>
              <a:ea typeface="AucoinLight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457200" y="838080"/>
            <a:ext cx="3200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Make him /her spit by patting him/her on the back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276720" y="5638680"/>
            <a:ext cx="5790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To avoid this, we shouldn’t talk or laugh when eating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4" name="10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2743200" cy="3189240"/>
          </a:xfrm>
          <a:prstGeom prst="rect">
            <a:avLst/>
          </a:prstGeom>
          <a:ln w="0">
            <a:noFill/>
          </a:ln>
        </p:spPr>
      </p:pic>
      <p:pic>
        <p:nvPicPr>
          <p:cNvPr id="145" name="11" descr=""/>
          <p:cNvPicPr/>
          <p:nvPr/>
        </p:nvPicPr>
        <p:blipFill>
          <a:blip r:embed="rId2"/>
          <a:stretch/>
        </p:blipFill>
        <p:spPr>
          <a:xfrm>
            <a:off x="7010280" y="609480"/>
            <a:ext cx="1844640" cy="4267440"/>
          </a:xfrm>
          <a:prstGeom prst="rect">
            <a:avLst/>
          </a:prstGeom>
          <a:ln w="0">
            <a:noFill/>
          </a:ln>
        </p:spPr>
      </p:pic>
      <p:pic>
        <p:nvPicPr>
          <p:cNvPr id="146" name="12" descr=""/>
          <p:cNvPicPr/>
          <p:nvPr/>
        </p:nvPicPr>
        <p:blipFill>
          <a:blip r:embed="rId3"/>
          <a:stretch/>
        </p:blipFill>
        <p:spPr>
          <a:xfrm>
            <a:off x="3429000" y="1924200"/>
            <a:ext cx="3809880" cy="31017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79280" y="685800"/>
            <a:ext cx="8964720" cy="59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2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istening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re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Look at the pictures on P.58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ere are they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cc"/>
                </a:solidFill>
                <a:latin typeface="Arial"/>
              </a:rPr>
              <a:t>What do you guess has happened to the   boy and the girl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ow read the requirements quickly and find out what to do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91440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hile-Listening:  listen to the tape and finish the exercises on p.58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2193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1.Listen to the tape. What happened to each chil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1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5b5249"/>
                </a:solidFill>
                <a:latin typeface="Times New Roman"/>
              </a:rPr>
              <a:t>Child 2:________________________________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80880" y="4114800"/>
          <a:ext cx="8457840" cy="2435400"/>
        </p:xfrm>
        <a:graphic>
          <a:graphicData uri="http://schemas.openxmlformats.org/drawingml/2006/table">
            <a:tbl>
              <a:tblPr/>
              <a:tblGrid>
                <a:gridCol w="4069440"/>
                <a:gridCol w="2314080"/>
                <a:gridCol w="2074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1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Child 2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hen did it happ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0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Was any first aid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3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6600cc"/>
                          </a:solidFill>
                          <a:latin typeface="Times New Roman"/>
                        </a:rPr>
                        <a:t>If so what was given?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-8640" y="3352680"/>
            <a:ext cx="900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2. Listen to the tape again and answer the questions: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80880" y="1219320"/>
            <a:ext cx="84582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 Listen to the nurse’s questions in the first dialogue and write them down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1.Can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2.What’s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3.What did you do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a50021"/>
                </a:solidFill>
                <a:latin typeface="Times New Roman"/>
              </a:rPr>
              <a:t>4.Does__________________________________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04920"/>
            <a:ext cx="9144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Post-Listening: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1752480"/>
            <a:ext cx="44956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1. 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55" name="9" descr=""/>
          <p:cNvPicPr/>
          <p:nvPr/>
        </p:nvPicPr>
        <p:blipFill>
          <a:blip r:embed="rId1"/>
          <a:stretch/>
        </p:blipFill>
        <p:spPr>
          <a:xfrm>
            <a:off x="4876920" y="380880"/>
            <a:ext cx="3276360" cy="2895840"/>
          </a:xfrm>
          <a:prstGeom prst="rect">
            <a:avLst/>
          </a:prstGeom>
          <a:ln w="0">
            <a:noFill/>
          </a:ln>
        </p:spPr>
      </p:pic>
      <p:pic>
        <p:nvPicPr>
          <p:cNvPr id="156" name="8" descr=""/>
          <p:cNvPicPr/>
          <p:nvPr/>
        </p:nvPicPr>
        <p:blipFill>
          <a:blip r:embed="rId2"/>
          <a:stretch/>
        </p:blipFill>
        <p:spPr>
          <a:xfrm>
            <a:off x="4648320" y="3352680"/>
            <a:ext cx="4038480" cy="32180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106668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happened to the girl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1905120"/>
            <a:ext cx="449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3276720"/>
            <a:ext cx="449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can we do to help her before the doctor comes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5105520"/>
            <a:ext cx="4648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What do you already know about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5" name="018-1-1" descr=""/>
          <p:cNvPicPr/>
          <p:nvPr/>
        </p:nvPicPr>
        <p:blipFill>
          <a:blip r:embed="rId1"/>
          <a:stretch/>
        </p:blipFill>
        <p:spPr>
          <a:xfrm>
            <a:off x="5105520" y="1295280"/>
            <a:ext cx="3987720" cy="5273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685800"/>
            <a:ext cx="8964720" cy="15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Impact"/>
              </a:rPr>
              <a:t>Step 1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w</a:t>
            </a: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rming-up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3520" y="16002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Brainstorming:    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hat words can you think of when you talk about accidents and first aid?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3962520"/>
            <a:ext cx="3048120" cy="990360"/>
          </a:xfrm>
          <a:prstGeom prst="ellipse">
            <a:avLst/>
          </a:prstGeom>
          <a:solidFill>
            <a:srgbClr val="cc6600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Acciden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ff33"/>
                </a:solidFill>
                <a:latin typeface="Times New Roman"/>
              </a:rPr>
              <a:t>First ai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3048120" y="342864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7400" y="2819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drow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4343400" y="3200040"/>
            <a:ext cx="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886200" y="274320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lee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5257800" y="3352320"/>
            <a:ext cx="457200" cy="6858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281952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6600"/>
                </a:solidFill>
                <a:latin typeface="Times New Roman"/>
              </a:rPr>
              <a:t>chok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943600" y="3733560"/>
            <a:ext cx="762120" cy="53316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81680" y="33526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99"/>
                </a:solidFill>
                <a:latin typeface="Times New Roman"/>
              </a:rPr>
              <a:t>Burn/catch fir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3600" y="4724280"/>
            <a:ext cx="68580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29400" y="49528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cc"/>
                </a:solidFill>
                <a:latin typeface="Times New Roman"/>
              </a:rPr>
              <a:t>cu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4952880"/>
            <a:ext cx="152280" cy="9144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7150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a50021"/>
                </a:solidFill>
                <a:latin typeface="Times New Roman"/>
              </a:rPr>
              <a:t>electrica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733920" y="4952880"/>
            <a:ext cx="304560" cy="7621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5638680"/>
            <a:ext cx="175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wound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2286000" y="4266720"/>
            <a:ext cx="990720" cy="22860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380988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9900cc"/>
                </a:solidFill>
                <a:latin typeface="Times New Roman"/>
              </a:rPr>
              <a:t>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2590920" y="4724280"/>
            <a:ext cx="761760" cy="533520"/>
          </a:xfrm>
          <a:prstGeom prst="line">
            <a:avLst/>
          </a:prstGeom>
          <a:ln w="38160">
            <a:solidFill>
              <a:srgbClr val="5b524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510552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un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scious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5791320"/>
            <a:ext cx="2057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5b5249"/>
                </a:solidFill>
                <a:latin typeface="Times New Roman"/>
              </a:rPr>
              <a:t>… …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219320"/>
            <a:ext cx="8316720" cy="34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349"/>
              </a:spcBef>
              <a:buClr>
                <a:srgbClr val="ff33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Pair Work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ook at the pictures on P.57.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would you do in these situations?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>
              <a:spcBef>
                <a:spcPts val="901"/>
              </a:spcBef>
              <a:buClr>
                <a:srgbClr val="cc00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Times New Roman"/>
              </a:rPr>
              <a:t>What could we do to prevent these accidents? 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57200" y="1447920"/>
            <a:ext cx="3200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Check to see if he /she is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3352680"/>
            <a:ext cx="3047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Try to start his /her breath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541008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Never swim in deep water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2" name="2" descr=""/>
          <p:cNvPicPr/>
          <p:nvPr/>
        </p:nvPicPr>
        <p:blipFill>
          <a:blip r:embed="rId1"/>
          <a:stretch/>
        </p:blipFill>
        <p:spPr>
          <a:xfrm>
            <a:off x="4267080" y="1066680"/>
            <a:ext cx="4419720" cy="4419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990720"/>
            <a:ext cx="3353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Call for a doctor or an ambula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2362320"/>
            <a:ext cx="3429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Never pull her out of the car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880" y="3733920"/>
            <a:ext cx="5181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99"/>
                </a:solidFill>
                <a:latin typeface="Times New Roman"/>
              </a:rPr>
              <a:t>Find enough people to lift  the car safely and take her to hospital at once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57150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5b5249"/>
                </a:solidFill>
                <a:latin typeface="Times New Roman"/>
              </a:rPr>
              <a:t>Look at both sides when crossing the stree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7" name="3" descr=""/>
          <p:cNvPicPr/>
          <p:nvPr/>
        </p:nvPicPr>
        <p:blipFill>
          <a:blip r:embed="rId1"/>
          <a:stretch/>
        </p:blipFill>
        <p:spPr>
          <a:xfrm>
            <a:off x="5410080" y="914400"/>
            <a:ext cx="3733920" cy="44244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04920" y="914400"/>
            <a:ext cx="3809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Call 119 first and tell them the exact address on the phon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04920" y="2819520"/>
            <a:ext cx="4419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cc"/>
                </a:solidFill>
                <a:latin typeface="Times New Roman"/>
              </a:rPr>
              <a:t>If someone is badly burnt,we should call 120 to ask for an ambula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4586400"/>
            <a:ext cx="86104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Never play with fi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Be careful with gas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Make sure that all the electric wires are saf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1" name="4" descr=""/>
          <p:cNvPicPr/>
          <p:nvPr/>
        </p:nvPicPr>
        <p:blipFill>
          <a:blip r:embed="rId1"/>
          <a:stretch/>
        </p:blipFill>
        <p:spPr>
          <a:xfrm>
            <a:off x="4876920" y="838080"/>
            <a:ext cx="3809880" cy="41576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762120"/>
            <a:ext cx="42670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Try to stop the bleedi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981080"/>
            <a:ext cx="411480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Press a handkerchief onto the bleeding point and hold it ther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4267080"/>
            <a:ext cx="4191120" cy="155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a0a9a"/>
                </a:solidFill>
                <a:latin typeface="Times New Roman"/>
              </a:rPr>
              <a:t>Hold up the part of body which is bleeding if possibl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5" name="5" descr=""/>
          <p:cNvPicPr/>
          <p:nvPr/>
        </p:nvPicPr>
        <p:blipFill>
          <a:blip r:embed="rId1"/>
          <a:stretch/>
        </p:blipFill>
        <p:spPr>
          <a:xfrm>
            <a:off x="4191120" y="380880"/>
            <a:ext cx="4647960" cy="3886200"/>
          </a:xfrm>
          <a:prstGeom prst="rect">
            <a:avLst/>
          </a:prstGeom>
          <a:ln w="0">
            <a:noFill/>
          </a:ln>
        </p:spPr>
      </p:pic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4191120" y="2590920"/>
            <a:ext cx="4647960" cy="35812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22860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Go to the hospital at once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295280"/>
            <a:ext cx="38102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Never pull it out of the cut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39" name="019-1-3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3381480" cy="44197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733920" y="4495680"/>
            <a:ext cx="51814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f the cut is not serious, we can wash the area of cut,dry it and cover it with a piece of dry and clean cloth.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41" name="15" descr=""/>
          <p:cNvPicPr/>
          <p:nvPr/>
        </p:nvPicPr>
        <p:blipFill>
          <a:blip r:embed="rId2"/>
          <a:stretch/>
        </p:blipFill>
        <p:spPr>
          <a:xfrm>
            <a:off x="4191120" y="685800"/>
            <a:ext cx="4495680" cy="3222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5T01:45:31Z</dcterms:created>
  <dc:creator>0</dc:creator>
  <dc:description/>
  <dc:language>en-US</dc:language>
  <cp:lastModifiedBy>jackal</cp:lastModifiedBy>
  <dcterms:modified xsi:type="dcterms:W3CDTF">2001-05-30T17:20:42Z</dcterms:modified>
  <cp:revision>23</cp:revision>
  <dc:subject/>
  <dc:title>PowerPoint 演示文稿</dc:title>
</cp:coreProperties>
</file>