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1.wmf" ContentType="image/x-wmf"/>
  <Override PartName="/ppt/media/image16.png" ContentType="image/png"/>
  <Override PartName="/ppt/media/image15.jpeg" ContentType="image/jpeg"/>
  <Override PartName="/ppt/media/image14.gif" ContentType="image/gif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ED1-D4EB-4CF8-979D-E5A7C2A4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04AD-212E-4245-A1FB-39A6D26C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B0D-7E74-4422-AEA9-E9CA21EAB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AE81-D506-4C26-8432-31880F5BD4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A5F37-73EA-47F6-92AD-1A490727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98DA-5FA4-4497-8D5D-1DF41976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A4A75-0148-413E-AA5B-26D7D6671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D7DC-A779-4ED9-B743-0E05497A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DEDD-51E7-43F9-A5DB-5BCE9CE7F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7DD9-4867-4F4C-9F43-2A703E257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5D88-83CF-4C3E-A064-1281D59C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845F-4A13-4BC2-9F7A-B5CF6EFF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92A9-9DA5-4224-8D7D-58644BF908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05545_" descr=""/>
          <p:cNvPicPr/>
          <p:nvPr/>
        </p:nvPicPr>
        <p:blipFill>
          <a:blip r:embed="rId1"/>
          <a:stretch/>
        </p:blipFill>
        <p:spPr>
          <a:xfrm>
            <a:off x="5729400" y="2890800"/>
            <a:ext cx="3338280" cy="32814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600200" y="1447920"/>
            <a:ext cx="5791320" cy="10666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unit 8 First Aid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23623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幼圆"/>
              </a:rPr>
              <a:t>临 江 中 学       江 建 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987200" y="91440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should we do when we have check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DR ABC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9200" y="1981080"/>
            <a:ext cx="144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6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908720" y="2666880"/>
            <a:ext cx="667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n we do first aid correctly after read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s passage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18080" y="30492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d20136_" descr=""/>
          <p:cNvPicPr/>
          <p:nvPr/>
        </p:nvPicPr>
        <p:blipFill>
          <a:blip r:embed="rId1"/>
          <a:stretch/>
        </p:blipFill>
        <p:spPr>
          <a:xfrm>
            <a:off x="533520" y="3675240"/>
            <a:ext cx="2209680" cy="2039760"/>
          </a:xfrm>
          <a:prstGeom prst="rect">
            <a:avLst/>
          </a:prstGeom>
          <a:ln w="0">
            <a:noFill/>
          </a:ln>
        </p:spPr>
      </p:pic>
      <p:pic>
        <p:nvPicPr>
          <p:cNvPr id="113" name="bd20062_" descr=""/>
          <p:cNvPicPr/>
          <p:nvPr/>
        </p:nvPicPr>
        <p:blipFill>
          <a:blip r:embed="rId2"/>
          <a:stretch/>
        </p:blipFill>
        <p:spPr>
          <a:xfrm>
            <a:off x="3124080" y="3860640"/>
            <a:ext cx="1905120" cy="1778040"/>
          </a:xfrm>
          <a:prstGeom prst="rect">
            <a:avLst/>
          </a:prstGeom>
          <a:ln w="0">
            <a:noFill/>
          </a:ln>
        </p:spPr>
      </p:pic>
      <p:pic>
        <p:nvPicPr>
          <p:cNvPr id="114" name="first%20rescue(%20hand" descr=""/>
          <p:cNvPicPr/>
          <p:nvPr/>
        </p:nvPicPr>
        <p:blipFill>
          <a:blip r:embed="rId3"/>
          <a:stretch/>
        </p:blipFill>
        <p:spPr>
          <a:xfrm>
            <a:off x="5791320" y="3962520"/>
            <a:ext cx="182880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736640" y="152280"/>
            <a:ext cx="29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Comprehen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11320" y="762120"/>
            <a:ext cx="764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By saying “ Seconds count in an emergency, 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writer means ________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314720" y="1676520"/>
            <a:ext cx="729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can count 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ime is lif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be calm down, in an emergency, just sa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umbers by the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2880" y="3886200"/>
            <a:ext cx="85474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at should you do if you want to do first ai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correctl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 with a teach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tay calm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l of the 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74960" y="177840"/>
            <a:ext cx="91191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According to the passage, people in the accident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can be helped by anyone who’d  like to do s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 Should be waken up as soon as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should be put in the recovery position when ha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een given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can be given first aid even without checking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4800" y="3197160"/>
            <a:ext cx="81957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Which of the following sentences best express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the main idea of  the passag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. DR ABC should be remember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. Remembering  the letters DR ABC is enough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. Why first aid is important and what the lett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R ABC stand for in an emerg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. What the letters DR ABC me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9720" y="447840"/>
            <a:ext cx="91360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 the passage., the author seems to be 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laining the meaning of the letters DR AB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elling  us the importance of 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ome basic information about 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owing the importance of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16" descr=""/>
          <p:cNvPicPr/>
          <p:nvPr/>
        </p:nvPicPr>
        <p:blipFill>
          <a:blip r:embed="rId1"/>
          <a:stretch/>
        </p:blipFill>
        <p:spPr>
          <a:xfrm>
            <a:off x="1523880" y="3581280"/>
            <a:ext cx="403884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583280" y="-22320"/>
            <a:ext cx="252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True or fal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8640" y="7113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55720" y="650880"/>
            <a:ext cx="693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can do nothing but call an ambul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or the police when someone is hur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9720" y="1766880"/>
            <a:ext cx="101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Tr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07280" y="1720800"/>
            <a:ext cx="715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 If you don’t know about first aid, never tr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revive the wounded pers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2320" y="2681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942560" y="2666880"/>
            <a:ext cx="658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 We can check blood circulating only by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ing  for eye movement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2680" y="36720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40160" y="3701880"/>
            <a:ext cx="727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If the person is not breathing , we must st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 breathing in ten minut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9000" y="473868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632960" y="4692600"/>
            <a:ext cx="697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make sure that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rway  is clear 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63680" y="5500800"/>
            <a:ext cx="105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Fals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6800" y="5562720"/>
            <a:ext cx="702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 When the accident happens, go to save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unded people immediatel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616400" y="76320"/>
            <a:ext cx="25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ost-read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400" y="838080"/>
            <a:ext cx="7882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ook at the pictures on Page60. Use what you h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earnt from the text to explain what the people a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oing in the pictur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2640" y="2590920"/>
            <a:ext cx="182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Times New Roman"/>
              </a:rPr>
              <a:t>Picture 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7480" y="3352680"/>
            <a:ext cx="689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is gently tipping the person’s hea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ck to make sure that his airway is op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it is easy to breath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bd20062_" descr=""/>
          <p:cNvPicPr/>
          <p:nvPr/>
        </p:nvPicPr>
        <p:blipFill>
          <a:blip r:embed="rId1"/>
          <a:stretch/>
        </p:blipFill>
        <p:spPr>
          <a:xfrm>
            <a:off x="1828800" y="4826160"/>
            <a:ext cx="2438280" cy="2031840"/>
          </a:xfrm>
          <a:prstGeom prst="rect">
            <a:avLst/>
          </a:prstGeom>
          <a:ln w="0">
            <a:noFill/>
          </a:ln>
        </p:spPr>
      </p:pic>
      <p:pic>
        <p:nvPicPr>
          <p:cNvPr id="141" name="bd20136_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59092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659960" y="228600"/>
            <a:ext cx="185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00"/>
                </a:solidFill>
                <a:latin typeface="Times New Roman"/>
              </a:rPr>
              <a:t>Picture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70880" y="838080"/>
            <a:ext cx="7464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not breathing, we can use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outh-to-mouth way to start his/her breath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this must be done within five minu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6160" y="2514600"/>
            <a:ext cx="175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icture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94760" y="3048120"/>
            <a:ext cx="7892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a person is bleeding, we should cover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ith a clean piece of cloth and press on the wou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 stop the bleed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RT_020" descr=""/>
          <p:cNvPicPr/>
          <p:nvPr/>
        </p:nvPicPr>
        <p:blipFill>
          <a:blip r:embed="rId1"/>
          <a:stretch/>
        </p:blipFill>
        <p:spPr>
          <a:xfrm>
            <a:off x="6477120" y="4876920"/>
            <a:ext cx="2057400" cy="1676160"/>
          </a:xfrm>
          <a:prstGeom prst="rect">
            <a:avLst/>
          </a:prstGeom>
          <a:ln w="0">
            <a:noFill/>
          </a:ln>
        </p:spPr>
      </p:pic>
      <p:pic>
        <p:nvPicPr>
          <p:cNvPr id="147" name="急救3" descr=""/>
          <p:cNvPicPr/>
          <p:nvPr/>
        </p:nvPicPr>
        <p:blipFill>
          <a:blip r:embed="rId2"/>
          <a:stretch/>
        </p:blipFill>
        <p:spPr>
          <a:xfrm>
            <a:off x="201600" y="4443480"/>
            <a:ext cx="2313000" cy="24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431360" y="228600"/>
            <a:ext cx="135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Part 2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50840" y="1620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56960" y="885960"/>
            <a:ext cx="782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Work in pairs. Use the letters DR ABC to tell 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Partner how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969120" y="2514600"/>
            <a:ext cx="6912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, you should 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, 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, ________________________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ast, ____________________________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98280" y="68580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not breathing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07480" y="133200"/>
            <a:ext cx="597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66ff"/>
                </a:solidFill>
                <a:latin typeface="Comic Sans MS"/>
              </a:rPr>
              <a:t>Situation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meas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8280" y="1765440"/>
            <a:ext cx="314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leeding badly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160" y="2940120"/>
            <a:ext cx="29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3.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loses one thi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f his bl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200" y="4311720"/>
            <a:ext cx="284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someon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adly hu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3800" y="5302080"/>
            <a:ext cx="2844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omic Sans MS"/>
              </a:rPr>
              <a:t>5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f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an brea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weak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86200" y="685800"/>
            <a:ext cx="4724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A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mustn’t move him.                                                 You must get help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86200" y="1720800"/>
            <a:ext cx="5105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. You must try to start his her breathing at once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274176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C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 must try to stop   the bleeding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3886200"/>
            <a:ext cx="457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D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should hold up the part of the body which is blee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9880" y="52862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ff"/>
                </a:solidFill>
                <a:latin typeface="Comic Sans MS"/>
              </a:rPr>
              <a:t>E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pen the mouth and take</a:t>
            </a:r>
            <a:r>
              <a:rPr b="1" lang="en-US" sz="28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food out at the back of the mouth if any.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313000">
            <a:off x="2681280" y="15998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35000">
            <a:off x="2742840" y="2590560"/>
            <a:ext cx="1357200" cy="75960"/>
          </a:xfrm>
          <a:prstGeom prst="rightArrow">
            <a:avLst>
              <a:gd name="adj1" fmla="val 50000"/>
              <a:gd name="adj2" fmla="val 446682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 rot="1757400">
            <a:off x="2743200" y="365724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7547000">
            <a:off x="1035720" y="2926440"/>
            <a:ext cx="4253040" cy="75960"/>
          </a:xfrm>
          <a:prstGeom prst="rightArrow">
            <a:avLst>
              <a:gd name="adj1" fmla="val 50000"/>
              <a:gd name="adj2" fmla="val 1399763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rot="20919000">
            <a:off x="2528640" y="5638320"/>
            <a:ext cx="1357200" cy="76320"/>
          </a:xfrm>
          <a:prstGeom prst="rightArrow">
            <a:avLst>
              <a:gd name="adj1" fmla="val 50000"/>
              <a:gd name="adj2" fmla="val 44457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WINDPOW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 txBox="1"/>
          <p:nvPr/>
        </p:nvSpPr>
        <p:spPr>
          <a:xfrm>
            <a:off x="1981080" y="1143000"/>
            <a:ext cx="3581640" cy="263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Goodby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583640" y="628560"/>
            <a:ext cx="30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he third peri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126440" y="1695600"/>
            <a:ext cx="28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</a:rPr>
              <a:t>Teaching aim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19960" y="2682720"/>
            <a:ext cx="9320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mprove the students’ reading abilit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lp the students to master the new wor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express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.   Let the students know more about first ai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6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Swiss" descr=""/>
          <p:cNvPicPr/>
          <p:nvPr/>
        </p:nvPicPr>
        <p:blipFill>
          <a:blip r:embed="rId2"/>
          <a:stretch/>
        </p:blipFill>
        <p:spPr>
          <a:xfrm>
            <a:off x="1600200" y="0"/>
            <a:ext cx="5715000" cy="48290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85800" y="4343040"/>
            <a:ext cx="3200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ambula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zh-CN" sz="4400" spc="-1" strike="noStrike">
                <a:solidFill>
                  <a:srgbClr val="ff3300"/>
                </a:solidFill>
                <a:latin typeface="Times New Roman"/>
              </a:rPr>
              <a:t>救护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救护车2" descr=""/>
          <p:cNvPicPr/>
          <p:nvPr/>
        </p:nvPicPr>
        <p:blipFill>
          <a:blip r:embed="rId3"/>
          <a:stretch/>
        </p:blipFill>
        <p:spPr>
          <a:xfrm>
            <a:off x="4343400" y="3505320"/>
            <a:ext cx="51814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2895480" cy="2376360"/>
          </a:xfrm>
          <a:prstGeom prst="rect">
            <a:avLst/>
          </a:prstGeom>
          <a:ln w="0">
            <a:noFill/>
          </a:ln>
        </p:spPr>
      </p:pic>
      <p:pic>
        <p:nvPicPr>
          <p:cNvPr id="54" name="14" descr=""/>
          <p:cNvPicPr/>
          <p:nvPr/>
        </p:nvPicPr>
        <p:blipFill>
          <a:blip r:embed="rId2"/>
          <a:stretch/>
        </p:blipFill>
        <p:spPr>
          <a:xfrm>
            <a:off x="4343400" y="380880"/>
            <a:ext cx="3429000" cy="2178000"/>
          </a:xfrm>
          <a:prstGeom prst="rect">
            <a:avLst/>
          </a:prstGeom>
          <a:ln w="0">
            <a:noFill/>
          </a:ln>
        </p:spPr>
      </p:pic>
      <p:pic>
        <p:nvPicPr>
          <p:cNvPr id="55" name="15" descr=""/>
          <p:cNvPicPr/>
          <p:nvPr/>
        </p:nvPicPr>
        <p:blipFill>
          <a:blip r:embed="rId3"/>
          <a:stretch/>
        </p:blipFill>
        <p:spPr>
          <a:xfrm>
            <a:off x="304920" y="2819520"/>
            <a:ext cx="3352680" cy="3767040"/>
          </a:xfrm>
          <a:prstGeom prst="rect">
            <a:avLst/>
          </a:prstGeom>
          <a:ln w="0">
            <a:noFill/>
          </a:ln>
        </p:spPr>
      </p:pic>
      <p:pic>
        <p:nvPicPr>
          <p:cNvPr id="56" name="images1" descr=""/>
          <p:cNvPicPr/>
          <p:nvPr/>
        </p:nvPicPr>
        <p:blipFill>
          <a:blip r:embed="rId4"/>
          <a:stretch/>
        </p:blipFill>
        <p:spPr>
          <a:xfrm>
            <a:off x="4191120" y="3124080"/>
            <a:ext cx="3962160" cy="2989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870360" y="2533680"/>
            <a:ext cx="178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accid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232320" y="2533680"/>
            <a:ext cx="205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emerg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105520" y="329076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y the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33720"/>
            <a:ext cx="4952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leave the person whe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he/h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65440" y="2687760"/>
            <a:ext cx="4587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3200400"/>
            <a:ext cx="4952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335268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ephone for hel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405288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et the person get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4800600"/>
            <a:ext cx="541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to stay st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105520" y="213372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ve the pers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280" y="4038480"/>
            <a:ext cx="507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tell the person not to wor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07880" y="1436760"/>
            <a:ext cx="104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277960" y="1473120"/>
            <a:ext cx="146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on’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7680" y="173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38000" y="304920"/>
            <a:ext cx="807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f someone is badly hurt in a traffic accident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ou should……/ mustn’t …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0880" y="38088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21932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What is First A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85724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irst aid is ___ _______ __ giving _______ ____ to a person before a doctor can be foun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76688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the science of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6880" y="260496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medical c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819520" y="3886200"/>
            <a:ext cx="3200400" cy="2666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46920" y="120600"/>
            <a:ext cx="578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Before the doctor comes ,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what is the most important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106360" y="15552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00"/>
                </a:solidFill>
                <a:latin typeface="Times New Roman"/>
              </a:rPr>
              <a:t>Look the outlines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24200" y="762120"/>
            <a:ext cx="666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you are asked to write a text about  fir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id, </a:t>
            </a: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which of these outlines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will you us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93120" y="1676520"/>
            <a:ext cx="700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You may have a discussion in pairs and the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’ll ask some of you to tell us your opinion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43160" y="2819520"/>
            <a:ext cx="3888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First aid is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Reas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422240" y="2743200"/>
            <a:ext cx="464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1.  Learn how to giv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2 . First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3. Second,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3300"/>
                </a:solidFill>
                <a:latin typeface="Times New Roman"/>
              </a:rPr>
              <a:t>4. Third,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12920" y="4572000"/>
            <a:ext cx="5315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re are two types of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first a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The second ty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</a:rPr>
              <a:t>Similarities and dif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28480" y="251460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23160" y="24382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714480" y="4267080"/>
            <a:ext cx="47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900360" y="152280"/>
            <a:ext cx="289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st- 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046160" y="1143000"/>
            <a:ext cx="672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Times New Roman"/>
              </a:rPr>
              <a:t>Which outline is used in the passage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164960" y="2057400"/>
            <a:ext cx="584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’s the topic of the paragraphs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3640" y="3139920"/>
            <a:ext cx="197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1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3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Para. 5-6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815560" y="3048120"/>
            <a:ext cx="477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22760" y="3657600"/>
            <a:ext cx="563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ost important is to stay cal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24920" y="4191120"/>
            <a:ext cx="566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to think fast,we m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member DR ABC to give first ai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25640" y="5105520"/>
            <a:ext cx="5700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we have checked the DR A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e should give the first aid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eeded and call an ambul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94400" y="609480"/>
            <a:ext cx="12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880" y="533520"/>
            <a:ext cx="419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rst aid is very importa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146320" y="1066680"/>
            <a:ext cx="69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y is first aid important in our daily life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145160" y="1447920"/>
            <a:ext cx="135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6600" y="1905120"/>
            <a:ext cx="7299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the most important thing to rememb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en dealing with an emergency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01960" y="2757600"/>
            <a:ext cx="163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Times New Roman"/>
              </a:rPr>
              <a:t>Para. 3-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23120" y="2971800"/>
            <a:ext cx="573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hospitals recommend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1520" y="3581280"/>
            <a:ext cx="626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do the letters DR ABC stand for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3240" y="142920"/>
            <a:ext cx="67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isten to the tape and answer the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752480" y="396252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hat are three important thing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4478400"/>
            <a:ext cx="7391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ck that the person can breath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not breathing, you must try to start his breathing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f the person is bleeding badly, you must try to stop the bleed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gy</cp:lastModifiedBy>
  <dcterms:modified xsi:type="dcterms:W3CDTF">2004-12-20T13:29:55Z</dcterms:modified>
  <cp:revision>25</cp:revision>
  <dc:subject/>
  <dc:title>PowerPoint Presentation</dc:title>
</cp:coreProperties>
</file>