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9437-8DF2-462E-9F81-EE160288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372A-E43F-4097-9706-E3E947ABA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D87F-C41F-4755-81F6-CC197772F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245A-40E7-44AE-AEE9-CCDE36490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D55C-3B46-42AE-951E-86C2A83E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A907F-406D-42D7-A2F1-EC91BEFC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1C63-CA9E-49D3-BA32-2842C57E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BC9B-F2B4-4C9C-821B-7E7118D8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E32D-4380-406F-94ED-8FD57A2FD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71607-88A1-4523-8EBF-B927C530A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AF22-A0EC-448B-B4C4-C169DD46D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5A52-6B21-4C10-BA06-BDCD7ADE7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F5D3-51AD-483F-A15D-54DA936004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45640" y="171360"/>
            <a:ext cx="42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imes New Roman"/>
              </a:rPr>
              <a:t>Unit      8     first   aid</a:t>
            </a:r>
            <a:r>
              <a:rPr b="1" lang="zh-CN" sz="3200" spc="-1" strike="noStrike">
                <a:solidFill>
                  <a:srgbClr val="ff9933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37120" y="525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94520" y="838080"/>
            <a:ext cx="582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教学目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了解在各种意外的紧急情况下的急救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130200" y="1447920"/>
            <a:ext cx="445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练习用英语知识表达应该做和不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548440" y="1981080"/>
            <a:ext cx="32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)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继续学习并运用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06560" y="2463840"/>
            <a:ext cx="4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93320" y="2529000"/>
            <a:ext cx="70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一篇有关顺序表达方式的短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50040" y="3048120"/>
            <a:ext cx="123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教材分析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3809880"/>
            <a:ext cx="8397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本单元的中心话题是意外情况下的急救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言技能和语言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至要围绕急救这一中心话题进行设计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热身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warming  up 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通过六幅图片导入新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让学生针对这些图片思考一些问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会怎么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该怎么办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5638680"/>
            <a:ext cx="381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5867280"/>
            <a:ext cx="1295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267080" y="3581280"/>
            <a:ext cx="228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776600" y="371520"/>
            <a:ext cx="5374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谈论这些问题的情况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会想到那些生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以激发学生的学习兴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听力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listening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供发生在医院里的情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男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腿部受伤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另一个小女孩误喝了墨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教材设计了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笔记形式的问题填空和填缺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目的是训练学生通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听获取急救方面的信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33240" y="3343320"/>
            <a:ext cx="556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口语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speaking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部分继续围绕在家里如何确保家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安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应该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训练学生听的能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说出更多的句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引发真实性的交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53920" y="485640"/>
            <a:ext cx="59551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读前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re-re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设立了三个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utlin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供学生讨论选择哪种提纲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生可以各自表达自己的看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下面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打下伏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99240" y="2711520"/>
            <a:ext cx="492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阅读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reading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救主要介绍一些常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  ABC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人们记住这方面的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24200" y="3809880"/>
            <a:ext cx="5295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读后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ost-read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呈现三幅图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用 课文所学的知识说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图中的人物正在如何运用急救知识救助伤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24360" y="5334120"/>
            <a:ext cx="401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个问题是复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  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85800" y="1011240"/>
            <a:ext cx="244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791000" y="533520"/>
            <a:ext cx="61365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语言学习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Language  study 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词汇和语汇两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词汇部分设计了五个情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帮助学生加深对新词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理解和记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指导学生养成通过语境记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词语的方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题是一个故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通过上下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语境内容选择所给的词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深所学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49800" y="2971800"/>
            <a:ext cx="68076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语法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掌握对将来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现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过去   这三种情况的假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还有虚拟语气在宾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句的用法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uggest,recommen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里有三大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根据语境填上合适的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题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虚拟语气连接句子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三题改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63680" y="609480"/>
            <a:ext cx="54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些练习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利于学生从理论到实践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循序渐进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利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学生比较牢固地掌握这部分的语法内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888920" y="1735200"/>
            <a:ext cx="6362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综合技能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Integrating   skills)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阅读部分谈如何处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it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ut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isoning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如何进行急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时进行分组活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最后写作部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运用所学知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写出表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顺序的短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280" y="4668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81120" y="4311720"/>
            <a:ext cx="50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学习建议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Tips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提供如何做一个急救箱的内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本单元的话题服务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295360" y="5454720"/>
            <a:ext cx="577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复习要点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checkpoin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复习虚拟语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要求学生造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句型转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2625480" y="868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Times New Roman"/>
              </a:rPr>
              <a:t>课时安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26800" y="1924200"/>
            <a:ext cx="164088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eriod 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080520" y="1917720"/>
            <a:ext cx="5839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arming-up and list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Spe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ading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Reading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Word and grammar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tegrating skills 1 and 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Integrating skills 2 and exerci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07:53Z</dcterms:modified>
  <cp:revision>12</cp:revision>
  <dc:subject/>
  <dc:title>PowerPoint Presentation</dc:title>
</cp:coreProperties>
</file>