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1.gif" ContentType="image/gif"/>
  <Override PartName="/ppt/media/image39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9.gif" ContentType="image/gif"/>
  <Override PartName="/ppt/media/image53.png" ContentType="image/png"/>
  <Override PartName="/ppt/media/image38.jpeg" ContentType="image/jpeg"/>
  <Override PartName="/ppt/media/image31.wmf" ContentType="image/x-wmf"/>
  <Override PartName="/ppt/media/image30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6.gif" ContentType="image/gif"/>
  <Override PartName="/ppt/media/image32.wmf" ContentType="image/x-wmf"/>
  <Override PartName="/ppt/media/image8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BEC-9E5A-4B67-B33E-3D1E81C7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958-18C5-44D6-9076-4EF13BEE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5A7-9349-4FB9-B72A-20FBD6F9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C8B-2595-4027-AACB-54AD9DE2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D6F-03AF-47CB-A711-46E557AD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268-EE6E-41E4-A1B6-D3D37BA0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66A-0710-4BFE-B7D5-58C9147B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63F-ABAF-469A-85A3-3D940A6A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796-93C2-4D2C-913A-FB961ADE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954-E54A-4E8E-94F6-DABEC3D7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241-A1ED-4BA2-A4F0-E7105F7C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6DB-8BA6-48E1-8609-413ED648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7950-031A-46AA-82A8-1C8E2B07C1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jpeg"/><Relationship Id="rId3" Type="http://schemas.openxmlformats.org/officeDocument/2006/relationships/image" Target="../media/image33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03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68580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Unit 2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Teleph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j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03320" y="127620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Verdana"/>
              </a:rPr>
              <a:t>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7040" y="2089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Verdana"/>
              </a:rPr>
              <a:t>Concept 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6200" y="350532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his small computer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elephone is still a mys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270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of the presen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13716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mprovemen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ave been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080" y="8380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tead of using metal wires to send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,very thin glass pipes,about 1mm w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used to send signals.Because 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travel 150 km without getting weaker,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ir signals is clearer, to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rdless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960" y="2895480"/>
            <a:ext cx="60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no wires.it can be useful in office 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y. You can carry it with you and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p the information your caller wants. That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walk to a distant part of the offic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y to check the information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tting down the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541008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720" y="57913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0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154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895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410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9720" y="2209680"/>
            <a:ext cx="288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ways in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w mode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elephone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762120"/>
            <a:ext cx="381240" cy="4267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5335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. 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880" y="31240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. re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840" y="47242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. call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95747" descr=""/>
          <p:cNvPicPr/>
          <p:nvPr/>
        </p:nvPicPr>
        <p:blipFill>
          <a:blip r:embed="rId2"/>
          <a:stretch/>
        </p:blipFill>
        <p:spPr>
          <a:xfrm>
            <a:off x="7704000" y="5334120"/>
            <a:ext cx="1440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E03859_" descr=""/>
          <p:cNvPicPr/>
          <p:nvPr/>
        </p:nvPicPr>
        <p:blipFill>
          <a:blip r:embed="rId2"/>
          <a:stretch/>
        </p:blipFill>
        <p:spPr>
          <a:xfrm>
            <a:off x="0" y="1905120"/>
            <a:ext cx="308628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PE01727_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0200" y="5587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ow a telephone wor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0104200">
            <a:off x="1981080" y="2286000"/>
            <a:ext cx="5338800" cy="157320"/>
          </a:xfrm>
          <a:prstGeom prst="leftRightArrow">
            <a:avLst>
              <a:gd name="adj1" fmla="val 50000"/>
              <a:gd name="adj2" fmla="val 67557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960" y="4572000"/>
            <a:ext cx="606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you speak into the telephone, th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ves of your voice are turned into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. The signal is sent down a pair o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receiving telephone. There the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 is changed back into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5410080"/>
            <a:ext cx="75438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893fc1"/>
                  </a:solidFill>
                  <a:miter/>
                </a:ln>
                <a:solidFill>
                  <a:srgbClr val="893fc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obile Phones In Our Life</a:t>
            </a:r>
            <a:endParaRPr b="1" lang="en-US" sz="2800" spc="1" strike="noStrike">
              <a:ln w="25560">
                <a:solidFill>
                  <a:srgbClr val="893fc1"/>
                </a:solidFill>
                <a:miter/>
              </a:ln>
              <a:solidFill>
                <a:srgbClr val="893fc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可视手机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全球手机用户近6亿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952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bile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01529J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3" name="PH01642J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4191120"/>
          </a:xfrm>
          <a:prstGeom prst="rect">
            <a:avLst/>
          </a:prstGeom>
          <a:ln w="0">
            <a:noFill/>
          </a:ln>
        </p:spPr>
      </p:pic>
      <p:pic>
        <p:nvPicPr>
          <p:cNvPr id="144" name="可穿着”的蓝牙手机配件" descr=""/>
          <p:cNvPicPr/>
          <p:nvPr/>
        </p:nvPicPr>
        <p:blipFill>
          <a:blip r:embed="rId4"/>
          <a:stretch/>
        </p:blipFill>
        <p:spPr>
          <a:xfrm>
            <a:off x="274320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1_2-1-13_20011122115213" descr=""/>
          <p:cNvPicPr/>
          <p:nvPr/>
        </p:nvPicPr>
        <p:blipFill>
          <a:blip r:embed="rId5"/>
          <a:stretch/>
        </p:blipFill>
        <p:spPr>
          <a:xfrm>
            <a:off x="2743200" y="281952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可视手机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22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572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43848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on wires and can be carried ab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160" y="51055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the development of science and technology it will has more more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Today,Mobile Phone is not the very thing that you can call each other.It’s more than a telephone,a communicating tool.It develops to be multifunction (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多功能的）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and useful.With a Mobile Phone you can take photos ,listen to music,surf on the Internet,have meetings,watch TV,send E-mails and E-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可佩戴免提蓝牙电话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433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y5" descr=""/>
          <p:cNvPicPr/>
          <p:nvPr/>
        </p:nvPicPr>
        <p:blipFill>
          <a:blip r:embed="rId1"/>
          <a:stretch/>
        </p:blipFill>
        <p:spPr>
          <a:xfrm>
            <a:off x="304920" y="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2040" y="4419720"/>
            <a:ext cx="44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tch  Ph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kin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 which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ke a w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三星手表电话" descr="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wp5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ocomobile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0920" y="1066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mod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They can download a lovely,Popular cartoon animal----Kitty Cat as the Screen Saver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屏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5029200"/>
            <a:ext cx="73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-mode uses can connect with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tly ,Send and receive E-mails, and s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otels and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最新的网络电话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057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14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y3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4600" y="388620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hoto-taking and song-listen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720" y="4495680"/>
            <a:ext cx="85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can take photos and make them into characterful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（个性化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-cards and send out.On the top of it is a recording lens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录象镜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e big clear screen can be convenient to browse the net pag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surf on the Internet.In addition,you can listen to music a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re enjoying the recorded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菲利浦推出新一代概念手机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1802J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H01639J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H01800J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H01794J" descr=""/>
          <p:cNvPicPr/>
          <p:nvPr/>
        </p:nvPicPr>
        <p:blipFill>
          <a:blip r:embed="rId4"/>
          <a:stretch/>
        </p:blipFill>
        <p:spPr>
          <a:xfrm>
            <a:off x="6705720" y="26668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BD19547_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BD19556_" descr=""/>
          <p:cNvPicPr/>
          <p:nvPr/>
        </p:nvPicPr>
        <p:blipFill>
          <a:blip r:embed="rId6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BD19559_" descr=""/>
          <p:cNvPicPr/>
          <p:nvPr/>
        </p:nvPicPr>
        <p:blipFill>
          <a:blip r:embed="rId7"/>
          <a:stretch/>
        </p:blipFill>
        <p:spPr>
          <a:xfrm>
            <a:off x="2438280" y="2514600"/>
            <a:ext cx="20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BD19557_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BD19572_" descr=""/>
          <p:cNvPicPr/>
          <p:nvPr/>
        </p:nvPicPr>
        <p:blipFill>
          <a:blip r:embed="rId9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BD19549_" descr=""/>
          <p:cNvPicPr/>
          <p:nvPr/>
        </p:nvPicPr>
        <p:blipFill>
          <a:blip r:embed="rId10"/>
          <a:stretch/>
        </p:blipFill>
        <p:spPr>
          <a:xfrm>
            <a:off x="6705720" y="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最新的网络电话" descr=""/>
          <p:cNvPicPr/>
          <p:nvPr/>
        </p:nvPicPr>
        <p:blipFill>
          <a:blip r:embed="rId2"/>
          <a:stretch/>
        </p:blipFill>
        <p:spPr>
          <a:xfrm>
            <a:off x="0" y="2514600"/>
            <a:ext cx="37339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可视手机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054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used for surfing on the Inten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9" descr=""/>
          <p:cNvPicPr/>
          <p:nvPr/>
        </p:nvPicPr>
        <p:blipFill>
          <a:blip r:embed="rId4"/>
          <a:stretch/>
        </p:blipFill>
        <p:spPr>
          <a:xfrm>
            <a:off x="5181480" y="0"/>
            <a:ext cx="2583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05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z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1000" y="2438280"/>
            <a:ext cx="7200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Univers"/>
              </a:rPr>
              <a:t>Meeting—Plate–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Kind of phon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for conference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which has 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A big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colored screen takes up three-fourth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625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p007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04812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67520" y="99072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TD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MB—Memory Download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8000" y="2752560"/>
            <a:ext cx="57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download songs.It is equ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side with a 64MB R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most attractive thing is that it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6-color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714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1a" descr=""/>
          <p:cNvPicPr/>
          <p:nvPr/>
        </p:nvPicPr>
        <p:blipFill>
          <a:blip r:embed="rId1"/>
          <a:stretch/>
        </p:blipFill>
        <p:spPr>
          <a:xfrm>
            <a:off x="838080" y="0"/>
            <a:ext cx="3656160" cy="4448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05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ysj99093090" descr=""/>
          <p:cNvPicPr/>
          <p:nvPr/>
        </p:nvPicPr>
        <p:blipFill>
          <a:blip r:embed="rId2"/>
          <a:stretch/>
        </p:blipFill>
        <p:spPr>
          <a:xfrm>
            <a:off x="537516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0520" y="5248440"/>
            <a:ext cx="44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d to listen to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anling" descr=""/>
          <p:cNvPicPr/>
          <p:nvPr/>
        </p:nvPicPr>
        <p:blipFill>
          <a:blip r:embed="rId1"/>
          <a:stretch/>
        </p:blipFill>
        <p:spPr>
          <a:xfrm>
            <a:off x="0" y="5335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186" name="sssj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53341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01040" y="55627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掌上电脑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720" y="1143000"/>
            <a:ext cx="824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re and more people are using the kind       1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of new-developed phone which is called mobile 2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phone. It has not wires and can be carried    3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in your pocket easy wherever you go. With     4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the phone you may accept or make phone        5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calls. People carry mobile phones are         6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st businessmen,. Now with the further       7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velopment of modern technology, it          8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serves like a secretary that is quite         9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fit the job.                                 10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600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50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09560" y="14889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6840" y="1828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08840" y="2251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048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36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4600" y="2971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o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120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2800" y="4038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76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419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60" y="6732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Error corr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120" y="1936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hoose the best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6320" y="80316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.When you speak into the telephone , the waves of your voic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urned into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electrical sounds       B.electrical signals       C.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.The handle of an old telephone was used for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producing enough electricity to make a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connecting with anoth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getting better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.The job of an operator is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to wind the handle for customers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to connect the two number, to time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to mend telephones and tele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13_" descr=""/>
          <p:cNvPicPr/>
          <p:nvPr/>
        </p:nvPicPr>
        <p:blipFill>
          <a:blip r:embed="rId2"/>
          <a:stretch/>
        </p:blipFill>
        <p:spPr>
          <a:xfrm>
            <a:off x="0" y="6272280"/>
            <a:ext cx="922032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AG00402_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AG00402_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AG00402_" descr=""/>
          <p:cNvPicPr/>
          <p:nvPr/>
        </p:nvPicPr>
        <p:blipFill>
          <a:blip r:embed="rId5"/>
          <a:stretch/>
        </p:blipFill>
        <p:spPr>
          <a:xfrm>
            <a:off x="5335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360" y="304920"/>
            <a:ext cx="861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____ can be used to send telephone signals over long di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satell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Sound waves                B.Water waves        C.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_____ makes it possible for people at different places to hea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other s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Redirection             B.Conference meeting     C.Call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The service of redirection makes sure that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you can receive calls wherever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all the telephone calls can be received by your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.telephone calls can be recorded if you are not at your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468_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AG00402_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AG00402_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AG00402_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571800">
            <a:off x="2514240" y="6322680"/>
            <a:ext cx="3800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lexander Graham Bell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22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HH00914_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12-22" descr=""/>
          <p:cNvPicPr/>
          <p:nvPr/>
        </p:nvPicPr>
        <p:blipFill>
          <a:blip r:embed="rId3"/>
          <a:stretch/>
        </p:blipFill>
        <p:spPr>
          <a:xfrm>
            <a:off x="7620120" y="3200400"/>
            <a:ext cx="12794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523880"/>
            <a:ext cx="2743200" cy="5334120"/>
            <a:chOff x="0" y="1523880"/>
            <a:chExt cx="2743200" cy="533412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7432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0" y="1523880"/>
              <a:ext cx="274320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3640" y="3715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earliest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D15352_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296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00" y="7621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qua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240" y="7621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the beginning it was difficult to 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ople over a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6800" y="175248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i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ck ,heavy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480" y="28954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ow to m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 cal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ose d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400" y="2514600"/>
            <a:ext cx="63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ve to wind a handle to produce electr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l the operator and tell her which numb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ed. The operator connected the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made a note of the length of the call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960" y="44956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3240" y="46483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1877, 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563868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ay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3400" y="5305320"/>
            <a:ext cx="62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al wires were used to send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past. The problems with electrical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at they get weaker and weaker as they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metal w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858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01020T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a044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可以上网的电话机" descr=""/>
          <p:cNvPicPr/>
          <p:nvPr/>
        </p:nvPicPr>
        <p:blipFill>
          <a:blip r:embed="rId4"/>
          <a:stretch/>
        </p:blipFill>
        <p:spPr>
          <a:xfrm>
            <a:off x="0" y="26668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机器人电话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4197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ss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5760" y="593424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modern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57:33Z</dcterms:created>
  <dc:creator>顾炳愈</dc:creator>
  <dc:description/>
  <dc:language>en-US</dc:language>
  <cp:lastModifiedBy>aaa</cp:lastModifiedBy>
  <dcterms:modified xsi:type="dcterms:W3CDTF">2002-06-03T06:25:56Z</dcterms:modified>
  <cp:revision>95</cp:revision>
  <dc:subject/>
  <dc:title>PowerPoint 演示文稿</dc:title>
</cp:coreProperties>
</file>