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himes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52AC-BE7F-4220-93E7-CEDC417BD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5176-6766-47FF-A07E-CDF618F2C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7208-8FA4-478F-A755-4F3DA036B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C6A3-F820-49D5-8286-01D4ED5AB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D8DA-B4E3-4FA4-AE03-FD840B9D2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D1A3-8BE2-4513-9FD8-6989D00F4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EE20-F403-4EEC-9E8D-8657D956C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69F1-43DE-40F2-8D27-15BB6680D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B6AE-06BF-45F9-9317-0305397B3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E36C-D8C7-4C07-839B-280787489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D12C-8EE2-44B1-80B5-D2C89F7C7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5959-D86F-4036-AFC2-29DB2D07D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7D065-7144-459B-B198-3463BB1CCFF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0"/>
            <a:ext cx="83818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黑体"/>
                <a:ea typeface="黑体"/>
              </a:rPr>
              <a:t>           </a:t>
            </a:r>
            <a:r>
              <a:rPr b="1" lang="zh-CN" sz="4000" spc="-1" strike="noStrike">
                <a:solidFill>
                  <a:srgbClr val="cc3300"/>
                </a:solidFill>
                <a:latin typeface="黑体"/>
                <a:ea typeface="黑体"/>
              </a:rPr>
              <a:t>高考英语书面表达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60948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 </a:t>
            </a:r>
            <a:r>
              <a:rPr b="1" i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一</a:t>
            </a:r>
            <a:r>
              <a:rPr b="1" i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. </a:t>
            </a:r>
            <a:r>
              <a:rPr b="1" i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如何写好高考英语作文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12193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做好英语书面表达应当把握好几个重要步骤：审题找点，连词成句和组句成篇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1981080"/>
            <a:ext cx="86104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例： 在日常生活中，因特网起着越来越重要的作用。请根据下表所提示为某英文报纸写一篇题为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On the Internet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征文稿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因特网的主要用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62120" y="4724280"/>
            <a:ext cx="7924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838080" y="4038480"/>
          <a:ext cx="7620120" cy="2619360"/>
        </p:xfrm>
        <a:graphic>
          <a:graphicData uri="http://schemas.openxmlformats.org/drawingml/2006/table">
            <a:tbl>
              <a:tblPr/>
              <a:tblGrid>
                <a:gridCol w="1219320"/>
                <a:gridCol w="6400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信   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看国内外新闻，获取其他信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通   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发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—mail ,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打电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学   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上网上学校，阅读各种书籍，自学外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娱   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欣赏音乐，观看体育比赛，玩棋牌游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生   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购物，聊天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" name=""/>
          <p:cNvSpPr/>
          <p:nvPr/>
        </p:nvSpPr>
        <p:spPr>
          <a:xfrm>
            <a:off x="1127160" y="5811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228600"/>
            <a:ext cx="8915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在整篇文章中，避免只使用一两个句式，要灵活运用诸如倒装句，强调句，主从复合句，分词；状语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灵活地应用强调句。例如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243828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33"/>
                </a:solidFill>
                <a:latin typeface="Times New Roman"/>
              </a:rPr>
              <a:t>〈修正〉</a:t>
            </a: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My parents praised Ah Fu warmly. </a:t>
            </a:r>
            <a:r>
              <a:rPr b="1" i="1" lang="zh-CN" sz="2800" spc="-1" strike="noStrike">
                <a:solidFill>
                  <a:srgbClr val="660033"/>
                </a:solidFill>
                <a:latin typeface="Times New Roman"/>
              </a:rPr>
              <a:t>It was our brave Ah Fu who had saved my little sister brave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3505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由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wha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等引导的从句，此处的相当于中文的“所……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很大的概括力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5257800"/>
            <a:ext cx="805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由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with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或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withou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引导的短语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523880"/>
            <a:ext cx="9144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〈原文〉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My parents praised Ah Fu warmly. It had saved my little sister brave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896840" y="3886200"/>
            <a:ext cx="610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原文〉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We had to stand there to catch the offend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44784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〈修正〉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What we had to do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was (to) stand there, trying to catch the offend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3920" y="5784840"/>
            <a:ext cx="861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 sat in a chair </a:t>
            </a: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with a newspaper in the han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28600" y="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4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分词短语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9907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倒装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6002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省略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205740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对比，这是中文中也常用的方法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3048120"/>
            <a:ext cx="88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通过分词和合句，增强句子的连贯性和表现力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atisfied with the 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he decided to go on with a new experi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057400" y="91440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Only in this way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can we achieve our go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057400" y="1447920"/>
            <a:ext cx="670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If so</a:t>
            </a:r>
            <a:r>
              <a:rPr b="1" lang="en-US" sz="2800" spc="-1" strike="noStrike">
                <a:solidFill>
                  <a:srgbClr val="660033"/>
                </a:solidFill>
                <a:latin typeface="Times New Roman"/>
              </a:rPr>
              <a:t>, victory will be ou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4920" y="251460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When I play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I feel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excite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fter i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I feel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relaxe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35812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〈原文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He stopped us half an hour ago. He made us catch the next offend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4343400"/>
            <a:ext cx="87631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〈修正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He stopped us half an hour ago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and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made us catch the next offend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525780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对于“较复杂的词汇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可以从以下几个方面着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571500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使用一些有“洋味”的单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600200" y="6095880"/>
            <a:ext cx="60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ank you for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haring the time with u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注意使用词组，习语来代替一些单词，以增加文采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53352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原文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 new railway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is being buil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in my hometow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1143000"/>
            <a:ext cx="9144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修正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: A new railway is</a:t>
            </a:r>
            <a:r>
              <a:rPr b="1" i="1" lang="zh-CN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zh-CN" sz="2800" spc="-1" strike="noStrike">
                <a:solidFill>
                  <a:srgbClr val="cc3300"/>
                </a:solidFill>
                <a:latin typeface="Times New Roman"/>
              </a:rPr>
              <a:t>under construction</a:t>
            </a:r>
            <a:r>
              <a:rPr b="1" i="1" lang="zh-CN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in my hometow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175248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避免重复使用某一单词或短    语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228600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原文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I like reading while my brother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likes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watching TV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2819520"/>
            <a:ext cx="8915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修正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I like reading while my brother 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enjoy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watching TV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5053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以上列举的高分技巧需仔细研习，加强训练。强调的是，最好在没有错误的前提下作一些适当发挥。不要为了获取高分而挖空心思用大量华丽词藻去修饰，那样反而适得其反忽略主题。另外，如遇到一时难表达的要点，可采用变通的办法，绕道而行。应记住。同一意思有多种表达形式。总之，所造句子要得体，符合英美的表达习惯，避免汉语式英语，并要正确使用标点符号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1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0880" y="22860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49280"/>
            <a:ext cx="594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0"/>
            <a:ext cx="80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cc3300"/>
                </a:solidFill>
                <a:latin typeface="Times New Roman"/>
              </a:rPr>
              <a:t>一。如何审题找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609480"/>
            <a:ext cx="891540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仔细审视试题中所提供的所说明及图表提供的信息，在脑子里形成总的构思（格式，人称，时态，体裁等），然后提炼要点如：根据上文题目中表格的提示，列出要点如下：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因特网起着重要作用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通过因特网可了解国内外新闻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获取信息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可在因特网上发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e—mail,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打电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可在因特网上阅读各种书籍，上网上学校，自学外语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可在因特网上欣赏音乐，观看体育比赛，玩棋牌游戏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6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可在因特网上购物，聊天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7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因特网使人们生活更丰富多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6781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000000"/>
                </a:solidFill>
                <a:latin typeface="宋体"/>
              </a:rPr>
              <a:t>要点 </a:t>
            </a:r>
            <a:r>
              <a:rPr b="0" i="1" lang="zh-CN" sz="2400" spc="-1" strike="noStrike">
                <a:solidFill>
                  <a:srgbClr val="000000"/>
                </a:solidFill>
                <a:latin typeface="宋体"/>
              </a:rPr>
              <a:t>1:</a:t>
            </a:r>
            <a:r>
              <a:rPr b="1" i="1" lang="zh-CN" sz="2400" spc="-1" strike="noStrike">
                <a:solidFill>
                  <a:srgbClr val="cc3300"/>
                </a:solidFill>
                <a:latin typeface="宋体"/>
              </a:rPr>
              <a:t>因特网起着重要作用</a:t>
            </a:r>
            <a:r>
              <a:rPr b="0" i="1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457200"/>
            <a:ext cx="91440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000000"/>
                </a:solidFill>
                <a:latin typeface="宋体"/>
              </a:rPr>
              <a:t>表达一</a:t>
            </a:r>
            <a:r>
              <a:rPr b="0" i="1" lang="zh-CN" sz="2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i="1" lang="zh-CN" sz="2800" spc="-1" strike="noStrike">
                <a:solidFill>
                  <a:srgbClr val="3333cc"/>
                </a:solidFill>
                <a:latin typeface="宋体"/>
              </a:rPr>
              <a:t>The Internet is playing a more and more important part in our daily lif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295280"/>
            <a:ext cx="8839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000000"/>
                </a:solidFill>
                <a:latin typeface="宋体"/>
              </a:rPr>
              <a:t>表达二</a:t>
            </a:r>
            <a:r>
              <a:rPr b="0" i="1" lang="zh-CN" sz="2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i="1" lang="zh-CN" sz="2800" spc="-1" strike="noStrike">
                <a:solidFill>
                  <a:srgbClr val="660033"/>
                </a:solidFill>
                <a:latin typeface="宋体"/>
              </a:rPr>
              <a:t>The Internet is becoming more and more important in our daily lif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2286000"/>
            <a:ext cx="91440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000000"/>
                </a:solidFill>
                <a:latin typeface="宋体"/>
              </a:rPr>
              <a:t>表达三</a:t>
            </a:r>
            <a:r>
              <a:rPr b="0" i="1" lang="zh-CN" sz="2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i="1" lang="zh-CN" sz="2800" spc="-1" strike="noStrike">
                <a:solidFill>
                  <a:srgbClr val="000000"/>
                </a:solidFill>
                <a:latin typeface="宋体"/>
              </a:rPr>
              <a:t>Today the Internet takes a very important part in our daily lif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3200400"/>
            <a:ext cx="85345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i="1" lang="zh-CN" sz="2400" spc="-1" strike="noStrike">
                <a:solidFill>
                  <a:srgbClr val="cc3300"/>
                </a:solidFill>
                <a:latin typeface="宋体"/>
              </a:rPr>
              <a:t>通过因特网可了解国内外新闻</a:t>
            </a:r>
            <a:r>
              <a:rPr b="1" i="1" lang="zh-CN" sz="2400" spc="-1" strike="noStrike">
                <a:solidFill>
                  <a:srgbClr val="cc3300"/>
                </a:solidFill>
                <a:latin typeface="宋体"/>
              </a:rPr>
              <a:t>,</a:t>
            </a:r>
            <a:r>
              <a:rPr b="1" i="1" lang="zh-CN" sz="2400" spc="-1" strike="noStrike">
                <a:solidFill>
                  <a:srgbClr val="cc3300"/>
                </a:solidFill>
                <a:latin typeface="宋体"/>
              </a:rPr>
              <a:t>获取信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37339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表达一</a:t>
            </a:r>
            <a:r>
              <a:rPr b="1" i="1" lang="zh-CN" sz="2400" spc="-1" strike="noStrike">
                <a:solidFill>
                  <a:srgbClr val="3333cc"/>
                </a:solidFill>
                <a:latin typeface="宋体"/>
              </a:rPr>
              <a:t>:On the Internet, we can learn news both at home and abroad and all kinds of other information as we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45720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33"/>
                </a:solidFill>
                <a:latin typeface="宋体"/>
              </a:rPr>
              <a:t>表达二</a:t>
            </a:r>
            <a:r>
              <a:rPr b="0" i="1" lang="zh-CN" sz="2400" spc="-1" strike="noStrike">
                <a:solidFill>
                  <a:srgbClr val="660033"/>
                </a:solidFill>
                <a:latin typeface="宋体"/>
              </a:rPr>
              <a:t>:</a:t>
            </a:r>
            <a:r>
              <a:rPr b="1" i="1" lang="zh-CN" sz="2400" spc="-1" strike="noStrike">
                <a:solidFill>
                  <a:srgbClr val="660033"/>
                </a:solidFill>
                <a:latin typeface="宋体"/>
              </a:rPr>
              <a:t>On the Internet, we can get not only news from all over the world but also all kinds of other inform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54864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表达三</a:t>
            </a: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:News both at home and abroad as well as all kinds of other information can be learn on the Intern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0"/>
            <a:ext cx="7620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黑体"/>
                <a:ea typeface="黑体"/>
              </a:rPr>
              <a:t>3.</a:t>
            </a:r>
            <a:r>
              <a:rPr b="1" lang="zh-CN" sz="2400" spc="-1" strike="noStrike">
                <a:solidFill>
                  <a:srgbClr val="cc3300"/>
                </a:solidFill>
                <a:latin typeface="黑体"/>
                <a:ea typeface="黑体"/>
              </a:rPr>
              <a:t>可在因特网上发</a:t>
            </a:r>
            <a:r>
              <a:rPr b="1" lang="zh-CN" sz="2400" spc="-1" strike="noStrike">
                <a:solidFill>
                  <a:srgbClr val="cc3300"/>
                </a:solidFill>
                <a:latin typeface="黑体"/>
                <a:ea typeface="黑体"/>
              </a:rPr>
              <a:t>e—mail,</a:t>
            </a:r>
            <a:r>
              <a:rPr b="1" lang="zh-CN" sz="2400" spc="-1" strike="noStrike">
                <a:solidFill>
                  <a:srgbClr val="cc3300"/>
                </a:solidFill>
                <a:latin typeface="黑体"/>
                <a:ea typeface="黑体"/>
              </a:rPr>
              <a:t>打电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45720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表达一</a:t>
            </a:r>
            <a:r>
              <a:rPr b="1" i="1" lang="zh-CN" sz="2800" spc="-1" strike="noStrike">
                <a:solidFill>
                  <a:srgbClr val="3333cc"/>
                </a:solidFill>
                <a:latin typeface="Times New Roman"/>
              </a:rPr>
              <a:t>:We can also send message by E—mail and make phone cal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14479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表达二</a:t>
            </a:r>
            <a:r>
              <a:rPr b="1" i="1" lang="zh-CN" sz="2800" spc="-1" strike="noStrike">
                <a:solidFill>
                  <a:srgbClr val="660033"/>
                </a:solidFill>
                <a:latin typeface="Times New Roman"/>
              </a:rPr>
              <a:t>:It is very easy for us to send messages by E—mail and make telephone cal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25909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表达三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: To send message by E—mail and telephone others has become very easy for 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65760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黑体"/>
                <a:ea typeface="黑体"/>
              </a:rPr>
              <a:t>4.</a:t>
            </a:r>
            <a:r>
              <a:rPr b="1" lang="zh-CN" sz="2400" spc="-1" strike="noStrike">
                <a:solidFill>
                  <a:srgbClr val="cc3300"/>
                </a:solidFill>
                <a:latin typeface="黑体"/>
                <a:ea typeface="黑体"/>
              </a:rPr>
              <a:t>可在因特网上阅读各种书籍，上网上学校，自学外语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411480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表达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一</a:t>
            </a:r>
            <a:r>
              <a:rPr b="1" i="1" lang="zh-CN" sz="2800" spc="-1" strike="noStrike">
                <a:solidFill>
                  <a:srgbClr val="3333cc"/>
                </a:solidFill>
                <a:latin typeface="Times New Roman"/>
              </a:rPr>
              <a:t>:We can go to on—line school, read various kinds of books and learn foreign languages by ourselv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518148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660033"/>
                </a:solidFill>
                <a:latin typeface="Times New Roman"/>
              </a:rPr>
              <a:t>表达二</a:t>
            </a:r>
            <a:r>
              <a:rPr b="1" i="1" lang="zh-CN" sz="2800" spc="-1" strike="noStrike">
                <a:solidFill>
                  <a:srgbClr val="660033"/>
                </a:solidFill>
                <a:latin typeface="Times New Roman"/>
              </a:rPr>
              <a:t>:On the net we can easily find various kinds of books to read, teach ourselves foreign languages and go to on—line schoo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04920" y="220680"/>
            <a:ext cx="88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黑体"/>
                <a:ea typeface="黑体"/>
              </a:rPr>
              <a:t>5.</a:t>
            </a:r>
            <a:r>
              <a:rPr b="1" lang="zh-CN" sz="2400" spc="-1" strike="noStrike">
                <a:solidFill>
                  <a:srgbClr val="cc3300"/>
                </a:solidFill>
                <a:latin typeface="黑体"/>
                <a:ea typeface="黑体"/>
              </a:rPr>
              <a:t>可在因特网上欣赏音乐，观看体育比赛，玩棋牌游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04920" y="838080"/>
            <a:ext cx="8305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表达一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:We can enjoy music, watch sports or matches and play chess or cards on the n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04920" y="1828800"/>
            <a:ext cx="8610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3333cc"/>
                </a:solidFill>
                <a:latin typeface="Times New Roman"/>
              </a:rPr>
              <a:t>表达二</a:t>
            </a:r>
            <a:r>
              <a:rPr b="1" i="1" lang="zh-CN" sz="2800" spc="-1" strike="noStrike">
                <a:solidFill>
                  <a:srgbClr val="3333cc"/>
                </a:solidFill>
                <a:latin typeface="Times New Roman"/>
              </a:rPr>
              <a:t>:Enjoying music, watching sports or matches and playing cards can be done on the n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3886200"/>
            <a:ext cx="86104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表达三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:It is possible for us to do shopping, have a chat with others and make friends with them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04920" y="2819520"/>
            <a:ext cx="83055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6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可在因特网上购物，聊天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80880" y="3429000"/>
            <a:ext cx="876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660033"/>
                </a:solidFill>
                <a:latin typeface="Times New Roman"/>
              </a:rPr>
              <a:t>表达一</a:t>
            </a:r>
            <a:r>
              <a:rPr b="1" i="1" lang="zh-CN" sz="2800" spc="-1" strike="noStrike">
                <a:solidFill>
                  <a:srgbClr val="660033"/>
                </a:solidFill>
                <a:latin typeface="Times New Roman"/>
              </a:rPr>
              <a:t>:We can even do shopping , have a chat with others and make friends with th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04920" y="4518000"/>
            <a:ext cx="8610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3333cc"/>
                </a:solidFill>
                <a:latin typeface="Times New Roman"/>
              </a:rPr>
              <a:t>表达二</a:t>
            </a:r>
            <a:r>
              <a:rPr b="1" i="1" lang="zh-CN" sz="2800" spc="-1" strike="noStrike">
                <a:solidFill>
                  <a:srgbClr val="3333cc"/>
                </a:solidFill>
                <a:latin typeface="Times New Roman"/>
              </a:rPr>
              <a:t>:Doing shopping, chatting with others and making friends with them can be carried out on the n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0"/>
            <a:ext cx="7924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黑体"/>
                <a:ea typeface="黑体"/>
              </a:rPr>
              <a:t>7.</a:t>
            </a:r>
            <a:r>
              <a:rPr b="1" lang="zh-CN" sz="2400" spc="-1" strike="noStrike">
                <a:solidFill>
                  <a:srgbClr val="cc3300"/>
                </a:solidFill>
                <a:latin typeface="黑体"/>
                <a:ea typeface="黑体"/>
              </a:rPr>
              <a:t>因特网使人们生活更丰富多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5720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表达一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:The Internet has made our life more colorfu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99072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3333cc"/>
                </a:solidFill>
                <a:latin typeface="Times New Roman"/>
              </a:rPr>
              <a:t>表达二</a:t>
            </a:r>
            <a:r>
              <a:rPr b="1" i="1" lang="zh-CN" sz="2800" spc="-1" strike="noStrike">
                <a:solidFill>
                  <a:srgbClr val="3333cc"/>
                </a:solidFill>
                <a:latin typeface="Times New Roman"/>
              </a:rPr>
              <a:t>:Our life has become more colorful as the result of the Intern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0" y="190512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660033"/>
                </a:solidFill>
                <a:latin typeface="Times New Roman"/>
              </a:rPr>
              <a:t>表达三</a:t>
            </a:r>
            <a:r>
              <a:rPr b="1" i="1" lang="zh-CN" sz="2800" spc="-1" strike="noStrike">
                <a:solidFill>
                  <a:srgbClr val="660033"/>
                </a:solidFill>
                <a:latin typeface="Times New Roman"/>
              </a:rPr>
              <a:t>:It is the Internet that has made our life more interest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二：如何连句成段，组句成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3352680"/>
            <a:ext cx="91440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一）：主题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主题句是用来说明这一段的大意的。要写好一个段落，首先必须决定他写这段要表达些什么。主题句就是表明段落中心主旨的句子。例如，看了下面的三个主题句后，你可以预计该段作者要讨论什么问题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Owning a car is expensive.         Going to college requires much more self-reliance than going to high school.    Spring is the most pleasant season of the year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而像 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 saw Mary last week.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这样的句子似乎不能作为主题句来说明一段的中心思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二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):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语句间和段落间的连接—过渡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457200"/>
            <a:ext cx="883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过渡词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: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能起到连接句与句或段与段的中间媒介作用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如果使用得当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就可以使文章整篇书面表达顺畅自然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严密紧凑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1295280"/>
            <a:ext cx="91440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书面表达常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过渡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文章及段落起始的过渡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to begin wit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首先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generally speaking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总体上讲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first of all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首先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in the first place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首先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26668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文章及段落结尾常用的过渡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:   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therefore, thu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因此                        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in conclusio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最后   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in brief,  in a nutshell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简而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to sum u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总而言之   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in a wor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总之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3809880"/>
            <a:ext cx="86868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常见的表示先后次序的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过渡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: first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第一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second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第二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next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其次  然后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eventually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最后 最终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since then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自此之后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fterward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以后 随后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meanwhile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同时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erefore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因而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mmediatel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立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567072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四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常见的表示因果关系的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过渡词：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ccordingly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于是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for this reason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由于这个原因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s a result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结果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n this way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这样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so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所以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due to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由于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erefore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因而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because of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因为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us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这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228600"/>
            <a:ext cx="91440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五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常见的表示比较和对比的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过渡词：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n contrast wit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与之相比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similarly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同样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whereas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然而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on the contrary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相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different from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与……不同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equally important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同样重要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on the other han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另一方面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236232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33"/>
                </a:solidFill>
                <a:latin typeface="Times New Roman"/>
              </a:rPr>
              <a:t>六</a:t>
            </a:r>
            <a:r>
              <a:rPr b="0" lang="zh-CN" sz="2400" spc="-1" strike="noStrike">
                <a:solidFill>
                  <a:srgbClr val="660033"/>
                </a:solidFill>
                <a:latin typeface="Times New Roman"/>
              </a:rPr>
              <a:t>.</a:t>
            </a:r>
            <a:r>
              <a:rPr b="0" lang="zh-CN" sz="2400" spc="-1" strike="noStrike">
                <a:solidFill>
                  <a:srgbClr val="660033"/>
                </a:solidFill>
                <a:latin typeface="Times New Roman"/>
              </a:rPr>
              <a:t>常见的表示举例的</a:t>
            </a: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过渡词</a:t>
            </a: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for example (take…for example)</a:t>
            </a: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例如      </a:t>
            </a: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namely (that is) </a:t>
            </a: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即    </a:t>
            </a: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for instance </a:t>
            </a: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例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365760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七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常见的描写图表的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过渡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during this time / the period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在此期间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part from…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除了…之外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compared with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与…相比较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from the above table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根据上图所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510552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八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常见的描写图表的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过渡词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:       furthermore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此外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also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moreover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而且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besides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此外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in fact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实际上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indeed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的确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again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另外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in particular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尤其 特别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naturally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当然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自然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必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883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如何连词成句： 近几年来，高考作文要求在词法上，尽可能地应用已学过的而且比较熟练的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词组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400" spc="-1" strike="noStrike" u="sng">
                <a:solidFill>
                  <a:srgbClr val="cc3300"/>
                </a:solidFill>
                <a:uFillTx/>
                <a:latin typeface="Times New Roman"/>
              </a:rPr>
              <a:t>短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或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成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要在使用</a:t>
            </a:r>
            <a:r>
              <a:rPr b="1" lang="zh-CN" sz="2400" spc="-1" strike="noStrike" u="sng">
                <a:solidFill>
                  <a:srgbClr val="cc3300"/>
                </a:solidFill>
                <a:uFillTx/>
                <a:latin typeface="Times New Roman"/>
              </a:rPr>
              <a:t>动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zh-CN" sz="2400" spc="-1" strike="noStrike" u="sng">
                <a:solidFill>
                  <a:srgbClr val="cc3300"/>
                </a:solidFill>
                <a:uFillTx/>
                <a:latin typeface="Times New Roman"/>
              </a:rPr>
              <a:t>非谓语动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副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i="1" lang="zh-CN" sz="2400" spc="-1" strike="noStrike" u="sng">
                <a:solidFill>
                  <a:srgbClr val="cc3300"/>
                </a:solidFill>
                <a:uFillTx/>
                <a:latin typeface="Times New Roman"/>
              </a:rPr>
              <a:t>词语活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等方面多用笔墨；句法句式上，要求变换各种句式，如</a:t>
            </a:r>
            <a:r>
              <a:rPr b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强调句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zh-CN" sz="2400" spc="-1" strike="noStrike" u="sng">
                <a:solidFill>
                  <a:srgbClr val="000066"/>
                </a:solidFill>
                <a:uFillTx/>
                <a:latin typeface="Times New Roman"/>
              </a:rPr>
              <a:t>倒装句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400" spc="-1" strike="noStrike" u="sng">
                <a:solidFill>
                  <a:srgbClr val="cc3300"/>
                </a:solidFill>
                <a:uFillTx/>
                <a:latin typeface="Times New Roman"/>
              </a:rPr>
              <a:t>感叹句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省略句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400" spc="-1" strike="noStrike" u="sng">
                <a:solidFill>
                  <a:srgbClr val="cc3300"/>
                </a:solidFill>
                <a:uFillTx/>
                <a:latin typeface="Times New Roman"/>
              </a:rPr>
              <a:t>各种从句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固定句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等，以及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长句和短句的交错使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19051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660033"/>
                </a:solidFill>
                <a:latin typeface="Times New Roman"/>
              </a:rPr>
              <a:t>因此要想得高分，除了要点和语言准确度以外，还必须在较复杂的句子结构和词汇上有所表现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句式单一</a:t>
            </a:r>
            <a:r>
              <a:rPr b="1" i="1" lang="zh-CN" sz="2400" spc="-1" strike="noStrike">
                <a:solidFill>
                  <a:srgbClr val="660033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缺乏生气的文章</a:t>
            </a:r>
            <a:r>
              <a:rPr b="1" i="1" lang="zh-CN" sz="2400" spc="-1" strike="noStrike">
                <a:solidFill>
                  <a:srgbClr val="660033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哪怕没有任何错误也不可能得高分</a:t>
            </a: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。</a:t>
            </a:r>
            <a:r>
              <a:rPr b="1" i="1" lang="zh-CN" sz="2400" spc="-1" strike="noStrike">
                <a:solidFill>
                  <a:srgbClr val="660033"/>
                </a:solidFill>
                <a:latin typeface="Times New Roman"/>
              </a:rPr>
              <a:t>相反“有些错误，但是为了使用较复杂结构或较高级词汇所 致 ”。给分档次仍在最高档（</a:t>
            </a:r>
            <a:r>
              <a:rPr b="1" i="1" lang="zh-CN" sz="2400" spc="-1" strike="noStrike">
                <a:solidFill>
                  <a:srgbClr val="660033"/>
                </a:solidFill>
                <a:latin typeface="Times New Roman"/>
              </a:rPr>
              <a:t>21—25</a:t>
            </a:r>
            <a:r>
              <a:rPr b="1" i="1" lang="zh-CN" sz="2400" spc="-1" strike="noStrike">
                <a:solidFill>
                  <a:srgbClr val="660033"/>
                </a:solidFill>
                <a:latin typeface="Times New Roman"/>
              </a:rPr>
              <a:t>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505320"/>
            <a:ext cx="9144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对于增加句子的复杂性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可以从以下几个方面着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改变句子的开头方式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不要一味地都是主语开头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接着是谓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宾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最后再加一个状语。可以把</a:t>
            </a:r>
            <a:r>
              <a:rPr b="1" i="1" lang="zh-CN" sz="2400" spc="-1" strike="noStrike">
                <a:solidFill>
                  <a:srgbClr val="660033"/>
                </a:solidFill>
                <a:latin typeface="Times New Roman"/>
              </a:rPr>
              <a:t>状语置于句首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或</a:t>
            </a:r>
            <a:r>
              <a:rPr b="1" i="1" lang="zh-CN" sz="2400" spc="-1" strike="noStrike">
                <a:solidFill>
                  <a:srgbClr val="660033"/>
                </a:solidFill>
                <a:latin typeface="Times New Roman"/>
              </a:rPr>
              <a:t>用分词做状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等。例如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715000"/>
            <a:ext cx="89154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修正） </a:t>
            </a:r>
            <a:r>
              <a:rPr b="1" i="1" lang="zh-CN" sz="2400" spc="-1" strike="noStrike" u="sng">
                <a:solidFill>
                  <a:srgbClr val="cc3300"/>
                </a:solidFill>
                <a:uFillTx/>
                <a:latin typeface="Times New Roman"/>
              </a:rPr>
              <a:t>Early in the mornin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we met at the school gate and went there together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371600" y="4800600"/>
            <a:ext cx="7467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 原文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We met at the school gate and went there together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arly in the mor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7T14:21:52Z</dcterms:created>
  <dc:creator>杨</dc:creator>
  <dc:description/>
  <dc:language>en-US</dc:language>
  <cp:lastModifiedBy>紫中</cp:lastModifiedBy>
  <dcterms:modified xsi:type="dcterms:W3CDTF">2004-09-29T02:15:33Z</dcterms:modified>
  <cp:revision>10</cp:revision>
  <dc:subject/>
  <dc:title>PowerPoint 演示文稿</dc:title>
</cp:coreProperties>
</file>