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wind.wav" ContentType="audio/x-wav"/>
  <Override PartName="/ppt/media/type.wav" ContentType="audio/x-wav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  <p:sldId id="332" r:id="rId84"/>
    <p:sldId id="333" r:id="rId85"/>
    <p:sldId id="334" r:id="rId86"/>
    <p:sldId id="335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slide" Target="slides/slide77.xml"/><Relationship Id="rId85" Type="http://schemas.openxmlformats.org/officeDocument/2006/relationships/slide" Target="slides/slide78.xml"/><Relationship Id="rId86" Type="http://schemas.openxmlformats.org/officeDocument/2006/relationships/slide" Target="slides/slide79.xml"/><Relationship Id="rId87" Type="http://schemas.openxmlformats.org/officeDocument/2006/relationships/slide" Target="slides/slide80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F2E0-2444-4A78-9490-F28A20AD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B0DF-EDC4-4CA0-B3A3-1B8EE58D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F7F2-8C78-4CEC-A57D-D1686BC8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83FF-AD18-41D3-8EBE-4A959A6AD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1E70-7FCE-406C-B0FC-802010DAF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576E-B56B-400A-AE9C-6F33F252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FAD6-183A-475D-AA65-895BC820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4B61-82CB-41E6-98C1-FD3790DA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0ACA-1EA9-41D0-9388-4B12966A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70FA-92F9-4C31-BC7E-898BD576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6F2C-5858-4F59-8555-FE7E37E8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71A2-49F0-44B6-8061-E89E7FE0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0232-07A9-46D9-ACD6-106C1342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7A09-456F-4844-8690-CEC6D9ED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5CBD-3500-4D21-9CE5-F0C5D79F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4DF7-3150-4CE2-B7C3-F60B41F1A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93E9-FA3F-4780-9125-3D88EADA8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32E77-A591-4CE7-9197-D6375414D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DDDEB-2761-47F8-BEB3-AC26685C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A5ED3-569E-4BFD-86E0-7004F2EE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3234E-746C-4143-802B-CCA46058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3AA0A-61B6-4774-8C64-B328E48A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3139-FB3A-4691-8D45-6B0330C8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47C4C-08ED-4166-BD2C-2E874116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81C93-7408-47A4-A611-7FA25266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06C2E-A81F-4136-9C36-79DA90A8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4ADE5-3FFE-4BB2-A832-FE7A8475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CD294-0DC8-43F6-9879-AFAE9FCC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8289A-4AE3-436B-9769-9306CBFE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E87B5-0552-4BB9-82E6-66B7A2452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A4A36-4080-481F-AA94-0F9971259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75DA4-7A46-4B32-B112-CD01AA6C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49AA4-13E1-4513-A661-4BD605A3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4252-FD70-4874-8725-D0FCF4F8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5D2B2-4241-4661-B1D5-1711D189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6003D-5518-4D87-8B47-55A930A4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BAA5D-AB26-446C-9655-81E5A5AE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532E0-4191-4BFD-BD7E-DD57DABB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375F1-6006-4EBB-B251-7FD4E435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0767D-A7E2-482C-9C2A-43E1407C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92486-89D3-4469-8186-44E312F8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6EBEF-3E2B-4616-95A4-6DD188369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FBA0B-1145-43D0-8FB2-FBB2EA43E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68E7C-EDC2-4686-A241-C2E82DAD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E5B9-D487-4F3D-B88D-8638D3DA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A9D3A-D7D7-48D8-AED0-8BFEB1A3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10341-DCFC-43A7-8526-584D0DEA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CC01D-E903-4424-9C89-E4B2C59F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3F2FF-D269-4D71-8CA7-51FAF0AB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985FD-B634-4689-BE59-E330DBE7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D75B1-9B4A-46F1-B3EF-0FDD59EE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4ED5B-AD1A-4C5D-8D2D-B511DAE4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FFF54-E1DA-4931-A831-2F06BB54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47A0C-63E7-4BC7-93DC-466A2A6D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42986-335C-4DA7-A4BA-423AF085C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D82E-1EB9-4747-AD66-78494CAD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CEDFA-425C-43B1-94B9-D08659CAD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B065D-C8D3-4CC0-9B54-D679EA6EA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574C6-3598-475E-B137-792C5E61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00495-9F83-491A-AD56-97B86AD1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A8660-B46B-4837-A673-D8B5F0B3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36CC2-DCF3-44BE-9FAD-42D7548A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078C5-8601-42AB-A371-DF777E26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D5EC1-4CDC-487B-AF03-5C0D0073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50BAD-4FF9-4EFE-8407-29E0C41A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42270-E640-4A67-8E65-29D97FCE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7FD6-8EFB-4524-B861-4F856918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A2C59-5AA7-4F06-AB03-AAB16358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842C1-2C12-41C3-847B-891031B7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04025-A59F-4B24-ABAD-09E1EF43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AE81-69B1-453C-9CBB-154E607F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EEDD-CB07-4F09-B304-9C58B207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0E5B-8D2B-4F5F-B843-16B2E5556D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719E-281B-40DE-B3E9-3EB67F4333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39E3-EE17-4846-902F-0F18A67F7AD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BBAF-20E0-4B0C-8C8F-12B49AC2EBD1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35D0-0760-47DE-AFDA-1FA0F6DDCCBF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6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7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8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630D-5BC2-440B-9C3F-75795D003AD7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49.xml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slide" Target="slide52.xml"/><Relationship Id="rId6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" Target="slide55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49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22093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复合句中，修饰某个名词或代词的从句称为定语从句</a:t>
            </a: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The Attributive Clause</a:t>
            </a: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被定语从句所修饰的名词或代词叫先行词</a:t>
            </a: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ntecedent</a:t>
            </a: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br>
              <a:rPr sz="4800"/>
            </a:b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049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  <a:ea typeface="楷体_GB2312"/>
              </a:rPr>
              <a:t>Gramm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  <a:ea typeface="楷体_GB2312"/>
              </a:rPr>
              <a:t>The Attributive Clause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657360" y="1947960"/>
            <a:ext cx="7731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 plane is a machine. The machine can f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86240" y="1052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</a:rPr>
              <a:t>先行词和关系词的关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96240" y="1947960"/>
            <a:ext cx="76528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 plane is a machine. The machine can f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 plane is                                           can f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60840" y="4076640"/>
            <a:ext cx="2387520" cy="9471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mach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482920" y="4076640"/>
            <a:ext cx="2089080" cy="6476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Tahoma"/>
              </a:rPr>
              <a:t>a mach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96240" y="1947960"/>
            <a:ext cx="76528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 plane is a machine. The machine can f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 plane is                                           can f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482920" y="4076640"/>
            <a:ext cx="2089080" cy="6476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Tahoma"/>
              </a:rPr>
              <a:t>a mach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95840" y="4226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00440" y="4149720"/>
            <a:ext cx="22366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at /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5280" y="1989000"/>
            <a:ext cx="7561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2120" y="1989000"/>
            <a:ext cx="72352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e saw           yesterday is M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19520" y="4221000"/>
            <a:ext cx="7858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7760" y="4221000"/>
            <a:ext cx="15249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gi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82120" y="1989000"/>
            <a:ext cx="72352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e saw           yesterday is Mary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59320" y="3716280"/>
            <a:ext cx="7858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7760" y="4221000"/>
            <a:ext cx="15249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gi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2120" y="1989000"/>
            <a:ext cx="72352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e saw           yesterday is M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72040" y="3716280"/>
            <a:ext cx="7858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7760" y="4221000"/>
            <a:ext cx="15249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gi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5520" y="1989000"/>
            <a:ext cx="760716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e saw           yesterday is M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622600" y="3716280"/>
            <a:ext cx="7858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7760" y="4221000"/>
            <a:ext cx="15249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gi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9760" y="1989000"/>
            <a:ext cx="75142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e saw    yesterday is M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19320" y="3716280"/>
            <a:ext cx="7858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7760" y="4221000"/>
            <a:ext cx="15249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gi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9760" y="1989000"/>
            <a:ext cx="75142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e saw    yesterday is M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3680" y="4221000"/>
            <a:ext cx="7858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7760" y="4221000"/>
            <a:ext cx="15249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gi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04560" y="6854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引导定语从句的关系代词有：</a:t>
            </a: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who , whom , whose , that , which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关系代词的作用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连接定语从句的主句和从句；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指代先行词 ，并在从句中充当主语、宾语或定语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8800" y="1989000"/>
            <a:ext cx="81925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that / who we saw yesterday is M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95076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95280" y="2708280"/>
          <a:ext cx="7921800" cy="2887560"/>
        </p:xfrm>
        <a:graphic>
          <a:graphicData uri="http://schemas.openxmlformats.org/drawingml/2006/table">
            <a:tbl>
              <a:tblPr/>
              <a:tblGrid>
                <a:gridCol w="1584360"/>
                <a:gridCol w="1584360"/>
                <a:gridCol w="1584360"/>
                <a:gridCol w="1584360"/>
                <a:gridCol w="158436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指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指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主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宾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i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o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用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28720" y="204624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关系代词在从句中可以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18960" y="5805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何时可以省略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95076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395280" y="2708280"/>
          <a:ext cx="7921800" cy="2887560"/>
        </p:xfrm>
        <a:graphic>
          <a:graphicData uri="http://schemas.openxmlformats.org/drawingml/2006/table">
            <a:tbl>
              <a:tblPr/>
              <a:tblGrid>
                <a:gridCol w="1584360"/>
                <a:gridCol w="1584360"/>
                <a:gridCol w="1584360"/>
                <a:gridCol w="1584360"/>
                <a:gridCol w="158436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指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指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主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宾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i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o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用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54200" y="3354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37120" y="328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49840" y="3357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34200" y="328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37120" y="3860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21480" y="3860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234200" y="3860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81120" y="4365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634000" y="44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44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46528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6292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56000" y="39254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140360" y="45018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24360" y="51494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40360" y="514944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28720" y="204624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关系代词在从句中可以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18960" y="5805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何时可以省略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90240" y="62373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做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宾语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时可以省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068280" y="10638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用法练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3400" y="1844640"/>
            <a:ext cx="9096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eggs were not fresh. I bought them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The friend was not hungry. He came to supper last nig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He prefers the cheese. It comes from his parent’s fa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The noodles were delicious. You cooked th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I don’t like the people. They smoke a l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01760" y="2276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egg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that/which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 bought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were not fres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6680" y="3137040"/>
            <a:ext cx="1043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frie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o/ tha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ame to supper last night was not hungr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58480" y="3989520"/>
            <a:ext cx="1041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 prefers the chees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 / which i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comes from his parent’s fa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9600" y="4869000"/>
            <a:ext cx="901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noodle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 which/ that 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ou cooke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were delici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5200" y="5657760"/>
            <a:ext cx="77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don’t like the peopl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 / who the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smoke a l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92720" y="2349360"/>
            <a:ext cx="863640" cy="4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564000" y="3284640"/>
            <a:ext cx="43164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80000" y="4076640"/>
            <a:ext cx="432000" cy="4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56360" y="4941720"/>
            <a:ext cx="792000" cy="4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35640" y="5734080"/>
            <a:ext cx="792000" cy="43164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231000" y="10638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副词和先行词的关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35000" y="2133720"/>
            <a:ext cx="913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 still rememb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 day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e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 came he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 hous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er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 lived last ye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re are man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ason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y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eople like trave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 don’t lik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 way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at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you spea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50360" y="2565360"/>
            <a:ext cx="333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o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the day =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56640" y="3429000"/>
            <a:ext cx="37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the house=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87800" y="4292640"/>
            <a:ext cx="39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the reasons =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53320" y="5229360"/>
            <a:ext cx="30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the way =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55640" y="5877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关系副词实际上是介词＋先行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先行词为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tuation, case, point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时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, using whe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55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you think of a situation where you can use the wor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5640" y="1700280"/>
            <a:ext cx="9850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’ll never forget the days______________ w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ork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ge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I’ll never forget the days ___________ w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pen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ge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I went to the place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ork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en years ag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I went to the place _____________ I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visit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en years ag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This is the reason _____________________ he was l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the reason _____________________ 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av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87960" y="1628640"/>
            <a:ext cx="24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n /in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60120" y="256536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495960" y="3357720"/>
            <a:ext cx="25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re/ in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610800" y="427824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1880" y="5070600"/>
            <a:ext cx="24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y/ for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350160" y="593424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/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79640" y="9810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几种易混的情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89160" y="2997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及物动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41520" y="465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及物动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265520" y="6400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及物动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979640" y="9810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难用的  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隶书"/>
              </a:rPr>
              <a:t>who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teacher praised the student. His English is the best in our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933720"/>
            <a:ext cx="90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teacher praised the student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os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English 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best in our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77360" y="2133720"/>
            <a:ext cx="56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Join the following pair of senten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633920" y="4724280"/>
            <a:ext cx="39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ose =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student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’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5280" y="530064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关系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ose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实际上是先行词的所有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979640" y="9810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难用的  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隶书"/>
              </a:rPr>
              <a:t>who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79280" y="2565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house is mine. The window of the house is brok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7360" y="2133720"/>
            <a:ext cx="56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Join the following pair of senten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200" y="3573360"/>
            <a:ext cx="792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hous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os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indow is broken is m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13000" y="4133880"/>
            <a:ext cx="50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ose=the house’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6400" y="515772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house                                                    is m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050920" y="4941720"/>
            <a:ext cx="432000" cy="1079640"/>
          </a:xfrm>
          <a:custGeom>
            <a:avLst/>
            <a:gdLst>
              <a:gd name="textAreaLeft" fmla="*/ 276120 w 432000"/>
              <a:gd name="textAreaRight" fmla="*/ 432360 w 43200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09200" y="4700520"/>
            <a:ext cx="48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he window of which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is brok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20360" y="5734080"/>
            <a:ext cx="48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of which the window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is brok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908000" y="98100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非限制性定语从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-51120" y="2997360"/>
            <a:ext cx="61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town where I live is beauti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Kenli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here I live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beauti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-82440" y="2122560"/>
            <a:ext cx="967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achers who are kind are popular with the stud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r Wang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ho is kind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popular with the student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77280" y="174780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lease comp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0" y="4221000"/>
          <a:ext cx="8280360" cy="252720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657080"/>
                <a:gridCol w="1656000"/>
                <a:gridCol w="1655640"/>
              </a:tblGrid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形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作用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能否省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翻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限制性定语从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非限制性定语从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83944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Who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ma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visited our school yesterday is Mr Brown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bo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we saw yesterday is Jack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 is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bo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 went to school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ith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908000" y="98100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非限制性定语从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-51120" y="2997360"/>
            <a:ext cx="61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town where I live is beauti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Kenli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here I live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beauti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-82440" y="2122560"/>
            <a:ext cx="967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achers who are kind are popular with the stud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r Wang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ho is kind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popular with the student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277280" y="174780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lease comp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0" y="4221000"/>
          <a:ext cx="8280360" cy="252720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657080"/>
                <a:gridCol w="1656000"/>
                <a:gridCol w="1655640"/>
              </a:tblGrid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形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作用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翻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限制性定语从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非限制性定语从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"/>
          <p:cNvSpPr/>
          <p:nvPr/>
        </p:nvSpPr>
        <p:spPr>
          <a:xfrm>
            <a:off x="1692360" y="6021360"/>
            <a:ext cx="16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插入成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611880" y="5141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修饰限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62560" y="6078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补充解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08360" y="6093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436720" y="5084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不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938640" y="5084640"/>
            <a:ext cx="88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>
            <a:hlinkClick r:id="rId1" action="ppaction://hlinksldjump"/>
          </p:cNvPr>
          <p:cNvSpPr/>
          <p:nvPr/>
        </p:nvSpPr>
        <p:spPr>
          <a:xfrm>
            <a:off x="5289840" y="4292640"/>
            <a:ext cx="1034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能否省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>
            <a:hlinkClick r:id="rId2" action="ppaction://hlinksldjump"/>
          </p:cNvPr>
          <p:cNvSpPr/>
          <p:nvPr/>
        </p:nvSpPr>
        <p:spPr>
          <a:xfrm>
            <a:off x="8388360" y="6435720"/>
            <a:ext cx="433440" cy="422280"/>
          </a:xfrm>
          <a:custGeom>
            <a:avLst/>
            <a:gdLst>
              <a:gd name="textAreaLeft" fmla="*/ 27360 w 433440"/>
              <a:gd name="textAreaRight" fmla="*/ 406080 w 43344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2170" h="21600">
                <a:moveTo>
                  <a:pt x="0" y="0"/>
                </a:moveTo>
                <a:lnTo>
                  <a:pt x="22170" y="0"/>
                </a:lnTo>
                <a:lnTo>
                  <a:pt x="22170" y="21600"/>
                </a:lnTo>
                <a:lnTo>
                  <a:pt x="0" y="21600"/>
                </a:lnTo>
                <a:close/>
              </a:path>
              <a:path fill="lightenLess" w="22170" h="21600">
                <a:moveTo>
                  <a:pt x="0" y="0"/>
                </a:moveTo>
                <a:lnTo>
                  <a:pt x="22170" y="0"/>
                </a:lnTo>
                <a:lnTo>
                  <a:pt x="20770" y="1400"/>
                </a:lnTo>
                <a:lnTo>
                  <a:pt x="1400" y="1400"/>
                </a:lnTo>
                <a:close/>
              </a:path>
              <a:path fill="darken" w="22170" h="21600">
                <a:moveTo>
                  <a:pt x="22170" y="0"/>
                </a:moveTo>
                <a:lnTo>
                  <a:pt x="22170" y="21600"/>
                </a:lnTo>
                <a:lnTo>
                  <a:pt x="20770" y="20200"/>
                </a:lnTo>
                <a:lnTo>
                  <a:pt x="20770" y="1400"/>
                </a:lnTo>
                <a:close/>
              </a:path>
              <a:path fill="darkenLess" w="22170" h="21600">
                <a:moveTo>
                  <a:pt x="221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70" y="20200"/>
                </a:lnTo>
                <a:close/>
              </a:path>
              <a:path fill="lighten" w="221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70" h="21600">
                <a:moveTo>
                  <a:pt x="4079" y="3794"/>
                </a:moveTo>
                <a:lnTo>
                  <a:pt x="18092" y="10800"/>
                </a:lnTo>
                <a:lnTo>
                  <a:pt x="4079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-82440" y="2122560"/>
            <a:ext cx="967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achers who are kind are popular with the stud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r Wang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ho is kind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popular with the student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63640" y="2060640"/>
            <a:ext cx="223200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35280" y="2637000"/>
            <a:ext cx="1944720" cy="50292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1547640" y="119700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分析两种定语从句省略后的结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099800" y="2565360"/>
            <a:ext cx="61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town where I live is beauti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Kenli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here I live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beauti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987640" y="2565360"/>
            <a:ext cx="2087640" cy="43344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68360" y="3068640"/>
            <a:ext cx="2087640" cy="43344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1547640" y="119700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分析两种定语从句省略后的结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79736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限制性定语从句省略后主语所指就不明确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所以不能省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187280" y="981000"/>
            <a:ext cx="72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非限制性定语从句和单句的比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5760" y="3213000"/>
            <a:ext cx="84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.He failed in the exam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_______ made his parents ang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He failed in the exam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_______made his parents ang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0400" y="5157720"/>
            <a:ext cx="74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He has two sons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Both of ________ are teacher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.He has two sons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both of ________ are teach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389480" y="32130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258080" y="35733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35120" y="2209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790160" y="54450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788000" y="508464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67440" y="4005360"/>
            <a:ext cx="109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9520" y="2708280"/>
            <a:ext cx="85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.I am reading Harry Porter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_____is an interesting boo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575960" y="2637000"/>
            <a:ext cx="10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0920" y="59500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He has two sons, both of them teach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50920" y="4437000"/>
            <a:ext cx="95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failed in the exam and this made his parents ang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258920" y="10587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隶书"/>
              </a:rPr>
              <a:t>as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引导的非限制性定语从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3520" y="2060640"/>
            <a:ext cx="793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earth is round._____ is known to 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earth is round,_____ is known to 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_____ is known to all, the earth is 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______ is known to all </a:t>
            </a:r>
            <a:r>
              <a:rPr b="1" i="1" lang="en-US" sz="2800" spc="-1" strike="noStrike">
                <a:solidFill>
                  <a:srgbClr val="1c1c1c"/>
                </a:solidFill>
                <a:latin typeface="Tahoma"/>
              </a:rPr>
              <a:t>that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earth is rou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082040" y="2046240"/>
            <a:ext cx="4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12320" y="2770200"/>
            <a:ext cx="124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/ as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42880" y="3773520"/>
            <a:ext cx="60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83120" y="4638600"/>
            <a:ext cx="4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5280" y="5229360"/>
            <a:ext cx="92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具有正如之意，与之搭配的动词一般是固定的，如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you know/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you see/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e planned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e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1280" y="427824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定语从句在句首时只能用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258920" y="10587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隶书"/>
              </a:rPr>
              <a:t>as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引导的非限制性定语从句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隶书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55640" y="2708280"/>
            <a:ext cx="5709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the same pen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a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 l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the same pen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at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 l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14040" y="191628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lease comp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42920" y="3416400"/>
            <a:ext cx="44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这本书和我丢的那本一模一样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574720" y="4581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这本书就是我丢的那本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1258920" y="10587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隶书"/>
              </a:rPr>
              <a:t>as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引导的限制性定语从句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隶书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5760" y="2565360"/>
            <a:ext cx="869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uc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an interesting book ____ we all lik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o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nteresting a book _____ we all lik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uc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an interesting book ____we all lik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t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o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interesting a book ____we all lik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t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2000" y="2549520"/>
            <a:ext cx="5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858640" y="42051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56040" y="1916280"/>
            <a:ext cx="85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lease complete the following sentences and comp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648400" y="2981160"/>
            <a:ext cx="5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284080" y="47102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394000" y="3586320"/>
            <a:ext cx="44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这是大家都喜欢的如此有趣的一本书。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定语从句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66800" y="531324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这本书如此有趣，大家都喜欢。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结果状语从句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989000" y="104292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03320" y="2565360"/>
            <a:ext cx="909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m  you spoke     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78560" y="256536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02200" y="341460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5.08553E-006 C 0.00087 -0.02472 0.00173 -0.04923 -0.01788 -0.06194 C -0.0375 -0.07466 -0.08646 -0.07373 -0.11788 -0.07674 C -0.14931 -0.07974 -0.17604 -0.07974 -0.20677 -0.07974 C -0.2375 -0.07974 -0.27604 -0.0772 -0.30226 -0.07674 C -0.32847 -0.07627 -0.34566 -0.08251 -0.36459 -0.07674 C -0.38351 -0.07096 -0.40573 -0.05454 -0.41563 -0.04137 C -0.42552 -0.02819 -0.42257 -0.00531 -0.42448 0.003 E">
                                      <p:cBhvr>
                                        <p:cTn id="402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.00069 C -0.00729 -0.01203 -0.01441 -0.02451 -0.02448 -0.0319 C -0.03455 -0.0393 -0.04878 -0.04115 -0.05989 -0.04369 C -0.07101 -0.04624 -0.08073 -0.04577 -0.09114 -0.0467 C -0.10156 -0.04762 -0.10972 -0.0497 -0.12222 -0.0497 C -0.13472 -0.0497 -0.15295 -0.0467 -0.16667 -0.0467 C -0.18038 -0.0467 -0.19323 -0.04924 -0.20434 -0.0497 C -0.21545 -0.05017 -0.22292 -0.05017 -0.23333 -0.0497 C -0.24375 -0.04924 -0.25417 -0.04716 -0.26667 -0.0467 C -0.27917 -0.04624 -0.2967 -0.0467 -0.30885 -0.0467 C -0.32101 -0.0467 -0.33212 -0.04855 -0.33993 -0.0467 C -0.34774 -0.04485 -0.35156 -0.03976 -0.35555 -0.03491 C -0.35955 -0.03006 -0.3618 -0.02312 -0.36441 -0.01711 C -0.36701 -0.0111 -0.36996 -0.0037 -0.37101 0.00069 E">
                                      <p:cBhvr>
                                        <p:cTn id="406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989000" y="104292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05840" y="2565360"/>
            <a:ext cx="952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/whom  you spoke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that/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6120" y="256536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996160" y="341460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141920" y="191628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 these two sentences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995840" y="1042920"/>
            <a:ext cx="33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5840" y="2565360"/>
            <a:ext cx="952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/whom  you spoke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that/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442200" y="20606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54920" y="299736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41920" y="191628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 these two sentences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152280" y="99036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Whom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ma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you are going to visit is a famous writer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ve you met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perso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bout whom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he was speaking?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989000" y="104292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5840" y="2565360"/>
            <a:ext cx="952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/whom  you spoke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that/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62560" y="20606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291280" y="306864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141920" y="191628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 these two sentences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989000" y="104292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5840" y="2565360"/>
            <a:ext cx="952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/whom  you spoke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that/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633840" y="20606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706920" y="306864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141920" y="191628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 these two sentences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989000" y="104292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5840" y="2565360"/>
            <a:ext cx="952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/whom  you spoke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that/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762200" y="20606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546200" y="306864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141920" y="191628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 these two sentences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1989000" y="104292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05840" y="2565360"/>
            <a:ext cx="952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/whom  you spoke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that/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762200" y="256536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546200" y="341460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340000" y="25059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457000" y="3357000"/>
            <a:ext cx="52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141920" y="191628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 these two sentences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68360" y="442260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可见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who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at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不能用与介词之后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995840" y="1042920"/>
            <a:ext cx="33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249228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s this the watch that you ar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looking for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old man whom I am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looking after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better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47840" y="4802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68360" y="4422600"/>
            <a:ext cx="799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在固定短语中介词不能提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are for, call on, put off, listen to, look for, look aft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826640" y="1916280"/>
            <a:ext cx="25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下面两句中的介词能提前吗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0" y="-1112760"/>
            <a:ext cx="9144000" cy="90835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0" y="-1035000"/>
            <a:ext cx="9144000" cy="78930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92400" y="47628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. 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 you like the book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e spent $10?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  Do you like the book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e paid $10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  Do you like the book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he learned a lot?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  Do you like the book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he often talks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.  He built a telescope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e could study the sk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. There is a tall tree outside,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tands our teach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.  China has a lot of rivers, the second longest 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the Yellow Riv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. The tower _______             people can have a good view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on the hi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. The man ________ I spoke on the phone last nigh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very good at wrestl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. He paid the boy $10 for washing ten window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st ______        hadn’t been cleaned for at least a ye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788640" y="4572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781080" y="81108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781080" y="114300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rom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796560" y="152388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out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778920" y="1905120"/>
            <a:ext cx="20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rough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267800" y="227664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nder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445440" y="266688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f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052000" y="340344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rom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039040" y="412416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 wh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551240" y="522936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f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589480" y="0"/>
            <a:ext cx="402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      练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-10440" y="1881360"/>
            <a:ext cx="92685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He did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all / everything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_______he could to help 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This is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the very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ng _______ I am af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We talked about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the men and the thing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_______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e remembered at schoo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He is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the onl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man _______ can do the 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.This is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the fir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thing _______ I want to s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.He is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the fine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man _______ I have ever work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i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Wh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s the man _______ spoke to you at the g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Which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s the star _______ is nearest to the ear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054160" y="1049400"/>
            <a:ext cx="37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at , which or wh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>
            <a:hlinkClick r:id="rId1" action="ppaction://hlinksldjump"/>
          </p:cNvPr>
          <p:cNvSpPr/>
          <p:nvPr/>
        </p:nvSpPr>
        <p:spPr>
          <a:xfrm>
            <a:off x="4573800" y="197316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>
            <a:hlinkClick r:id="rId2" action="ppaction://hlinksldjump"/>
          </p:cNvPr>
          <p:cNvSpPr/>
          <p:nvPr/>
        </p:nvSpPr>
        <p:spPr>
          <a:xfrm>
            <a:off x="4567320" y="249228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>
            <a:hlinkClick r:id="rId3" action="ppaction://hlinksldjump"/>
          </p:cNvPr>
          <p:cNvSpPr/>
          <p:nvPr/>
        </p:nvSpPr>
        <p:spPr>
          <a:xfrm>
            <a:off x="7453440" y="292428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997440" y="386064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213440" y="442260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>
            <a:hlinkClick r:id="rId4" action="ppaction://hlinksldjump"/>
          </p:cNvPr>
          <p:cNvSpPr/>
          <p:nvPr/>
        </p:nvSpPr>
        <p:spPr>
          <a:xfrm>
            <a:off x="4206960" y="486900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565800" y="586260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>
            <a:hlinkClick r:id="rId5" action="ppaction://hlinksldjump"/>
          </p:cNvPr>
          <p:cNvSpPr/>
          <p:nvPr/>
        </p:nvSpPr>
        <p:spPr>
          <a:xfrm>
            <a:off x="3565800" y="636588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447840" y="331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397160" y="1049400"/>
            <a:ext cx="62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at , which ,whose, whom or wh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49400" y="2205000"/>
            <a:ext cx="981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9.Is there anything els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ou want to sa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0.Any pers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s the money can join the grou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1.He often speaks the role he played in the play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de others up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2.He opened the door, in front of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t a bo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3.The man t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 spoke is a famous scienti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4.The bo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ther is dead was brought u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y his fa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502520" y="220500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061080" y="276552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>
            <a:hlinkClick r:id="rId1" action="ppaction://hlinksldjump"/>
          </p:cNvPr>
          <p:cNvSpPr/>
          <p:nvPr/>
        </p:nvSpPr>
        <p:spPr>
          <a:xfrm>
            <a:off x="250920" y="364500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>
            <a:hlinkClick r:id="rId2" action="ppaction://hlinksldjump"/>
          </p:cNvPr>
          <p:cNvSpPr/>
          <p:nvPr/>
        </p:nvSpPr>
        <p:spPr>
          <a:xfrm>
            <a:off x="6227640" y="4149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774520" y="465300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341800" y="515772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3" name="" descr="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7308720" y="6058080"/>
            <a:ext cx="122400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525960" y="2997360"/>
            <a:ext cx="729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当先行词是不定代词时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如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ll ,few, little, much,  every, something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nything, everything,  none, one, any,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68720" y="1120680"/>
            <a:ext cx="40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hat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684360" y="4797360"/>
            <a:ext cx="54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re anything that I can do for you in tow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250920" y="292428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当先行词被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e only, the very, the sam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ittle, few, no, any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等修饰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68720" y="1120680"/>
            <a:ext cx="40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hat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11280" y="429264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only film I find interes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That    </a:t>
            </a:r>
            <a:r>
              <a:rPr b="0" i="1" lang="en-US" sz="4800" spc="-1" strike="noStrike">
                <a:solidFill>
                  <a:srgbClr val="ff0033"/>
                </a:solidFill>
                <a:latin typeface="Arial"/>
              </a:rPr>
              <a:t>(people</a:t>
            </a:r>
            <a:r>
              <a:rPr b="0" i="1" lang="zh-CN" sz="4800" spc="-1" strike="noStrike">
                <a:solidFill>
                  <a:srgbClr val="ff0033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’s ask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ma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s reading the book over ther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girl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hat)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we saw yesterday is Jim’s sister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250920" y="2924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当人和物合做先行词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268720" y="1120680"/>
            <a:ext cx="40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hat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116000" y="3357720"/>
            <a:ext cx="54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talked about the teachers and schools that he had visi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250920" y="2924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当先行词被序数词或形容词最高级修饰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476360" y="1120680"/>
            <a:ext cx="56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hat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116000" y="4067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best film that I’ve ever s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476360" y="5013360"/>
            <a:ext cx="590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187280" y="4581360"/>
            <a:ext cx="60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first place that I visited last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250920" y="2924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在疑问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o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ich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at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开头的句子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476360" y="1120680"/>
            <a:ext cx="56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hat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258920" y="3933720"/>
            <a:ext cx="51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is the man that is speaking over ther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关系代词在从句中作表语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"/>
          <p:cNvSpPr/>
          <p:nvPr/>
        </p:nvSpPr>
        <p:spPr>
          <a:xfrm>
            <a:off x="1258920" y="342900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is no longer the boy that he was 10 years ag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250920" y="2924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在非限制性定语从句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284200" y="1120680"/>
            <a:ext cx="437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hich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611280" y="285264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在介词后面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2304360" y="1120680"/>
            <a:ext cx="428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hich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116000" y="3573360"/>
            <a:ext cx="6985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ouse that we live in is not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ouse we live in is not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ouse in which we live is not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ouse which we live in is not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先行词为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ose, he, she , anyone,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等代词表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人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”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关系代词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,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一般不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ose who want to go there must be at the school gate by 7:00 p.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 who doesn’t reach the Great Wall is not a true m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762120" y="685800"/>
            <a:ext cx="7696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结论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先行词有下列情况时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通常 用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that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而  不用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which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1)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先行词是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all, something, much,  little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等不定代词时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2)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先行词前有序数词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形容词最高级或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no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any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等词时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先行词前有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the last,the very, the only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等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3)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如果先行词中既含有表示人的名词又有表示物的名词时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4)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若主句中有疑问代词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who,which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为了避免重复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关系代词不要再用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who,whi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79280" y="2048400"/>
            <a:ext cx="856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 I know the reason 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＿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 he came l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 Do you know the woman, _______son went 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ollege last yea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 The house _______ color is red is john’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. This is the best film _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＿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 I’ve ever se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500720" y="101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102280" y="2565360"/>
            <a:ext cx="14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276720" y="281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76720" y="2892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240440" y="400536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581200" y="3500280"/>
            <a:ext cx="14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04560" y="1979640"/>
            <a:ext cx="90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w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79280" y="1803960"/>
            <a:ext cx="856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5. That’s the town 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＿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___ he worked in 1987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6. I have 2 brothers, 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＿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__ are both soldi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7. Next week, _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＿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_ you’ll spend in you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hometown ,is com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. I’ve tried 2 pairs of shoes, neither of 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＿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__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its me we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500720" y="101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76720" y="281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276720" y="2892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470760" y="1773360"/>
            <a:ext cx="13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951720" y="2276640"/>
            <a:ext cx="9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068960" y="378936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892240" y="278136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That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ff0033"/>
                </a:solidFill>
                <a:latin typeface="Arial"/>
              </a:rPr>
              <a:t>(things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plane is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 machin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can fly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cake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hat)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 cooked were deliciou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395280" y="432360"/>
            <a:ext cx="8345520" cy="55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33cc"/>
              </a:buClr>
              <a:buFont typeface="Monotype Corsiv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Tell me the reason ____ you were late for 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2. Who is the girl _____ is speaking there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3. This is Mr. Smith, _____ has something interesting to tell yo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4. The computer ________ CPU doesn’t work has to b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     </a:t>
            </a: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repai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466800" y="1413000"/>
            <a:ext cx="9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088080" y="220500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591360" y="3068640"/>
            <a:ext cx="9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85920" y="4221000"/>
            <a:ext cx="14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210960" y="464040"/>
            <a:ext cx="89330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5. This kind of computer, _____ is well-known 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is out of d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6. This is just the place ___ I’ve been long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o visit for yea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7. His mother is an engineer, ____ makes hi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very prou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8. The old man has 4 sons, three of ____ a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            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doct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876560" y="54936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600800" y="198900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411520" y="342900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27680" y="4869000"/>
            <a:ext cx="13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699840" y="1484280"/>
            <a:ext cx="802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1.The earth is round, _________ is known to 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61160" y="2708280"/>
            <a:ext cx="72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2. ____ is known to all, the earth is 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195440" y="138096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345280" y="13809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80560" y="248292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68360" y="4437000"/>
            <a:ext cx="92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ahoma"/>
              </a:rPr>
              <a:t>as 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具有“正如”之意，搭配的动词一般是固定的，如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you know/ </a:t>
            </a:r>
            <a:r>
              <a:rPr b="1" lang="en-US" sz="2800" spc="-1" strike="noStrike">
                <a:solidFill>
                  <a:srgbClr val="cc0066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you see/</a:t>
            </a:r>
            <a:r>
              <a:rPr b="1" lang="en-US" sz="2800" spc="-1" strike="noStrike">
                <a:solidFill>
                  <a:srgbClr val="cc0066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we planned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we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0" y="0"/>
            <a:ext cx="893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0920" y="836640"/>
            <a:ext cx="8497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结论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: as ,which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均可引导非限制性定语从句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,as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引导的从句可以放在句首、句中、句末，有“如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..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正象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…”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之意， 与之连用的词有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know, see, expect, announce, point out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等，常用被动结构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s is announced(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据宣布）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s is reported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据报道）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s is expected(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正如所期待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料想的那样；不出所料）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s has been explained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正如所解释的那样）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304920" y="692280"/>
            <a:ext cx="854064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may be imagined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is pointed out;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has been said before;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is mentioned above;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is shown;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is known to all,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we all know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等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which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引导的从句通常置句后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此外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the same…as…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uch….as…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中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引导的是限制性定语从句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-24120" y="1052640"/>
            <a:ext cx="91796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1.I’ll never forget the days______________ we </a:t>
            </a:r>
            <a:r>
              <a:rPr b="1" lang="en-US" sz="2600" spc="-1" strike="noStrike" u="sng">
                <a:solidFill>
                  <a:srgbClr val="0033cc"/>
                </a:solidFill>
                <a:uFillTx/>
                <a:latin typeface="Times New Roman"/>
              </a:rPr>
              <a:t>worked</a:t>
            </a: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togethe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    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2.I’ll never forget the days ___________ we </a:t>
            </a:r>
            <a:r>
              <a:rPr b="1" lang="en-US" sz="2600" spc="-1" strike="noStrike" u="sng">
                <a:solidFill>
                  <a:srgbClr val="0033cc"/>
                </a:solidFill>
                <a:uFillTx/>
                <a:latin typeface="Times New Roman"/>
              </a:rPr>
              <a:t>spent</a:t>
            </a: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togethe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                    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3.I went to the place</a:t>
            </a:r>
            <a:r>
              <a:rPr b="1" lang="en-US" sz="2600" spc="-1" strike="noStrike" u="sng">
                <a:solidFill>
                  <a:srgbClr val="0033cc"/>
                </a:solidFill>
                <a:uFillTx/>
                <a:latin typeface="Times New Roman"/>
              </a:rPr>
              <a:t>                                 </a:t>
            </a: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I </a:t>
            </a:r>
            <a:r>
              <a:rPr b="1" lang="en-US" sz="2600" spc="-1" strike="noStrike" u="sng">
                <a:solidFill>
                  <a:srgbClr val="0033cc"/>
                </a:solidFill>
                <a:uFillTx/>
                <a:latin typeface="Times New Roman"/>
              </a:rPr>
              <a:t>worked</a:t>
            </a: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ten years ag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4.I went to the place _____________ I </a:t>
            </a:r>
            <a:r>
              <a:rPr b="1" lang="en-US" sz="2600" spc="-1" strike="noStrike" u="sng">
                <a:solidFill>
                  <a:srgbClr val="0033cc"/>
                </a:solidFill>
                <a:uFillTx/>
                <a:latin typeface="Times New Roman"/>
              </a:rPr>
              <a:t>visited</a:t>
            </a: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ten years ag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5.This is the reason _____________________ he was lat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6.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is is the reason _____________________ h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gav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83240" y="981000"/>
            <a:ext cx="24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n /in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069440" y="177336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91240" y="2565360"/>
            <a:ext cx="25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re/ in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0160" y="335772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990520" y="4221000"/>
            <a:ext cx="24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y/ for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34160" y="494172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/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189120" y="2349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ahoma"/>
              </a:rPr>
              <a:t>及物动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397120" y="393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ahoma"/>
              </a:rPr>
              <a:t>及物动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49480" y="5589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ahoma"/>
              </a:rPr>
              <a:t>及物动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78360" y="331920"/>
            <a:ext cx="33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关系代词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?             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关系副词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5911920"/>
            <a:ext cx="83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7. I’ll never forget the day ____ we visited the vill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067280" y="5877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-108720" y="705240"/>
            <a:ext cx="9738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e Difference Between “that” and “which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Complete the following sentences with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“that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r “which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s is the 2nd article ____ I have writt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in Englis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2. It is the best film _____ he has ever se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3. This is the very book _____ I want to re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4. All ____ they told me surprised 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5. They talked about the teachers and schoo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        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_____ they had visi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032440" y="263700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26280" y="357336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32440" y="414504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432080" y="458136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936800" y="551664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-589320" y="1342440"/>
            <a:ext cx="10894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BatangChe"/>
              <a:buAutoNum type="arabicPeriod" startAt="9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He paid the boy $10 for washing the window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most of _______ hadn’t been cleaned at lea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a ye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10. The weather turned out to be very good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    </a:t>
            </a: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_______ was more than we could expe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11. The clever boy made a hole in the wall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through _______ he could see what was going 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           </a:t>
            </a: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inside the hou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300720" y="60181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315880" y="206064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171800" y="3500280"/>
            <a:ext cx="140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171520" y="443700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212760" y="44280"/>
            <a:ext cx="8931240" cy="64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Correct mistakes</a:t>
            </a: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1.I saw some trees leaves of which were black with diseas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ff"/>
                </a:solidFill>
                <a:latin typeface="Times New Roman"/>
              </a:rPr>
              <a:t>在</a:t>
            </a:r>
            <a:r>
              <a:rPr b="1" lang="en-US" sz="3000" spc="-1" strike="noStrike">
                <a:solidFill>
                  <a:srgbClr val="cc00ff"/>
                </a:solidFill>
                <a:latin typeface="Times New Roman"/>
              </a:rPr>
              <a:t>leaves </a:t>
            </a:r>
            <a:r>
              <a:rPr b="1" lang="zh-CN" sz="3000" spc="-1" strike="noStrike">
                <a:solidFill>
                  <a:srgbClr val="cc00ff"/>
                </a:solidFill>
                <a:latin typeface="Times New Roman"/>
              </a:rPr>
              <a:t>前加</a:t>
            </a:r>
            <a:r>
              <a:rPr b="1" lang="en-US" sz="3000" spc="-1" strike="noStrike">
                <a:solidFill>
                  <a:srgbClr val="cc00ff"/>
                </a:solidFill>
                <a:latin typeface="Times New Roman"/>
              </a:rPr>
              <a:t>the 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2.Here is the pen you lost it yesterday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ff"/>
                </a:solidFill>
                <a:latin typeface="Times New Roman"/>
              </a:rPr>
              <a:t>去掉</a:t>
            </a:r>
            <a:r>
              <a:rPr b="1" lang="en-US" sz="3000" spc="-1" strike="noStrike">
                <a:solidFill>
                  <a:srgbClr val="cc00ff"/>
                </a:solidFill>
                <a:latin typeface="Times New Roman"/>
              </a:rPr>
              <a:t>i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3.The girl told me the news is not here now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ff"/>
                </a:solidFill>
                <a:latin typeface="Times New Roman"/>
              </a:rPr>
              <a:t>Adding “who” before tol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4.This is the village where my father worked in three  years   ago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①</a:t>
            </a:r>
            <a:r>
              <a:rPr b="1" lang="en-US" sz="3000" spc="-1" strike="noStrike">
                <a:solidFill>
                  <a:srgbClr val="cc00ff"/>
                </a:solidFill>
                <a:latin typeface="Times New Roman"/>
              </a:rPr>
              <a:t>“</a:t>
            </a:r>
            <a:r>
              <a:rPr b="1" lang="en-US" sz="3000" spc="-1" strike="noStrike">
                <a:solidFill>
                  <a:srgbClr val="cc00ff"/>
                </a:solidFill>
                <a:latin typeface="Times New Roman"/>
              </a:rPr>
              <a:t>Chang “where into “which”</a:t>
            </a: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② </a:t>
            </a: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omitted “i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900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900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3000" fill="hold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3000" fill="hold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6" dur="3000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1" dur="2000"/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2000" fill="hold"/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2000" fill="hold"/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9308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5.The reason why he gave us sounded a little strange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hange” why” into “that/which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6.He is the only one of the students who know  French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now” should be changed into “knows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7.I’ll never forget the day on which I spent with you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mit “on” or “on which” should be omitted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8.Which was planned, we met at the railway station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ich” should be changed into “as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9.This is the teacher with whom we’ve learnt a lo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ith” should be turned into “from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0.Is this farm we visited last year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dding “the one” after thi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2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2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20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4" dur="2000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9" dur="2000"/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2000" fill="hold"/>
                                        <p:tgtEl>
                                          <p:spTgt spid="6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2000" fill="hold"/>
                                        <p:tgtEl>
                                          <p:spTgt spid="6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2000" fill="hold"/>
                                        <p:tgtEl>
                                          <p:spTgt spid="6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2000" fill="hold"/>
                                        <p:tgtEl>
                                          <p:spTgt spid="6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2000" fill="hold"/>
                                        <p:tgtEl>
                                          <p:spTgt spid="6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2000" fill="hold"/>
                                        <p:tgtEl>
                                          <p:spTgt spid="6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8" dur="2000"/>
                                        <p:tgtEl>
                                          <p:spTgt spid="6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Which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me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book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hich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s whit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fish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hich)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we bought were not fresh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. The film brought the hours back to me ___I was taken good care of in that far-away village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 until   B. that   C. when  D. wher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___ is known to everybody, the moon travels round the earth once every month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 It  B. As  C. That   D. Wh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orothy was always speaking highly of her role in the play, ___ , of course, made the others unhappy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 who   B. which   C. this   D. what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11280" y="11970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26920" y="2637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564000" y="47242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304920" y="259920"/>
            <a:ext cx="854064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介词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+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关系代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由先行词的习惯搭配或根据先行词的需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speed at which light travels is 300,000km  per second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room in which there is a blackboard is their classroom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介词可能是从句谓语的一个部分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或动词所需要的搭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on’t bring children to see the animals of which they are afraid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s is the job at which they laughed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7" dur="5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7" dur="500"/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2" dur="500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7" dur="500"/>
                                        <p:tgtEl>
                                          <p:spTgt spid="6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2" dur="500"/>
                                        <p:tgtEl>
                                          <p:spTgt spid="6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540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表示所有关系或整体的一部分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常用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f whic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hina has hundreds of islands, the largest of which is Taiwan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 have many friends, ___ some are business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 of them   B. from which   C. who of  D. of whom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ome, any, several, many, most, all, both, neither, none, half, one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等和形容词比较级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最高级之后接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f whom / which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356000" y="2205000"/>
            <a:ext cx="100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500720" y="2421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9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4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9" dur="500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North Island is famous for an area of hot springs, some of which throw hot water high into the air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re are altogether 11 books on the shelf, ___ five are mine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 on which   B. in which   C. of which  D. from whic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re are 2 buildings, ___ stands nearly 100 feet high.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 the larger  B. the larger of them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. the larger one that   D. the larger of whic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55640" y="2421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859280" y="393372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6" dur="5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1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6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6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572"/>
                </a:solidFill>
                <a:latin typeface="Arial"/>
              </a:rPr>
              <a:t>Fill in the blanks with “prep + whom/which” .</a:t>
            </a:r>
            <a:endParaRPr b="0" lang="en-US" sz="2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5406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teacher ____ _______ I learnt most was Mrs. Zhu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hat’s the name of the sport _____ ______ you go in a boat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athematics is the subject ______  _______ I am most interested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s is the question ______  __________ we have had a discussion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s is the house __________  _________ I was born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203640" y="1125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rom      wh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651640" y="328464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651640" y="3284640"/>
            <a:ext cx="28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500720" y="436572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bout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500720" y="53737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   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88000" y="213372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5406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his is the pen ________  _______ I wrote the letter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 that the girl ________  ________ you lent your bicycle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Here is the address _______  _______ you should writ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se are the things _______  ________ I spoke just now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s that the fish _______  _______ you asked the waiter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427640" y="33336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ith             whi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140360" y="162864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o       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59280" y="270828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o  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859280" y="371628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bout  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635280" y="4869000"/>
            <a:ext cx="331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851280" y="486900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or  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540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moon is a ball ______  _______ there are no living things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ater is very important to fish, _______  _____ it can't live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e love the village _______  _______ we work for two years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eter,______  ______ I played tennis on Sundays, was stronger than I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859280" y="13413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on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516720" y="2349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ith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042920" y="29242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572000" y="3429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   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916360" y="4508640"/>
            <a:ext cx="29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ith wh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854064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man is in the next room. He brought us the letter yesterday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film is interesting. They saw it last nigh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pen is mine. He has taken it away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students will not pass the exam. They don’t work hard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lady is our teacher. You saw her just now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900000" y="90792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man who brought us the letter yesterday is in the next ro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971640" y="234936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film they saw last night is interes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26920" y="3284640"/>
            <a:ext cx="71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pen he has taken away is m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84360" y="458136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students who don’t work hard will not pass the ex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26920" y="59500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lady who you saw just now is our teac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4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468360" y="1197000"/>
            <a:ext cx="92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The man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who lives next to us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sells vegetab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1116000" y="1916280"/>
            <a:ext cx="71280" cy="9363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10840" y="3279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先行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924360" y="1916280"/>
            <a:ext cx="647640" cy="7207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403080" y="2727360"/>
            <a:ext cx="37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放置于名词之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修饰名词的从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556000" y="1844640"/>
            <a:ext cx="144360" cy="23050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506320" y="4221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关系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400560" y="4083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19640" y="4076640"/>
            <a:ext cx="144360" cy="865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81120" y="3782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连接作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905280" y="3808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904560" y="481644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428080" y="47912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在从句中充当成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706640" y="2565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1" dur="8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2" dur="8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3" dur="8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726480" y="36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关系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258920" y="1557360"/>
            <a:ext cx="431640" cy="3744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97560 h 3744720"/>
              <a:gd name="textAreaBottom" fmla="*/ 3647160 h 37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404720" y="981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012400" y="907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关系代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620720" y="4940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372760" y="4935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关系副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348000" y="47628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44920" y="351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173120" y="331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指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544920" y="1287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173120" y="1339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指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565440" y="22035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682520" y="2198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指某一情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768560" y="3510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941440" y="331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716360" y="763560"/>
            <a:ext cx="10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868720" y="76356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860720" y="13399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725080" y="13399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0" y="13590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633280" y="2224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003080" y="2224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5651280" y="2637000"/>
            <a:ext cx="360360" cy="287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160240" y="2846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不能放于句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236000" y="2708280"/>
            <a:ext cx="72720" cy="11523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726520" y="3984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放于句中或句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557120" y="429264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正如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81080" y="49402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078520" y="49402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588000" y="5013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864800" y="170028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主语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宾语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391480" y="537228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状语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rry is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o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mother is our maths teach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saw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ree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leaves were blac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saw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ome tree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the leaves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f whi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were blac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saw some trees,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f whi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the leaves were blac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24000" y="3075120"/>
            <a:ext cx="85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Thank you for your attendan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o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宾（介词后置）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om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宾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关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ose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定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系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at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词后置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代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词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ich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宾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物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at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词后置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ose 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f which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定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8080" y="1066680"/>
            <a:ext cx="228600" cy="4496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7000 h 4496040"/>
              <a:gd name="textAreaBottom" fmla="*/ 4379040 h 449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05120" y="533520"/>
            <a:ext cx="228600" cy="2574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66960 h 2574720"/>
              <a:gd name="textAreaBottom" fmla="*/ 2507760 h 257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28800" y="4495680"/>
            <a:ext cx="228600" cy="1812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160 h 1812960"/>
              <a:gd name="textAreaBottom" fmla="*/ 1765800 h 181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5181480"/>
            <a:ext cx="1523880" cy="1451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C SYSTEM</cp:lastModifiedBy>
  <dcterms:modified xsi:type="dcterms:W3CDTF">2005-09-13T14:02:35Z</dcterms:modified>
  <cp:revision>25</cp:revision>
  <dc:subject/>
  <dc:title>PowerPoint Presentation</dc:title>
</cp:coreProperties>
</file>