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AF5-BF39-4193-A503-876B9FA2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2C3-3C40-4261-BE7C-5261AE9B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C16-2ECF-416C-A712-B1C27C7F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B0B-F6B3-4CDF-8F66-B53B13F6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D31-D292-416F-B8A4-6782CA91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84D9-B563-43D0-9A46-34377986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4C2-5274-4DE2-82E0-BA2976BE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269-D416-405A-8FB6-0FA38ECD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0BCA-99D3-498C-BB04-B7DD6953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A06-A849-489B-8069-2E149191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33E-3CB5-48D8-865E-5F758872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B37-E133-4ECA-801A-15354C60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C366-8180-4CA9-A99D-05965AF59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首页大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9360" y="914400"/>
            <a:ext cx="6727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lay a ga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Today is Sunday . Liu Mei is very busy today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Her mother is not at home . So she has to d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lot of  things  . What does she have to do ?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you gu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3600" y="29718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oes she have to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2819520"/>
          <a:ext cx="8001000" cy="2819160"/>
        </p:xfrm>
        <a:graphic>
          <a:graphicData uri="http://schemas.openxmlformats.org/drawingml/2006/table">
            <a:tbl>
              <a:tblPr/>
              <a:tblGrid>
                <a:gridCol w="1398600"/>
                <a:gridCol w="2602080"/>
                <a:gridCol w="1299960"/>
                <a:gridCol w="270036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She / He  has to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33160" y="1371600"/>
            <a:ext cx="76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ind out three thing your friends have to do at hom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rite down their answers in the for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首页大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865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9720" y="304920"/>
            <a:ext cx="415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doe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s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tidy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9240" y="213372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in Tao :      tidy the garde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05120"/>
            <a:ext cx="5105160" cy="7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0320" y="281952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ruce :         stay at ho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4840" y="3571920"/>
            <a:ext cx="49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James :        do his home work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1040" y="4343400"/>
            <a:ext cx="54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ucy :          help with the cooking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320" y="5105520"/>
            <a:ext cx="50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Kate :          look after the bab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1040" y="586728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om :          do the washing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21640" y="219240"/>
            <a:ext cx="59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will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Ann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do tomorr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6040" y="83808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will 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7840" y="1447920"/>
            <a:ext cx="57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o some shopping with her Momm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4479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ccff"/>
                </a:solidFill>
                <a:latin typeface="Times New Roman"/>
              </a:rPr>
              <a:t>(Mumm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7120" y="205740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ing her friends to her part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43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6760" y="2895480"/>
            <a:ext cx="55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will her Mommy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5680" y="335268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some shopp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3392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pare for the foo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9720" y="41497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k the meal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352680"/>
            <a:ext cx="3124080" cy="1219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0560" y="4714920"/>
            <a:ext cx="53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will her friends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400" y="522288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y the presents for 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400" y="5680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 to her part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181480"/>
            <a:ext cx="3657600" cy="129564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图1-400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62520" cy="3414600"/>
          </a:xfrm>
          <a:prstGeom prst="rect">
            <a:avLst/>
          </a:prstGeom>
          <a:ln w="0">
            <a:noFill/>
          </a:ln>
        </p:spPr>
      </p:pic>
      <p:pic>
        <p:nvPicPr>
          <p:cNvPr id="69" name="图1-400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0200" y="11937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y can’t she co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0200" y="152388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has to help her Momm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640" y="190512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at does she have to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2000" y="2286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has to help with the wash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120" y="266688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s she coming l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304812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will come if she ca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143000"/>
            <a:ext cx="5333760" cy="2362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800" y="3776760"/>
            <a:ext cx="844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where’s Meime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 can’t come .She has to help her Momm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What does she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 has to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elp with the washing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Is she coming la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’ll come if she ca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Oh well , Let’s ask Wei Hua instea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2-400" descr=""/>
          <p:cNvPicPr/>
          <p:nvPr/>
        </p:nvPicPr>
        <p:blipFill>
          <a:blip r:embed="rId2"/>
          <a:stretch/>
        </p:blipFill>
        <p:spPr>
          <a:xfrm flipH="1">
            <a:off x="-360" y="2133720"/>
            <a:ext cx="3048120" cy="2590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9" name="图3-400" descr=""/>
          <p:cNvPicPr/>
          <p:nvPr/>
        </p:nvPicPr>
        <p:blipFill>
          <a:blip r:embed="rId3"/>
          <a:stretch/>
        </p:blipFill>
        <p:spPr>
          <a:xfrm>
            <a:off x="3048120" y="2133720"/>
            <a:ext cx="3047760" cy="2624040"/>
          </a:xfrm>
          <a:prstGeom prst="rect">
            <a:avLst/>
          </a:prstGeom>
          <a:ln w="0">
            <a:noFill/>
          </a:ln>
        </p:spPr>
      </p:pic>
      <p:pic>
        <p:nvPicPr>
          <p:cNvPr id="80" name="图4-400" descr=""/>
          <p:cNvPicPr/>
          <p:nvPr/>
        </p:nvPicPr>
        <p:blipFill>
          <a:blip r:embed="rId4"/>
          <a:stretch/>
        </p:blipFill>
        <p:spPr>
          <a:xfrm>
            <a:off x="6095880" y="2133720"/>
            <a:ext cx="3048120" cy="2625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133720"/>
            <a:ext cx="2971800" cy="25905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2133720"/>
            <a:ext cx="3124080" cy="259056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133720"/>
            <a:ext cx="304812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5-400" descr=""/>
          <p:cNvPicPr/>
          <p:nvPr/>
        </p:nvPicPr>
        <p:blipFill>
          <a:blip r:embed="rId2"/>
          <a:stretch/>
        </p:blipFill>
        <p:spPr>
          <a:xfrm>
            <a:off x="2666880" y="1657440"/>
            <a:ext cx="3962520" cy="3543120"/>
          </a:xfrm>
          <a:prstGeom prst="rect">
            <a:avLst/>
          </a:prstGeom>
          <a:ln w="0">
            <a:noFill/>
          </a:ln>
        </p:spPr>
      </p:pic>
      <p:pic>
        <p:nvPicPr>
          <p:cNvPr id="86" name="图5-400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19376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at does he have to do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0200" y="1523880"/>
            <a:ext cx="50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I’m not sure . I think he may hav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finish his homewor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143000"/>
            <a:ext cx="5333760" cy="129528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960" y="2971800"/>
            <a:ext cx="8737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where’s Li Le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He can’t make it today. He has to stay at ho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I’m not sure . I think he may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ave to help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d in the garde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Is he coming la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He’ll come if he ca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Oh well , we’ll have to ask Zhang Li instead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8-400" descr=""/>
          <p:cNvPicPr/>
          <p:nvPr/>
        </p:nvPicPr>
        <p:blipFill>
          <a:blip r:embed="rId2"/>
          <a:stretch/>
        </p:blipFill>
        <p:spPr>
          <a:xfrm>
            <a:off x="6095880" y="2133720"/>
            <a:ext cx="3048120" cy="2625480"/>
          </a:xfrm>
          <a:prstGeom prst="rect">
            <a:avLst/>
          </a:prstGeom>
          <a:ln w="0">
            <a:noFill/>
          </a:ln>
        </p:spPr>
      </p:pic>
      <p:pic>
        <p:nvPicPr>
          <p:cNvPr id="93" name="图7-400" descr=""/>
          <p:cNvPicPr/>
          <p:nvPr/>
        </p:nvPicPr>
        <p:blipFill>
          <a:blip r:embed="rId3"/>
          <a:stretch/>
        </p:blipFill>
        <p:spPr>
          <a:xfrm>
            <a:off x="2971800" y="2133720"/>
            <a:ext cx="3124080" cy="2625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133720"/>
            <a:ext cx="2971800" cy="25905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2133720"/>
            <a:ext cx="3124080" cy="259056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2133720"/>
            <a:ext cx="304812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图6-400" descr=""/>
          <p:cNvPicPr/>
          <p:nvPr/>
        </p:nvPicPr>
        <p:blipFill>
          <a:blip r:embed="rId4"/>
          <a:stretch/>
        </p:blipFill>
        <p:spPr>
          <a:xfrm>
            <a:off x="0" y="2133720"/>
            <a:ext cx="29718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51720" y="1828800"/>
            <a:ext cx="336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ere’re the twin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ey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0640" y="3886200"/>
            <a:ext cx="21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ere’s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e | Sh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1:33:02Z</dcterms:created>
  <dc:creator>eetdc</dc:creator>
  <dc:description/>
  <dc:language>en-US</dc:language>
  <cp:lastModifiedBy>wb</cp:lastModifiedBy>
  <dcterms:modified xsi:type="dcterms:W3CDTF">2001-04-30T05:36:36Z</dcterms:modified>
  <cp:revision>18</cp:revision>
  <dc:subject/>
  <dc:title>PowerPoint 演示文稿</dc:title>
</cp:coreProperties>
</file>