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1EB-697D-4D37-B35D-1E6C7192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2C3-2FCA-427B-9395-83B13BE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0C9-6B54-4E04-BE0D-AF20A8C5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4AB-A2DE-44FB-9FC6-19DB588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44D-219F-49EB-B236-B0C93980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6DD-90D9-4344-928F-941D463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E29-BF6A-4C9D-8E3C-68CF211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E63-D900-4CFD-9A0A-C0F9FE3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8C8-1B40-41D1-A822-92DAA42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C46-A4E4-4F37-B490-4843E23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C67-B484-4601-9BB8-613E1C8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081-26D7-4463-B940-759C8BB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19E-9BBE-46E6-82E6-3B5DFF555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1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5715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 you arrive to your work pla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ray to God and ask his guid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gel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42670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oler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808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nderstand that not everybody is at your leve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609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eive praise with reticen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35049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humil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God is with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That is called L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eet your colleag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47960" y="4419720"/>
            <a:ext cx="5105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friendship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gel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o everybody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ngel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990720"/>
            <a:ext cx="3962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 and organize your da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refle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gel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64832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4724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aking a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45720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w that you have planned everything begin to w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ngel7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64796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52880" y="19051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ust that everything will be O.K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faith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ngel2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48006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enthusiasm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99072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Work with happin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ngel12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4864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057400" y="4952880"/>
            <a:ext cx="8229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xcelle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2895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ngel14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elp those with more difficulties than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compas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uannell Owens</cp:lastModifiedBy>
  <dcterms:modified xsi:type="dcterms:W3CDTF">2000-03-04T01:13:17Z</dcterms:modified>
  <cp:revision>14</cp:revision>
  <dc:subject/>
  <dc:title>Slide sem título </dc:title>
</cp:coreProperties>
</file>