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456-F6E7-4ADD-B5CC-DEDB3268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F0E-5779-4F8F-979E-C1F23B1B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4F4-1976-44A9-BF15-FCEF981D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CEA-2DD7-4711-B6FC-50BB29F4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48A-45FC-41B5-8B49-01CB8A6B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310-105E-4AA5-8E64-7A5EA0E2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45D-61AC-49E9-AF3B-F4F1B9B0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D57-DF28-4928-8754-532F1EB4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576-025C-4F65-AB17-9BDEA688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CBE-74A0-4357-A142-B8152649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A527-2250-4F65-B766-4C3F988D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1CA-80F8-4B79-ADB1-0B2A7B26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B255-218D-4817-9BC3-A92198CE6C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155520"/>
            <a:ext cx="8839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-ing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式用作状语时，其逻辑主语一般应与句子的主语一致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Living in the country, we had few amu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Being unable to help in any other way, I gave her som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从山上看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e can see as far as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已经失望两次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I decided to work much harder than bef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14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eing on the top of the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ing disappointed myself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23:56:46Z</dcterms:created>
  <dc:creator>user</dc:creator>
  <dc:description/>
  <dc:language>en-US</dc:language>
  <cp:lastModifiedBy>user</cp:lastModifiedBy>
  <dcterms:modified xsi:type="dcterms:W3CDTF">2003-08-09T00:04:42Z</dcterms:modified>
  <cp:revision>2</cp:revision>
  <dc:subject/>
  <dc:title>PowerPoint 演示文稿</dc:title>
</cp:coreProperties>
</file>