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3EF-5E5C-47E0-9A09-33B230FD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62C-2256-4C40-BA28-FE6E17A9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95E-D480-4601-9FF0-BF0BF71B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D71-A1D8-4E00-A521-DF511409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4AE-6294-4B23-B506-4990F1D9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EB4-D8E5-4D98-A97B-DA216F3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7D9-F111-465F-BFDE-10C30832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F6C-F7ED-435A-AC38-B046E7C7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069-59F2-46C2-8384-C25CEFD9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8FC-1AA5-4BA3-99E9-FA0C82B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CE5-DA30-49C4-8017-2D0CB9A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AF0-2E63-490A-B4EE-4511A6B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3BB4-97D4-49DB-A163-0F1CB1ADE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4360" y="765000"/>
            <a:ext cx="5354280" cy="1574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as if “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好像”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可接表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或方式状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99736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e makes it seem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this is one of the most delicious meals that he has ever enjoy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1560" y="2705040"/>
            <a:ext cx="911520" cy="341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1960" y="1382760"/>
            <a:ext cx="620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s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acted as though 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d never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3440" y="1295280"/>
            <a:ext cx="5089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ill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spoke as if s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ouldn’t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47440" y="1752480"/>
            <a:ext cx="42040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若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陈述语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则表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较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真实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429000"/>
            <a:ext cx="707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looks as if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it is going to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r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268280"/>
            <a:ext cx="686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English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is no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141720"/>
            <a:ext cx="6716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e speaks English ____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71628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English was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6000" y="1557360"/>
            <a:ext cx="86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se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look as if____________ 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you had seen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29852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climb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I reached the fourth floor, I felt 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14972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I had climbed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7280" y="1413000"/>
            <a:ext cx="74214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seems as if he ____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A.was              B.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.has been       D.had 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371628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0000" y="260280"/>
            <a:ext cx="7580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en a pencil is partly in a glass of water, it looks as if  it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r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s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re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d been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3645000"/>
            <a:ext cx="5040360" cy="863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084640"/>
            <a:ext cx="7164360" cy="947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主句和从句中的谓语动词 所表达 的动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发生，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般过去 式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从句的动作在主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生， 则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去 完成 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692280"/>
            <a:ext cx="7869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wo strangers talked as if they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01336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981000"/>
            <a:ext cx="80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ook at the clouds. It looks as if it ____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50864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3640" y="3141720"/>
            <a:ext cx="3889440" cy="13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seemed that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后用陈述语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421000"/>
            <a:ext cx="80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The woman loves the children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  <a:ea typeface="黑体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 she were their m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4520" y="954000"/>
            <a:ext cx="2375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状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62064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eacher treated us as if we ____ her own child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igh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924280"/>
            <a:ext cx="27370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0200" y="2427120"/>
            <a:ext cx="390852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从句的情况与主句同时发生，动词用过去式：从句的情况发生在主句之前，谓语用过去完成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2708280"/>
            <a:ext cx="69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通常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as if / as though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后面的概念是“不真实的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39320" y="2133720"/>
            <a:ext cx="71287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ne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6400" y="762120"/>
            <a:ext cx="4028760" cy="764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 if = as 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2640" y="373392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But he doesn’t know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0760" y="4724280"/>
            <a:ext cx="5871240" cy="76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现在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5960" y="1523880"/>
            <a:ext cx="806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about R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there him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4680" y="3276720"/>
            <a:ext cx="725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e hasn’t or probably hasn’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1680" y="4419720"/>
            <a:ext cx="4586760" cy="157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完成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27320" y="2565360"/>
            <a:ext cx="68846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ate so much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n’t 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 meal for day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4200" y="1425600"/>
            <a:ext cx="621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e spok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h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ouldn’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240" y="3213000"/>
            <a:ext cx="54475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she will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653000"/>
            <a:ext cx="82087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谈论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将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的情况，从句中用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过去将来式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4360" y="316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1360" y="1523880"/>
            <a:ext cx="618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is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talked to him as if 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0800" y="533520"/>
            <a:ext cx="7224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d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take a sho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 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hen she came in from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rainstorm,she looked as 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had ta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shower wi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8:24:30Z</dcterms:created>
  <dc:creator>Legend User</dc:creator>
  <dc:description/>
  <dc:language>en-US</dc:language>
  <cp:lastModifiedBy>Legend User</cp:lastModifiedBy>
  <dcterms:modified xsi:type="dcterms:W3CDTF">2002-11-25T12:54:29Z</dcterms:modified>
  <cp:revision>11</cp:revision>
  <dc:subject/>
  <dc:title>PowerPoint 演示文稿</dc:title>
</cp:coreProperties>
</file>