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F69-E588-4E87-938B-8B97D657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0BF-E073-42F2-B08F-3E77BA5B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C488-78DF-4614-A441-4D4C0D0E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6C6-501D-445C-8759-A21E95C2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BCE9-AE9D-43D8-9391-D708EA50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2A1C-2A75-40C2-8712-CA033FCA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381D-01DC-43ED-90FD-38D4C94C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BFC5-40A9-443A-B0F4-5E3C37A2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39B7-A4B7-4559-9E44-A9FCEB99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6212-772A-4F7B-AD19-9A0AD726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EAB1-D3D0-4120-9E39-D5E003DA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907-7EAA-4A9F-B795-D57812F8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E2CF-0DAE-4252-8CAC-AA56CBFF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3334-31B8-49EA-A6C9-21619385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BB65-A23B-4800-804C-ADDFF946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5995-5E1C-488B-8EFF-4C531AD0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0E82-2402-4DB8-B921-9CD3419D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6CAF-9B90-4F0E-909E-7B08568B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A023-87CB-45CE-AD48-A14125A2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289-1DF0-4CBE-9FAF-53531087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FA4-0D1E-42D9-9788-2F6C9FF2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D8A-6B6A-4A64-920A-A63FAB68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F8A-0992-46AF-9ECD-5E9D26DF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69B-DAE9-4198-8D82-0CB95466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1EF9-846F-4140-8033-4AC2D9F391A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F847-B776-4F51-A010-D94D3E6CE9D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73600" y="762120"/>
            <a:ext cx="7970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.You didn’t let me dr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f we ___ in turn,you 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so t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drove;didn’t 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drove;wouldn’t 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ere driving;wouldn’t 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driven;wouldn’t have g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6019920"/>
            <a:ext cx="7924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240" y="1143000"/>
            <a:ext cx="705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0.---Has Tom been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New York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---No,but she wish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she 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would     B.will next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d          D.had next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56386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1400" y="1295280"/>
            <a:ext cx="763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1.The two strangers tal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s if the ___ friends for yea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sh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w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ve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71500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762120"/>
            <a:ext cx="7088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2.I’d rather you ___ t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yesterday.I’d rather you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ere tomorr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didn’t go;w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hadn’t gone;should 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dn’t gone;w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didn’t go;should 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5257800"/>
            <a:ext cx="4876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88200" y="1346040"/>
            <a:ext cx="7480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3.___ your help,I would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e finished the work ahe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of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Because      B.But f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ith            D.If I h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34340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523880"/>
            <a:ext cx="788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4.If only I ___ where he liv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know          B.have kn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knew          D.should k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733920"/>
            <a:ext cx="2133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20400" y="762120"/>
            <a:ext cx="6683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5.---Why didn’t you bu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e record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---I ___ but I could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fford the 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would    B.would like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 ha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boug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181480"/>
            <a:ext cx="3581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3160" y="1498680"/>
            <a:ext cx="87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6.___ it rain tomorrow,w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uld have to put off the visi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o the Yangpu Brid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ere      B.Shou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    D.Wi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449568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01360" y="533520"/>
            <a:ext cx="8346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7.Jane’s pale face suggest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at she __ ill,and her parent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suggested that she ___ a medic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examin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be…should ha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was…ha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should be…h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was…h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952880"/>
            <a:ext cx="32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82360" y="1219320"/>
            <a:ext cx="827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8.The monitor insists that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___ on duty the day befo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yester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A.am     B.was    C.be    D.would 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396252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21880" y="4343400"/>
            <a:ext cx="6071760" cy="1739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从句中的谓语动词所表示的动作尚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发生，用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should+V”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，若表示“硬说”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用陈述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6280" y="533520"/>
            <a:ext cx="7767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9.Most of the me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emanded(requested,required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at the meeting __ till af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ri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shouldn’t put of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not be put of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n’t be put of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not put of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952880"/>
            <a:ext cx="4114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240" y="304920"/>
            <a:ext cx="7090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.if it ___ for the snow,w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___ the mountain yester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were no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ould have climb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were not;could clim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d not bee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ould have climb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not been;could clim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724280"/>
            <a:ext cx="3886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72720" y="736560"/>
            <a:ext cx="77353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0.He came home with a smi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on his face,which sugges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at he ___ wor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should fi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had lo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should have f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f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441972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2666880"/>
            <a:ext cx="2535120" cy="173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Sugg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说明，表明，暗示”，宾语从句用陈述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3120" y="1600200"/>
            <a:ext cx="854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1V.The guard at the gate insis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at everybody __ the rul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obeys       B.ob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ill obey   D.would ob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8098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3400" y="0"/>
            <a:ext cx="6247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3.---If he ___,he ____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---Luckily he was sent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the hospital immediate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A.was warned;would not t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.had been warned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would not have t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C.would be warned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ad not t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D.would have been warned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ad not t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733920"/>
            <a:ext cx="4190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7720" y="2209680"/>
            <a:ext cx="7581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.I wish I ____ you yester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seen      B.did s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d seen     D.were to s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572000"/>
            <a:ext cx="2743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5000" y="1523880"/>
            <a:ext cx="7663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5.Without electricity hum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ife ____ quite difficult to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is                 B.will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 have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w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257800"/>
            <a:ext cx="2895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1560" y="914400"/>
            <a:ext cx="7294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6.When a pencil is partly 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 glass of water,it looks as i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t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breaks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has brok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ere brok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been brok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334120"/>
            <a:ext cx="3581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88920" y="990720"/>
            <a:ext cx="6566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7.____ go down town t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fternoon,please post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etter for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Had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Were you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If you d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Should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617220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6640" y="990720"/>
            <a:ext cx="765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8.I lost your address,otherwi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or) I ___ you long befo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had visi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have visi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 have visi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should vis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4724280"/>
            <a:ext cx="5181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600200"/>
            <a:ext cx="7767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9.I wish  I ___ how to transl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s sente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knew         B.k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ve kn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should kn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0:59:03Z</dcterms:created>
  <dc:creator>Legend User</dc:creator>
  <dc:description/>
  <dc:language>en-US</dc:language>
  <cp:lastModifiedBy>Legend User</cp:lastModifiedBy>
  <dcterms:modified xsi:type="dcterms:W3CDTF">2002-10-05T01:29:53Z</dcterms:modified>
  <cp:revision>4</cp:revision>
  <dc:subject/>
  <dc:title>PowerPoint 演示文稿</dc:title>
</cp:coreProperties>
</file>