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994-9CF2-4261-B18A-AE98BF89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9B1-08E8-4679-86EC-E8F0016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F73-F87F-4E04-9A4A-09AA60A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82D-1B4F-414B-99AC-A4621559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DE6A-63C2-42E9-898B-2FF05239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9A4-E7E1-4FE4-B4C9-3ACCCD8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3282-FFD7-49AE-A429-C94E6DF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6E92-EB5C-4274-AED2-49E17E07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8768-8185-476F-B79E-42278BFE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330-D677-4A11-86ED-728773BB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759-075C-49FC-A1DE-CABFE35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2D5-2BB4-485A-AE68-F1642B8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4A84-C15A-4969-AB7F-4EBC993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08C-5773-4705-BAB1-EE7E990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6265-A538-482F-91C6-DF07E15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30E2-D1AB-4928-BEB3-D6D822EF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A1C-F7F2-4767-9EF4-DDB0089A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146-01FD-4B6B-9892-BA373161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65D-90CE-4E8F-8DFD-A5606EF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513-4DE8-438E-8836-35645BCC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51D-2DBD-431B-99BB-EE52A56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850-FE51-4917-9134-DC956A6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842-F7A1-4714-BE38-EDD2706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206-ECEA-4BDE-B6B4-2469E64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76D9-F6A4-4217-87E6-02223E836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D4B-D4DF-462E-B961-BCA4D8098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92320" y="2438280"/>
            <a:ext cx="3838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或将来的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1800" y="91440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ea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ours ago,so 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am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hungry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　　　　（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9640" y="3886200"/>
            <a:ext cx="829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ea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urs ago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ungry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91640" y="541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240" y="709560"/>
            <a:ext cx="646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is no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a good student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study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for the t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4520" y="3657600"/>
            <a:ext cx="693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 good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tudi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81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5320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209680"/>
            <a:ext cx="2438280" cy="1524240"/>
          </a:xfrm>
          <a:prstGeom prst="wedgeRectCallout">
            <a:avLst>
              <a:gd name="adj1" fmla="val -112046"/>
              <a:gd name="adj2" fmla="val 6041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是单数或复数后面都可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51640" y="2286000"/>
            <a:ext cx="568836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,might,should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　　用法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7840" y="137160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I’d had enough money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c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Flor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vac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4920" y="4038480"/>
            <a:ext cx="64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ould have gone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have been able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早就能去的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8640" y="114300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you were a better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ight ge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better grad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440" y="3124080"/>
            <a:ext cx="622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ou might get=maybe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get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也许你会得到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08320" y="106668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all,tell him I’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 back around f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200" y="3124080"/>
            <a:ext cx="722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should call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ll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有些不肯定或怀疑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但两句的意思基本相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71800" y="2743200"/>
            <a:ext cx="36543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省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62800" y="1066680"/>
            <a:ext cx="5886720" cy="1556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you,I wouldn’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th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9840" y="3124080"/>
            <a:ext cx="44524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were you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96720" y="1422360"/>
            <a:ext cx="549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known,I 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told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200" y="3581280"/>
            <a:ext cx="48927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had know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61040" y="1346040"/>
            <a:ext cx="66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yone call,ple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ke a mess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7520" y="3352680"/>
            <a:ext cx="641844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anyone should call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5760" y="990720"/>
            <a:ext cx="37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560" y="50292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将来时用于结果句，表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可预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事实或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涉及到将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某个具体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438280"/>
            <a:ext cx="675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morrow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ill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e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754440" y="914400"/>
            <a:ext cx="20095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暗含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6080" y="2362320"/>
            <a:ext cx="625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,but I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9680" y="4343400"/>
            <a:ext cx="6665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I hadn’t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640" y="1066680"/>
            <a:ext cx="776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never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uccee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out your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9120" y="3098880"/>
            <a:ext cx="69195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you hadn’t help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2880" y="990720"/>
            <a:ext cx="614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e ran;otherwise,s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miss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7200" y="3962520"/>
            <a:ext cx="5243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she had not ru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8680" y="762120"/>
            <a:ext cx="362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结果句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080" y="426708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用于结果句表示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习惯性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640" y="2362320"/>
            <a:ext cx="763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r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my parents every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14360" y="2286000"/>
            <a:ext cx="42040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和将来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62120" y="88884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nough tim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 paren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1240" y="2514600"/>
            <a:ext cx="7782120" cy="1434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ruth,I do not have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ime,so I will not write to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7400" y="4340160"/>
            <a:ext cx="47826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+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286000"/>
            <a:ext cx="71629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4520" y="380880"/>
            <a:ext cx="717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h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writ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s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yesterday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4200" y="2819520"/>
            <a:ext cx="796536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ruth,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 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ave enough ti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n’t wri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2320" y="4648320"/>
            <a:ext cx="52614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过去完成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 have+-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87480" y="73836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与将来情况相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[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should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/were to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] enough time,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o my parents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0680" y="1143000"/>
            <a:ext cx="36493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条件句中“混合时间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　的用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200400"/>
            <a:ext cx="454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从句中的时间与结果句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的时间经常不同：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一个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可能是现在，另一个句子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能是过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1:00:22Z</dcterms:created>
  <dc:creator>李徐琴</dc:creator>
  <dc:description/>
  <dc:language>en-US</dc:language>
  <cp:lastModifiedBy>赵晨盼</cp:lastModifiedBy>
  <dcterms:modified xsi:type="dcterms:W3CDTF">2002-10-27T11:25:27Z</dcterms:modified>
  <cp:revision>7</cp:revision>
  <dc:subject/>
  <dc:title>PowerPoint 演示文稿</dc:title>
</cp:coreProperties>
</file>