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3B6-218E-433B-A57C-AB4BBF20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48E-BCA1-416D-8579-71600921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30A-A339-4ADE-A2C3-3B2D91BF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6F7-E014-4A4A-A3E4-CA60C759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B380-5A0D-49EF-A12A-E44A54D8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E09A-6D81-4DCD-820A-879A4464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1717-379B-49C5-A13C-010A951B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22B0-1762-4271-9F5B-12BD2DEA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C541-037E-4615-98D2-583D52BF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C27F-C309-4CC7-BDD2-2AE51ADE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E643-B0CC-4878-8169-88B5F6DE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FFF-EB2E-4354-81C1-9379EF09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BF1A-9E58-4624-9AF5-FE5CFE05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C080-E956-4C38-B33A-B52DB48E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73EB-8DCF-4E35-88BA-C1681E31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E451-BAA3-4283-963B-709CF5F5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9E2E-EFA4-4942-B2D4-0160282F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B35-CD1F-4351-B9D9-3390EEF8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F85-1619-45AF-8F69-81F40DD2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21E-129E-46AC-86DC-15BB46FE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C44-D34F-4430-A3EF-12300630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7BB-D5C6-4CAA-B9E8-1FAB3009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A7F8-E8E7-46AA-910D-5C57D111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C30-E7F4-484D-8424-C2384993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AF64-40DF-470B-8F4F-C7883F078D6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05FE-0223-4899-80FD-5D647E1B69F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45640" y="981000"/>
            <a:ext cx="3077640" cy="8251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eaeaea"/>
                </a:solidFill>
                <a:uFillTx/>
                <a:latin typeface="Arial Black"/>
              </a:rPr>
              <a:t>insist </a:t>
            </a:r>
            <a:r>
              <a:rPr b="0" lang="zh-CN" sz="4800" spc="-1" strike="noStrike" u="sng">
                <a:solidFill>
                  <a:srgbClr val="eaeaea"/>
                </a:solidFill>
                <a:uFillTx/>
                <a:latin typeface="Arial Black"/>
                <a:ea typeface="黑体"/>
              </a:rPr>
              <a:t>的用法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2565360"/>
            <a:ext cx="700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I insist that you </a:t>
            </a:r>
            <a:r>
              <a:rPr b="0" lang="zh-CN" sz="4800" spc="-1" strike="noStrike">
                <a:solidFill>
                  <a:srgbClr val="ff3300"/>
                </a:solidFill>
                <a:latin typeface="Arial Black"/>
              </a:rPr>
              <a:t>(should give)</a:t>
            </a: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 my money back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     “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  <a:ea typeface="黑体"/>
              </a:rPr>
              <a:t>坚决要求</a:t>
            </a: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16000" y="476280"/>
            <a:ext cx="6861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e came home with  a smile on his face, which suggested that he ___ work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should find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ad los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should have found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ad found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084640"/>
            <a:ext cx="4427640" cy="1008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2637000"/>
            <a:ext cx="1944720" cy="13129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suggest“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表明”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9640" y="1197000"/>
            <a:ext cx="7797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The monitor insisted that I ___ on duty the day before yesterday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am     B. was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C. be      D. would be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284640"/>
            <a:ext cx="309564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26920" y="620640"/>
            <a:ext cx="772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Jane’s pale face suggested that she ___ ill, and her parents suggested that  she ____a medical examination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be… should have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was… have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should be… ha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was… h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4365720"/>
            <a:ext cx="4427280" cy="576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00000" y="1628640"/>
            <a:ext cx="707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I insist that my money </a:t>
            </a: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be back</a:t>
            </a: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They insist that he </a:t>
            </a: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leave for</a:t>
            </a: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 Beijing tomorrow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0920" y="765000"/>
            <a:ext cx="238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?</a:t>
            </a: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is back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8200" y="5300640"/>
            <a:ext cx="23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?</a:t>
            </a: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leaves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1916280"/>
            <a:ext cx="704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e insisted that his camel </a:t>
            </a: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had been</a:t>
            </a: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 stolen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440" y="4162320"/>
            <a:ext cx="3126600" cy="825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?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  <a:ea typeface="黑体"/>
              </a:rPr>
              <a:t> should be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The teacher suggested that her students ____ a composition after school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write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to write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wrote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had written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500280"/>
            <a:ext cx="2881440" cy="1008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79440" y="1803240"/>
            <a:ext cx="459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insist; suggest;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87280" y="765000"/>
            <a:ext cx="7148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The guard at the gate insisted that everybody ____ the rules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obeys   B. obe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C. will obe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D.would obe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3573360"/>
            <a:ext cx="302400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620640"/>
            <a:ext cx="7724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The boss insisted that John ___ unfit for his work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was      B. is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C. should be   D. were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781360"/>
            <a:ext cx="259236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62280" y="4653000"/>
            <a:ext cx="5334840" cy="764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黑体"/>
                <a:ea typeface="黑体"/>
              </a:rPr>
              <a:t>insist“</a:t>
            </a:r>
            <a:r>
              <a:rPr b="1" lang="zh-CN" sz="4400" spc="-1" strike="noStrike">
                <a:solidFill>
                  <a:srgbClr val="eaeaea"/>
                </a:solidFill>
                <a:latin typeface="黑体"/>
                <a:ea typeface="黑体"/>
              </a:rPr>
              <a:t>坚持说”，接陈述语气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692280"/>
            <a:ext cx="792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The officer ordered (commanded) the damaged ____ before dawn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must be repaire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would be repaire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be repaire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should have been repaire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3716280"/>
            <a:ext cx="863640" cy="6494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476280"/>
            <a:ext cx="7508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e suggested (advised) that the wounded ___ to the hospital as soon as possible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ad been sen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should have been sen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would be sen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be sen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5850000"/>
            <a:ext cx="3961080" cy="74772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3:02:55Z</dcterms:created>
  <dc:creator>Legend User</dc:creator>
  <dc:description/>
  <dc:language>en-US</dc:language>
  <cp:lastModifiedBy>Legend User</cp:lastModifiedBy>
  <dcterms:modified xsi:type="dcterms:W3CDTF">2002-11-25T13:37:19Z</dcterms:modified>
  <cp:revision>6</cp:revision>
  <dc:subject/>
  <dc:title>幻灯片 1</dc:title>
</cp:coreProperties>
</file>