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482-9211-4BD8-8B1C-359AAFC5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A27-E3F3-4F7D-880F-9686B9A1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1EB-1B3A-4ECD-93A2-A4F018D5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287-B419-4EE5-9623-75DCAA3B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189-5645-4DB5-AEC0-3EB174A9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0D4-8C92-48E5-8FFB-8627F4A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59B-ED18-4D0C-B7DE-B35F3AAB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6D0-565F-408F-B84B-AB4FC57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511A-48F1-4A8B-ADA9-9453484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E223-1EAE-496F-8D31-137898C6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2500-02B9-493B-BF42-FCC8FCE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28D-3791-4832-98B7-BA90285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EBA7-5235-4E64-AE53-731F45F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EDA-15EF-4CD5-B053-8C60226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0461-8977-40D1-9C76-61D64BFC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444C-F2C6-41D9-AB1A-2A92B029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F89-FDE6-4B48-A480-D063236F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884-C0B3-481E-87F9-B98F446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EE7-44D7-4499-97A0-C05E92C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074-77D2-4959-9296-4F6D4CE6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9ED-29DC-451B-A487-56A3701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FD9-DD04-44B6-BE3D-95B6C78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49F-1D4B-4029-96EF-4E5AB004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E79-5BCE-4C00-B7C5-CAE47B3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FBC-9B09-4BD7-8D43-7D28E12DE1AB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054-A8CD-4F90-99BC-9D5340C89E57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29800" y="1447920"/>
            <a:ext cx="4225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面动词的形式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2400" y="2971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跟一个宾语从句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达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与现实不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与现实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相反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的愿望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3560" y="1295280"/>
            <a:ext cx="709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现在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don’t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know French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t is raining 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2240" y="3500280"/>
            <a:ext cx="413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 knew French</a:t>
            </a:r>
            <a:r>
              <a:rPr b="0" lang="en-US" sz="4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3800" y="4149720"/>
            <a:ext cx="490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t weren’t raining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0" y="990720"/>
            <a:ext cx="8004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过去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John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i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Mary coul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70480" y="3048120"/>
            <a:ext cx="426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John had co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809880"/>
            <a:ext cx="60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Mary could have come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9160" y="1066680"/>
            <a:ext cx="8309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将来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will not tell 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isn’t going to be her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6760" y="327672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she would tell 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7560" y="3962520"/>
            <a:ext cx="66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e were going to be her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7:59:31Z</dcterms:created>
  <dc:creator>Legend User</dc:creator>
  <dc:description/>
  <dc:language>en-US</dc:language>
  <cp:lastModifiedBy>赵晨盼</cp:lastModifiedBy>
  <dcterms:modified xsi:type="dcterms:W3CDTF">2002-10-27T11:06:09Z</dcterms:modified>
  <cp:revision>3</cp:revision>
  <dc:subject/>
  <dc:title>PowerPoint 演示文稿</dc:title>
</cp:coreProperties>
</file>