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D4B7-2870-412A-9E82-C93F578B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2AFD-5E3A-4215-9BE8-1114BDEF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BCEF-CAD7-4AF3-B661-9DB97DE72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D2EC-0CCA-4B21-AEB8-FF72D3716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3A69-3E79-41A3-B250-FD47E768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285B-4698-48E0-8913-7C99763F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DE2A-11A1-4FCA-A51D-CF6A7A01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F036-D401-4162-AE93-AE85B6FE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9555-DB2B-4985-BAE1-8884F378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E6FE-3F26-4D6C-BBAA-97CF62CE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E5A8-6B41-475B-B5A0-69245CED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F2E0-1746-415C-9DEE-950F4327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2B66-5CB2-4D0A-8BE5-C75A338488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unit%202%20language%20points1.ppt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White%20house4" descr=""/>
            <p:cNvPicPr/>
            <p:nvPr/>
          </p:nvPicPr>
          <p:blipFill>
            <a:blip r:embed="rId1"/>
            <a:stretch/>
          </p:blipFill>
          <p:spPr>
            <a:xfrm>
              <a:off x="4876920" y="3870360"/>
              <a:ext cx="4267080" cy="29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big%20ben1" descr=""/>
            <p:cNvPicPr/>
            <p:nvPr/>
          </p:nvPicPr>
          <p:blipFill>
            <a:blip r:embed="rId2"/>
            <a:stretch/>
          </p:blipFill>
          <p:spPr>
            <a:xfrm>
              <a:off x="0" y="57240"/>
              <a:ext cx="4876920" cy="36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london%20bridge" descr=""/>
            <p:cNvPicPr/>
            <p:nvPr/>
          </p:nvPicPr>
          <p:blipFill>
            <a:blip r:embed="rId3"/>
            <a:stretch/>
          </p:blipFill>
          <p:spPr>
            <a:xfrm>
              <a:off x="0" y="3733920"/>
              <a:ext cx="4876920" cy="31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White%20house3" descr=""/>
            <p:cNvPicPr/>
            <p:nvPr/>
          </p:nvPicPr>
          <p:blipFill>
            <a:blip r:embed="rId4"/>
            <a:stretch/>
          </p:blipFill>
          <p:spPr>
            <a:xfrm>
              <a:off x="4876920" y="0"/>
              <a:ext cx="426708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 txBox="1"/>
            <p:nvPr/>
          </p:nvSpPr>
          <p:spPr>
            <a:xfrm>
              <a:off x="633240" y="2427120"/>
              <a:ext cx="7772400" cy="267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Triangle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华文行楷"/>
                </a:rPr>
                <a:t>English Around the World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华文行楷"/>
                <a:ea typeface="华文行楷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38520" y="674640"/>
              <a:ext cx="3657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33cc33"/>
                  </a:solidFill>
                  <a:latin typeface="Times New Roman"/>
                </a:rPr>
                <a:t>Unit 2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3" descr=""/>
          <p:cNvPicPr/>
          <p:nvPr/>
        </p:nvPicPr>
        <p:blipFill>
          <a:blip r:embed="rId1"/>
          <a:stretch/>
        </p:blipFill>
        <p:spPr>
          <a:xfrm>
            <a:off x="0" y="11160"/>
            <a:ext cx="9136080" cy="6829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609560" y="163440"/>
            <a:ext cx="6013440" cy="520560"/>
          </a:xfrm>
          <a:prstGeom prst="rect">
            <a:avLst/>
          </a:pr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merican English and British 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5240" y="725400"/>
            <a:ext cx="8826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differences between American English and British 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ow come the differ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5240" y="1998720"/>
            <a:ext cx="88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1.At first the language in Britain and America was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240" y="2517840"/>
            <a:ext cx="882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2.In 1776 America became an independent country.The language began to change.The language in America stayed the same,while the language in England chang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360" y="376704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.At the same time, British English and the American English stared borrowing words from other languages, ending up with different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5240" y="4991040"/>
            <a:ext cx="882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.In 1828 Noah Webster published the first American dictionary. And he changed the spelling of some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3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625320" y="901800"/>
          <a:ext cx="7813440" cy="5744880"/>
        </p:xfrm>
        <a:graphic>
          <a:graphicData uri="http://schemas.openxmlformats.org/drawingml/2006/table">
            <a:tbl>
              <a:tblPr/>
              <a:tblGrid>
                <a:gridCol w="3906720"/>
                <a:gridCol w="3906720"/>
              </a:tblGrid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rrowed fro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d Fre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915840" y="114480"/>
            <a:ext cx="795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borrowed from othe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2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4360" y="254160"/>
            <a:ext cx="8845560" cy="51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at will you do if people don’t understand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Saying something one or two more times, slowly, often hel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2.Maybe you are not pronouncing the word right. Try changing s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Try to say the same thing but use different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4.If you don’t know the exact word for an object, you can give a description of what it looks li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.Replace difficult words with simple 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280" y="123840"/>
            <a:ext cx="9099720" cy="64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isten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isten carefully to the tape. Mr. Brown’s landlady has many house rules. Write down five of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Example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he landlday asked Mr Brown to put his coat in the clo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landlady asked Mr Brow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0" descr=""/>
          <p:cNvPicPr/>
          <p:nvPr/>
        </p:nvPicPr>
        <p:blipFill>
          <a:blip r:embed="rId1"/>
          <a:stretch/>
        </p:blipFill>
        <p:spPr>
          <a:xfrm>
            <a:off x="0" y="0"/>
            <a:ext cx="90774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1240" y="133200"/>
            <a:ext cx="8966160" cy="66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ete the following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Emily asked Karen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acher asked Karen and Emily 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ren told the teacher that Emily had asked 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Ms Smith told Harry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ry asked Ms Smith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also asked her ___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Smith told Harry not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36840" y="66816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how to pronounce “kilomet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1240" y="1279440"/>
            <a:ext cx="896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f there is anything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ey are not 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6000" y="302436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how to pronounce “kilomet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59240" y="3678120"/>
            <a:ext cx="61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o take two pizzas to Mr. Thomp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16480" y="4254480"/>
            <a:ext cx="49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f she can spell the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40120" y="4846680"/>
            <a:ext cx="50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f she can repeat the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79920" y="5438880"/>
            <a:ext cx="58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o forget to buy her some ketch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4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22320" y="355680"/>
            <a:ext cx="9166320" cy="56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Make up A dialogue for three students and act it out in class, using the following expressions to help yo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an you spell that, please?                    I beg your par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ould you repeat that, please?              How do you say …in Englis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What do you mean by…?                       How do you pronounce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ould you speak a bit slowly, please?     What does …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16080" y="201600"/>
            <a:ext cx="6748560" cy="764280"/>
          </a:xfrm>
          <a:prstGeom prst="rect">
            <a:avLst/>
          </a:pr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660033"/>
                </a:solidFill>
                <a:uFillTx/>
                <a:latin typeface="Times New Roman"/>
              </a:rPr>
              <a:t>English Around the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MEETING1" descr=""/>
          <p:cNvPicPr/>
          <p:nvPr/>
        </p:nvPicPr>
        <p:blipFill>
          <a:blip r:embed="rId2"/>
          <a:stretch/>
        </p:blipFill>
        <p:spPr>
          <a:xfrm>
            <a:off x="200160" y="1098720"/>
            <a:ext cx="4027320" cy="2662200"/>
          </a:xfrm>
          <a:prstGeom prst="rect">
            <a:avLst/>
          </a:prstGeom>
          <a:ln w="0">
            <a:noFill/>
          </a:ln>
        </p:spPr>
      </p:pic>
      <p:pic>
        <p:nvPicPr>
          <p:cNvPr id="64" name="gong%20tong%20xue%20xi" descr=""/>
          <p:cNvPicPr/>
          <p:nvPr/>
        </p:nvPicPr>
        <p:blipFill>
          <a:blip r:embed="rId3"/>
          <a:stretch/>
        </p:blipFill>
        <p:spPr>
          <a:xfrm>
            <a:off x="6262560" y="4368960"/>
            <a:ext cx="2828880" cy="1888920"/>
          </a:xfrm>
          <a:prstGeom prst="rect">
            <a:avLst/>
          </a:prstGeom>
          <a:ln w="0">
            <a:noFill/>
          </a:ln>
        </p:spPr>
      </p:pic>
      <p:pic>
        <p:nvPicPr>
          <p:cNvPr id="65" name="iconr11" descr=""/>
          <p:cNvPicPr/>
          <p:nvPr/>
        </p:nvPicPr>
        <p:blipFill>
          <a:blip r:embed="rId4"/>
          <a:stretch/>
        </p:blipFill>
        <p:spPr>
          <a:xfrm>
            <a:off x="6210360" y="1138320"/>
            <a:ext cx="2492280" cy="2728800"/>
          </a:xfrm>
          <a:prstGeom prst="rect">
            <a:avLst/>
          </a:prstGeom>
          <a:ln w="0">
            <a:noFill/>
          </a:ln>
        </p:spPr>
      </p:pic>
      <p:pic>
        <p:nvPicPr>
          <p:cNvPr id="66" name="INDIA1" descr=""/>
          <p:cNvPicPr/>
          <p:nvPr/>
        </p:nvPicPr>
        <p:blipFill>
          <a:blip r:embed="rId5"/>
          <a:stretch/>
        </p:blipFill>
        <p:spPr>
          <a:xfrm>
            <a:off x="415800" y="4211640"/>
            <a:ext cx="2425680" cy="2506680"/>
          </a:xfrm>
          <a:prstGeom prst="rect">
            <a:avLst/>
          </a:prstGeom>
          <a:ln w="0">
            <a:noFill/>
          </a:ln>
        </p:spPr>
      </p:pic>
      <p:pic>
        <p:nvPicPr>
          <p:cNvPr id="67" name="South%20Afraic" descr=""/>
          <p:cNvPicPr/>
          <p:nvPr/>
        </p:nvPicPr>
        <p:blipFill>
          <a:blip r:embed="rId6"/>
          <a:stretch/>
        </p:blipFill>
        <p:spPr>
          <a:xfrm>
            <a:off x="3124080" y="4648320"/>
            <a:ext cx="2952720" cy="1941480"/>
          </a:xfrm>
          <a:prstGeom prst="rect">
            <a:avLst/>
          </a:prstGeom>
          <a:ln w="0">
            <a:noFill/>
          </a:ln>
        </p:spPr>
      </p:pic>
      <p:pic>
        <p:nvPicPr>
          <p:cNvPr id="68" name="White%20house1" descr=""/>
          <p:cNvPicPr/>
          <p:nvPr/>
        </p:nvPicPr>
        <p:blipFill>
          <a:blip r:embed="rId7"/>
          <a:stretch/>
        </p:blipFill>
        <p:spPr>
          <a:xfrm>
            <a:off x="4294080" y="3603600"/>
            <a:ext cx="18288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990880" y="131760"/>
            <a:ext cx="2743200" cy="855720"/>
          </a:xfrm>
          <a:prstGeom prst="rect">
            <a:avLst/>
          </a:pr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660033"/>
                </a:solidFill>
                <a:latin typeface="Times New Roman"/>
              </a:rPr>
              <a:t>Post- Reading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657360"/>
            <a:ext cx="850896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.Why is it becoming more and more important to have a good knowledge of Englis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.In which countries do we find most native speakers of English? Give the names of three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.Living in China you can use English every day in different situations. Give two exam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1596960"/>
            <a:ext cx="89758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Because English is spoken and used all around the world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ith so many people communicating in English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, it is becoming more and more important to have a knowledge of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8120" y="3760920"/>
            <a:ext cx="84931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United Kingdom, the United States of America, Canada, Australia, South Africa, Ireland and New Zea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9000" y="5394240"/>
            <a:ext cx="84931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We can use English when we are having an international meeting, having a business talk with our business part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cloze-next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37320" y="2543040"/>
            <a:ext cx="45720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DragWndBk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3840" y="149400"/>
            <a:ext cx="9020160" cy="64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ete the Following summ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ish is a ________ ______all around the world. For more than 375million people in countries such as _______ and _______, English is their ______ ______. Another 375 million people _____ ______ as a second language. However, most people learn English at school as  a ______ _______. The English language __also ____ by most international organizations as their working language, as well as in inter-national _____ and _______. Most foreigners visiting China are either__________ or ______. If they cannot ______ Chinese, they use ______ to communicate with Chinese people. In global culture, for example the Internet or popular music, English is widely used. In the future we will be speaking Chinese with our_______, but we will be _______ English with people around the world for our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57320" y="771480"/>
            <a:ext cx="27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anguage    sp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10160" y="1166760"/>
            <a:ext cx="17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7160" y="15415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55880" y="150012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ther   ton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7000" y="189540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arn  Engl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80040" y="2290680"/>
            <a:ext cx="28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eign 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30720" y="266544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05320" y="2665440"/>
            <a:ext cx="9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9360" y="343548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1640" y="3429000"/>
            <a:ext cx="13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u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73200" y="3830760"/>
            <a:ext cx="21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usiness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5360" y="383076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ur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59680" y="378936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79560" y="4218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98880" y="5540400"/>
            <a:ext cx="102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61440" y="53118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3800" y="5330880"/>
            <a:ext cx="12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08" descr=""/>
          <p:cNvPicPr/>
          <p:nvPr/>
        </p:nvPicPr>
        <p:blipFill>
          <a:blip r:embed="rId1"/>
          <a:stretch/>
        </p:blipFill>
        <p:spPr>
          <a:xfrm>
            <a:off x="17640" y="34920"/>
            <a:ext cx="90738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640" y="141120"/>
            <a:ext cx="8875440" cy="66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WORD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1 closet                       A   a number f people or things that form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han half of a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2 explain                    B  information and understanding about a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3 majority                  C 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4 mother tongue        D  a cupboard where you can put clot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5 equal                       E  to make something clear to understan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escribing or giving information abou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6 communicate          F  native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7 knowledge              G  the activity of buying ,selling or exchang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oods o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8 trade                       H  to give information using speech, r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ignals or body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60600" y="843120"/>
            <a:ext cx="1111320" cy="2259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60600" y="1846440"/>
            <a:ext cx="1111320" cy="1722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560600" y="1164960"/>
            <a:ext cx="1111320" cy="1506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41720" y="3352680"/>
            <a:ext cx="430200" cy="1148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612800" y="2909880"/>
            <a:ext cx="1346400" cy="770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12800" y="4788000"/>
            <a:ext cx="1059120" cy="1111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01680" y="5181480"/>
            <a:ext cx="1470240" cy="968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846080" y="1846440"/>
            <a:ext cx="1112760" cy="3335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big%20ben" descr=""/>
          <p:cNvPicPr/>
          <p:nvPr/>
        </p:nvPicPr>
        <p:blipFill>
          <a:blip r:embed="rId1"/>
          <a:stretch/>
        </p:blipFill>
        <p:spPr>
          <a:xfrm>
            <a:off x="5823000" y="61920"/>
            <a:ext cx="3279600" cy="4800600"/>
          </a:xfrm>
          <a:prstGeom prst="rect">
            <a:avLst/>
          </a:prstGeom>
          <a:ln w="0">
            <a:noFill/>
          </a:ln>
        </p:spPr>
      </p:pic>
      <p:pic>
        <p:nvPicPr>
          <p:cNvPr id="106" name="White%20house2" descr=""/>
          <p:cNvPicPr/>
          <p:nvPr/>
        </p:nvPicPr>
        <p:blipFill>
          <a:blip r:embed="rId2"/>
          <a:stretch/>
        </p:blipFill>
        <p:spPr>
          <a:xfrm>
            <a:off x="0" y="2414520"/>
            <a:ext cx="4357800" cy="3094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7200" y="231840"/>
            <a:ext cx="453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</a:rPr>
              <a:t>AMERICAN ENGLIS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54480" y="2712960"/>
            <a:ext cx="188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27560" y="4910040"/>
            <a:ext cx="391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cc"/>
                </a:solidFill>
                <a:latin typeface="Times New Roman"/>
              </a:rPr>
              <a:t>BRITISH    ENGLIS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06:40:01Z</dcterms:created>
  <dc:creator>zhangjunguang</dc:creator>
  <dc:description/>
  <dc:language>en-US</dc:language>
  <cp:lastModifiedBy>user</cp:lastModifiedBy>
  <dcterms:modified xsi:type="dcterms:W3CDTF">2003-08-10T09:18:41Z</dcterms:modified>
  <cp:revision>20</cp:revision>
  <dc:subject/>
  <dc:title>PowerPoint 演示文稿</dc:title>
</cp:coreProperties>
</file>