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png" ContentType="image/png"/>
  <Override PartName="/ppt/media/image6.gif" ContentType="image/gif"/>
  <Override PartName="/ppt/media/image12.png" ContentType="image/png"/>
  <Override PartName="/ppt/media/image3.gif" ContentType="image/gif"/>
  <Override PartName="/ppt/media/image11.gif" ContentType="image/gif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applause.wav" ContentType="audio/x-wav"/>
  <Override PartName="/ppt/media/image8.gif" ContentType="image/gif"/>
  <Override PartName="/ppt/media/image13.gif" ContentType="image/gif"/>
  <Override PartName="/ppt/media/chimes.wav" ContentType="audio/x-wav"/>
  <Override PartName="/ppt/media/clap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8184-7BA1-40CC-AB47-72764084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C25-8DDC-4AAA-9FC1-47082956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93B4-4423-4A42-8936-94D74959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D46-E0DA-471E-9779-E0D559FF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BF6-B93E-4CFF-B93F-15D64AD2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021-1A1F-44A7-9E4C-72EA5ECA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43E-12E4-4069-AAA3-BB5D2ADD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41B-02F3-40C6-8BD7-43CCEEE9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C8B-188D-494B-8AC3-66E605EA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337C-E6E0-407F-860C-E7F262B0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F96-C5EB-49D9-9404-64ED1A7C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9242-5ECD-4B94-A85E-48CC487D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DC53-CFF3-46E6-A852-7BBDFA4E31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71424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方正舒体"/>
                <a:ea typeface="方正舒体"/>
              </a:rPr>
              <a:t>Unit 11  Planting Tre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07560" y="2173320"/>
            <a:ext cx="31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99ff"/>
                </a:solidFill>
                <a:latin typeface="Arial"/>
              </a:rPr>
              <a:t>Lesson 4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10160" y="5516640"/>
            <a:ext cx="36702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华文行楷"/>
              </a:rPr>
              <a:t>初三英语备课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华文行楷"/>
              </a:rPr>
              <a:t>      </a:t>
            </a:r>
            <a:r>
              <a:rPr b="1" i="1" lang="zh-CN" sz="3600" spc="-1" strike="noStrike">
                <a:solidFill>
                  <a:srgbClr val="ffcc00"/>
                </a:solidFill>
                <a:latin typeface="Arial"/>
                <a:ea typeface="华文行楷"/>
              </a:rPr>
              <a:t>Oct.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4797360"/>
            <a:ext cx="1541520" cy="1584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32000" y="5157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99ff"/>
                </a:solidFill>
                <a:latin typeface="Times New Roman"/>
              </a:rPr>
              <a:t>Hi</a:t>
            </a:r>
            <a:r>
              <a:rPr b="1" i="1" lang="zh-CN" sz="3600" spc="-1" strike="noStrike">
                <a:solidFill>
                  <a:srgbClr val="3399ff"/>
                </a:solidFill>
                <a:latin typeface="Times New Roman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5030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4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30200" y="4527720"/>
            <a:ext cx="633744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truth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must be fou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out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1341360"/>
            <a:ext cx="7345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带情态动词的被动语态的构成形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501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情态动词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544500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can, may, must, could, should have to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692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被动语态的构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4560" y="692280"/>
            <a:ext cx="1873080" cy="64260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 + 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2066760"/>
            <a:ext cx="417672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情态动词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+ be + 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212760" cy="21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5229360"/>
            <a:ext cx="231840" cy="236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39640" y="1608120"/>
            <a:ext cx="233640" cy="23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16000" y="2873520"/>
            <a:ext cx="73087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否定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情态动词后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+ not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疑问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将情态动词调至主语之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2924280"/>
            <a:ext cx="216000" cy="649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98560" y="3951360"/>
            <a:ext cx="57610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W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must fi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out the tru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446040"/>
            <a:ext cx="8028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小树应每天浇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你的自行车需好好修修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书不能带出阅览室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这水能喝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1058760"/>
            <a:ext cx="7848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These young trees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should be watered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every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3579840"/>
            <a:ext cx="72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ooks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can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</a:rPr>
              <a:t>not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be taken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out of the reading-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24987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Your bike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has to be mended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508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the water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be drunk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977080" y="4149720"/>
            <a:ext cx="2915640" cy="1922760"/>
            <a:chOff x="5977080" y="4149720"/>
            <a:chExt cx="2915640" cy="1922760"/>
          </a:xfrm>
        </p:grpSpPr>
        <p:sp>
          <p:nvSpPr>
            <p:cNvPr id="101" name=""/>
            <p:cNvSpPr/>
            <p:nvPr/>
          </p:nvSpPr>
          <p:spPr>
            <a:xfrm>
              <a:off x="7499880" y="4149720"/>
              <a:ext cx="13928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3300"/>
                  </a:solidFill>
                  <a:latin typeface="宋体"/>
                </a:rPr>
                <a:t>OK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977080" y="4278600"/>
              <a:ext cx="1529640" cy="1742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heel spokes="3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1280" y="115920"/>
            <a:ext cx="889344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Rewrite these sentence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Students should correct their mistak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We must type the letters this afterno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They must clean their classroom e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Students should speak English in and 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 cla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112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ir mistake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should be correct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student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2060640"/>
            <a:ext cx="88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 letter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must be typ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us this afterno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360" y="3645000"/>
            <a:ext cx="86756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ir classroom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must be clean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th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every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000" y="5553000"/>
            <a:ext cx="89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English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hould be spoken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students in and out of cla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60" y="-27000"/>
            <a:ext cx="9144000" cy="61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5.You should hand in your composition the day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fter tomorrow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6.We should knock a long stick into the earth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next to the hol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7.We should tie the tree to the top of the stic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8.We must water the trees wel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360" y="1305000"/>
            <a:ext cx="882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Your composition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should be hand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in by you the day after tomorr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280" y="3249720"/>
            <a:ext cx="8317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A long stick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should be knock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into the earth next to the hole b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080" y="4784760"/>
            <a:ext cx="867564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 tree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should be ti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o the top of the sti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080" y="5873760"/>
            <a:ext cx="75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 tree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must be water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well b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020000" y="5084640"/>
            <a:ext cx="1187280" cy="1528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584360"/>
            <a:ext cx="9144000" cy="317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被动结构表示一个</a:t>
            </a:r>
            <a:r>
              <a:rPr b="1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动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带表语的结构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主语的特点或所处的</a:t>
            </a:r>
            <a:r>
              <a:rPr b="1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状态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如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The library is now closed . (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系表结构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It is usually closed at 6 . (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被动结构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50760"/>
            <a:ext cx="748836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被动语态与系表结构的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146480"/>
            <a:ext cx="9144000" cy="27068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被动结构后面可带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y +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施动作者，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系表结构一般没有。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The glass is broken . (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系表结构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It was broken by my sister . (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被动结构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907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 + PP (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被动语态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 + PP (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表语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146160"/>
            <a:ext cx="705636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被动语态与系表结构的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981000"/>
            <a:ext cx="9144000" cy="30873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表结构”中的过去分词可以被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ell , ver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副词修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而“被动结构”中的过去分词则一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能如此。如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book is well written .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表结构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The book is written by Li Ming .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动结构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076640"/>
            <a:ext cx="9144000" cy="277416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动结构可以用于各种时态，而系表结构只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一般现在时和一般过去时这两种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时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如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work is being done .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动语态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work is done .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表结构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8000" y="1413000"/>
            <a:ext cx="8964720" cy="4157640"/>
          </a:xfrm>
          <a:prstGeom prst="rect">
            <a:avLst/>
          </a:prstGeom>
          <a:noFill/>
          <a:ln w="38160">
            <a:solidFill>
              <a:srgbClr val="0000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系表结构有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主动意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而被动结构只有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被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被动结构的句子往往有表示动作的时间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地点、方式、目的等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状语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而系表结构一般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这样的状语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he photo was taken last month . (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被动语态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br>
              <a:rPr sz="3600"/>
            </a:b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The photo was well taken . (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系表结构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90520"/>
            <a:ext cx="74880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被动语态与系表结构的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76360" y="119700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Homew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251400" y="3789360"/>
            <a:ext cx="2065680" cy="1581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51400" y="3573360"/>
            <a:ext cx="1138320" cy="995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24000" y="4237200"/>
            <a:ext cx="5435640" cy="1096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505320" y="5248440"/>
            <a:ext cx="5333760" cy="1076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578560" y="4952880"/>
            <a:ext cx="5333760" cy="1076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2911320" cy="2427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743200" y="2819520"/>
            <a:ext cx="4495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Thank you !</a:t>
            </a:r>
            <a:endParaRPr b="1" i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6640" y="914400"/>
            <a:ext cx="1600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Bye-bye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93707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687680"/>
            <a:ext cx="8229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im 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im 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im 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76500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Teaching aims</a:t>
            </a:r>
            <a:r>
              <a:rPr b="1" i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6922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03ff"/>
                </a:solidFill>
                <a:latin typeface="Times New Roman"/>
              </a:rPr>
              <a:t>Retell the Great Green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700280"/>
            <a:ext cx="7543800" cy="43315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keep…from…,  wash…away,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stay in one place,  pr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across,  is…long and …wid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stop…from, save, needed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all over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257800"/>
            <a:ext cx="79250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8000" y="119700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Australia is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ousands of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kilo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awa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rom Ch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20667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Mr Bell is nearly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wo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ta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2673360"/>
            <a:ext cx="828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The river near here is over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ur 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dee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3573360"/>
            <a:ext cx="896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Our classroom is about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welve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lo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eight 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wid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360" y="450864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The Yellow River is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5,464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kilometres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lo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00" y="5013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The hole must be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half a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met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dee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5661000"/>
            <a:ext cx="817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 Mount Emei is over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ree thous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hig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5920"/>
            <a:ext cx="896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The Great Green Wall is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between 400 and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1,700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kilo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wid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0" y="1484280"/>
            <a:ext cx="9109080" cy="1508040"/>
          </a:xfrm>
          <a:prstGeom prst="rect">
            <a:avLst/>
          </a:prstGeom>
          <a:solidFill>
            <a:srgbClr val="cc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幼圆"/>
              </a:rPr>
              <a:t>数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+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幼圆"/>
              </a:rPr>
              <a:t>metre(s) / kilometer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+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幼圆"/>
              </a:rPr>
              <a:t>long/ wide/ high/ tall/ deep/thick/lo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692280"/>
            <a:ext cx="3672000" cy="764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彩云"/>
              </a:rPr>
              <a:t>计量的表达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4360" y="3284640"/>
            <a:ext cx="3672000" cy="764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彩云"/>
              </a:rPr>
              <a:t>重量的表达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280" y="4005360"/>
            <a:ext cx="8964720" cy="1630440"/>
          </a:xfrm>
          <a:prstGeom prst="rect">
            <a:avLst/>
          </a:prstGeom>
          <a:solidFill>
            <a:srgbClr val="cc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幼圆"/>
              </a:rPr>
              <a:t>数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+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幼圆"/>
              </a:rPr>
              <a:t>kilo(s) +hea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8000" y="1484280"/>
            <a:ext cx="90360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1.A: Can I skate on the ri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B: Of course. The ice in the river 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over on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met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______. It’s stro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enoug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The Great Wall is more than 6,00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kilometres _____,and 5 met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 enough for five horse or ten m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o walk side by side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并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 along the to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84720" y="234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th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71640" y="414828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l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479592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w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90440"/>
            <a:ext cx="78501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Fill in the blanks wi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幼圆"/>
              </a:rPr>
              <a:t>high, tall, deep, thick, long, or wid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190440"/>
            <a:ext cx="78501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Fill in the blanks wi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幼圆"/>
              </a:rPr>
              <a:t>high, tall, deep, thick, long, or wid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365120"/>
            <a:ext cx="903600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A: How ______is the Baikal Lake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贝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尔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, do you k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: It’s 1,620 metres _____, I think. It is th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eepest lake in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A: I’ve never climbed such a 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ount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: Oh, have ypu? It’s about 2,400 me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119700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3280" y="249228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860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5823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t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11280" y="1844640"/>
            <a:ext cx="7416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 A: Michael Jordan is a fantastic basketball play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: Yes, you know, he’s about 2 metres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6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 rot="21408600">
            <a:off x="1770120" y="1480680"/>
            <a:ext cx="5608440" cy="22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Watch and listen carefully!</a:t>
            </a:r>
            <a:endParaRPr b="1" lang="en-US" sz="3200" spc="1" strike="noStrike">
              <a:ln w="1260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7:53:05Z</dcterms:created>
  <dc:creator>user</dc:creator>
  <dc:description/>
  <dc:language>en-US</dc:language>
  <cp:lastModifiedBy>mmh</cp:lastModifiedBy>
  <dcterms:modified xsi:type="dcterms:W3CDTF">2004-10-17T00:54:31Z</dcterms:modified>
  <cp:revision>16</cp:revision>
  <dc:subject/>
  <dc:title>幻灯片 1</dc:title>
</cp:coreProperties>
</file>