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camera.wav" ContentType="audio/x-wav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4448-33AC-4F8B-BD6C-E4A97BD4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F13E-2F6B-4FE5-8E32-54A665D4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38BE-2035-4ED9-8409-87B27290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1EF9-7D97-4614-A814-F3306DA96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A5BA-E796-4254-911D-7CB08797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A683-A49F-4C96-B262-CE5F3A57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9257-A817-43CD-B55A-A677BD8C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55F9-BE78-4915-9E14-7A959D4E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9D3B-7433-4C8D-AE3C-6A7ADCF6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B36A-F432-4B3A-9224-FF3F93D8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6562-84A5-4691-BE54-B7617AD0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0650-BA4A-40E1-A5CF-5E07FA62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F797-A975-4E06-988F-F7E8019706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C:\Documents and Settings\Owner\My Documents\writing\juzi.exe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C:\Documents and Settings\Owner\My Documents\writing\thanks.exe" TargetMode="Externa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334_hello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7924680" cy="148608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rId2"/>
          </p:cNvPr>
          <p:cNvSpPr/>
          <p:nvPr/>
        </p:nvSpPr>
        <p:spPr>
          <a:xfrm>
            <a:off x="1143000" y="7621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7301"/>
                </a:moveTo>
                <a:lnTo>
                  <a:pt x="10103" y="7301"/>
                </a:lnTo>
                <a:lnTo>
                  <a:pt x="10486" y="7667"/>
                </a:lnTo>
                <a:lnTo>
                  <a:pt x="19695" y="7667"/>
                </a:lnTo>
                <a:lnTo>
                  <a:pt x="20252" y="8224"/>
                </a:lnTo>
                <a:lnTo>
                  <a:pt x="20252" y="8772"/>
                </a:lnTo>
                <a:lnTo>
                  <a:pt x="22097" y="8772"/>
                </a:lnTo>
                <a:lnTo>
                  <a:pt x="22462" y="8224"/>
                </a:lnTo>
                <a:lnTo>
                  <a:pt x="23202" y="8224"/>
                </a:lnTo>
                <a:lnTo>
                  <a:pt x="23202" y="13376"/>
                </a:lnTo>
                <a:lnTo>
                  <a:pt x="22462" y="13376"/>
                </a:lnTo>
                <a:lnTo>
                  <a:pt x="22097" y="12828"/>
                </a:lnTo>
                <a:lnTo>
                  <a:pt x="20252" y="12828"/>
                </a:lnTo>
                <a:lnTo>
                  <a:pt x="20252" y="14107"/>
                </a:lnTo>
                <a:lnTo>
                  <a:pt x="10669" y="14107"/>
                </a:lnTo>
                <a:lnTo>
                  <a:pt x="10669" y="9877"/>
                </a:lnTo>
                <a:lnTo>
                  <a:pt x="10486" y="9877"/>
                </a:lnTo>
                <a:lnTo>
                  <a:pt x="10103" y="10243"/>
                </a:lnTo>
                <a:lnTo>
                  <a:pt x="9189" y="1024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99"/>
                </a:solidFill>
                <a:latin typeface="Times New Roman"/>
              </a:rPr>
              <a:t>常用并列连词</a:t>
            </a:r>
            <a:br>
              <a:rPr sz="4800"/>
            </a:br>
            <a:r>
              <a:rPr b="1" lang="zh-CN" sz="4800" spc="-1" strike="noStrike">
                <a:solidFill>
                  <a:srgbClr val="00ff99"/>
                </a:solidFill>
                <a:latin typeface="Times New Roman"/>
              </a:rPr>
              <a:t>coordinating conjun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733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平行并列连词</a:t>
            </a: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转折并列连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因果并列连词</a:t>
            </a: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选择并列连词</a:t>
            </a: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"/>
          </p:cNvPr>
          <p:cNvSpPr/>
          <p:nvPr/>
        </p:nvSpPr>
        <p:spPr>
          <a:xfrm>
            <a:off x="3733920" y="2209680"/>
            <a:ext cx="50292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and,both…and,   not only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but also, neither…n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36576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but,however,while,y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9880" y="44956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for,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0" y="5638680"/>
            <a:ext cx="24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imes New Roman"/>
              </a:rPr>
              <a:t>or,either…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04560" y="30492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请用合适的</a:t>
            </a:r>
            <a:r>
              <a:rPr b="0" lang="zh-CN" sz="4400" spc="-1" strike="noStrike">
                <a:solidFill>
                  <a:srgbClr val="ffff66"/>
                </a:solidFill>
                <a:latin typeface="Times New Roman"/>
              </a:rPr>
              <a:t>并列连词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把每组句子合并为一个并列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1.He was tired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He went to bed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2.The child hid behind his mother'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skirt.   He was afraid of the do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7760" y="3048120"/>
            <a:ext cx="6683760" cy="703440"/>
          </a:xfrm>
          <a:prstGeom prst="rect">
            <a:avLst/>
          </a:prstGeom>
          <a:noFill/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e was tired, 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s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he went to b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257800"/>
            <a:ext cx="7620120" cy="1312920"/>
          </a:xfrm>
          <a:prstGeom prst="rect">
            <a:avLst/>
          </a:prstGeom>
          <a:noFill/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hild hid behind his mother's skirt,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fo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he was afraid of the do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77400" y="682560"/>
            <a:ext cx="779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He made a promise.He didn’t keep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1676520"/>
            <a:ext cx="7804080" cy="1312920"/>
          </a:xfrm>
          <a:prstGeom prst="rect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He made a promise,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bu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He didn’t keep i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20040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ry is opening the do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hn is greeting her gues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7391520" y="56437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4724280"/>
            <a:ext cx="8001000" cy="1312920"/>
          </a:xfrm>
          <a:prstGeom prst="rect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ry is opening the door,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and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hn is greeting her gues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1447920"/>
            <a:ext cx="80773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复合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主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主句是一个完整的句子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independent sentence),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它可以独立存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从句是一个不完整的句子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它必须和一个主句连用，不能独立存在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80600">
            <a:off x="2819160" y="4038480"/>
            <a:ext cx="1981080" cy="1524240"/>
          </a:xfrm>
          <a:prstGeom prst="irregularSeal2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80600">
            <a:off x="2742840" y="1905120"/>
            <a:ext cx="1917720" cy="1317600"/>
          </a:xfrm>
          <a:prstGeom prst="irregularSeal2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2819520"/>
            <a:ext cx="5410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By the time he arrived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4400" spc="-1" strike="noStrike">
                <a:solidFill>
                  <a:srgbClr val="3399ff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we had already lef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4400" spc="-1" strike="noStrike">
                <a:solidFill>
                  <a:srgbClr val="3399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91440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请指出该复合句的主句和从句部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72200" y="2286000"/>
            <a:ext cx="1523880" cy="838080"/>
          </a:xfrm>
          <a:prstGeom prst="wedgeRoundRectCallout">
            <a:avLst>
              <a:gd name="adj1" fmla="val -82916"/>
              <a:gd name="adj2" fmla="val 6344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从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3809880"/>
            <a:ext cx="1447920" cy="838440"/>
          </a:xfrm>
          <a:prstGeom prst="wedgeRoundRectCallout">
            <a:avLst>
              <a:gd name="adj1" fmla="val -93532"/>
              <a:gd name="adj2" fmla="val 5000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主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944720" y="1319040"/>
            <a:ext cx="5543280" cy="37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在复合句中，主要包含以下类型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从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主语从句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宾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表语从句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同位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定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7920" y="762120"/>
            <a:ext cx="533376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中学生英文写作中经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使用的从句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宾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定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2666880"/>
            <a:ext cx="3352680" cy="342900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指出下列各从句的类型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hope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hat everything is all r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was reading the newspaper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hen I came i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is the girl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ho sings best of a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1828800"/>
            <a:ext cx="3200400" cy="914400"/>
          </a:xfrm>
          <a:prstGeom prst="cloudCallout">
            <a:avLst>
              <a:gd name="adj1" fmla="val -60365"/>
              <a:gd name="adj2" fmla="val 46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宾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3048120"/>
            <a:ext cx="3276720" cy="1066680"/>
          </a:xfrm>
          <a:prstGeom prst="cloudCallout">
            <a:avLst>
              <a:gd name="adj1" fmla="val -52083"/>
              <a:gd name="adj2" fmla="val 319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419720"/>
            <a:ext cx="3048120" cy="990360"/>
          </a:xfrm>
          <a:prstGeom prst="cloudCallout">
            <a:avLst>
              <a:gd name="adj1" fmla="val -62189"/>
              <a:gd name="adj2" fmla="val 165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定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90720" y="220968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has found out .She was late.(wh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609480"/>
            <a:ext cx="733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请用括号中所给的词把每组句子连接为一个复合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39625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still remember the day .I first came to Beijing on that day.(whe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52360" y="5257800"/>
            <a:ext cx="6880680" cy="119124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still remember the day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he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 fir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me to Beij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3124080"/>
            <a:ext cx="6705720" cy="642600"/>
          </a:xfrm>
          <a:prstGeom prst="rect">
            <a:avLst/>
          </a:prstGeom>
          <a:noFill/>
          <a:ln w="2844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has found out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h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she was l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0"/>
            <a:ext cx="8839080" cy="71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请把每组句子连接为一个含有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状语从句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复合句。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’ll give the letter to him .I see 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时间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didn’t come yesterday .He was i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原因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t is such a big box .Nobody can move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结果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e’ll go to the great wall .It’s fi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omorrow.  (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条件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e should not go there all the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place is quite pleasant.(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让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状语从句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英语句子的种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76160" y="190512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简单句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(simple senten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304812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并列句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(compound  senten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114800"/>
            <a:ext cx="67053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复合句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(complex  senten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533520" y="205740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533520" y="312408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533520" y="419112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4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1295280"/>
            <a:ext cx="8077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’ll give the letter to him when I see him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didn’t come yesterday because he was il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t is such a big box that nobody can move i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e’ll go to the great wall if it’s fine tomorrow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lthough the place is quite pleasant, we should not go there all the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1828800"/>
            <a:ext cx="762120" cy="0"/>
          </a:xfrm>
          <a:prstGeom prst="line">
            <a:avLst/>
          </a:prstGeom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2438280"/>
            <a:ext cx="1447560" cy="0"/>
          </a:xfrm>
          <a:prstGeom prst="line">
            <a:avLst/>
          </a:prstGeom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15000" y="4648320"/>
            <a:ext cx="228600" cy="0"/>
          </a:xfrm>
          <a:prstGeom prst="line">
            <a:avLst/>
          </a:prstGeom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5715000"/>
            <a:ext cx="1828800" cy="0"/>
          </a:xfrm>
          <a:prstGeom prst="line">
            <a:avLst/>
          </a:prstGeom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0"/>
            <a:ext cx="6035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有下划线的词叫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从属连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(subordinating conjun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1143000"/>
            <a:ext cx="8305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请用所学知识改正下列病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My roommate was sleep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we didn’t want to wake her u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I went to bed.Because I wa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i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9480" y="1371600"/>
            <a:ext cx="784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My roommate was sleeping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We  didn’t want to wake her u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My roommate was sleeping,  s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we didn’t want to wake her u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I went to bed  because I w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tir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7315200" y="1752480"/>
            <a:ext cx="380880" cy="38124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2819520"/>
            <a:ext cx="761760" cy="68580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4114800"/>
            <a:ext cx="1981440" cy="68580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1"/>
          </p:cNvPr>
          <p:cNvSpPr/>
          <p:nvPr/>
        </p:nvSpPr>
        <p:spPr>
          <a:xfrm>
            <a:off x="457200" y="68580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7301"/>
                </a:moveTo>
                <a:lnTo>
                  <a:pt x="14156" y="7301"/>
                </a:lnTo>
                <a:lnTo>
                  <a:pt x="14539" y="7667"/>
                </a:lnTo>
                <a:lnTo>
                  <a:pt x="23747" y="7667"/>
                </a:lnTo>
                <a:lnTo>
                  <a:pt x="24304" y="8224"/>
                </a:lnTo>
                <a:lnTo>
                  <a:pt x="24304" y="8772"/>
                </a:lnTo>
                <a:lnTo>
                  <a:pt x="26150" y="8772"/>
                </a:lnTo>
                <a:lnTo>
                  <a:pt x="26515" y="8224"/>
                </a:lnTo>
                <a:lnTo>
                  <a:pt x="27255" y="8224"/>
                </a:lnTo>
                <a:lnTo>
                  <a:pt x="27255" y="13376"/>
                </a:lnTo>
                <a:lnTo>
                  <a:pt x="26515" y="13376"/>
                </a:lnTo>
                <a:lnTo>
                  <a:pt x="26150" y="12828"/>
                </a:lnTo>
                <a:lnTo>
                  <a:pt x="24304" y="12828"/>
                </a:lnTo>
                <a:lnTo>
                  <a:pt x="24304" y="14107"/>
                </a:lnTo>
                <a:lnTo>
                  <a:pt x="14722" y="14107"/>
                </a:lnTo>
                <a:lnTo>
                  <a:pt x="14722" y="9877"/>
                </a:lnTo>
                <a:lnTo>
                  <a:pt x="14539" y="9877"/>
                </a:lnTo>
                <a:lnTo>
                  <a:pt x="14156" y="10243"/>
                </a:lnTo>
                <a:lnTo>
                  <a:pt x="13242" y="1024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69339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简单句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(simple sentenc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98560" y="2859120"/>
            <a:ext cx="677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1600200"/>
            <a:ext cx="52498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只包含一个主谓结构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ry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opene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the d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两个主语和一个谓语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ev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his frien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are coming to dinn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一个主语和两个谓语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Mary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opene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the door and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greete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the guests.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2437920"/>
            <a:ext cx="67053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简单句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五种基本句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304560"/>
            <a:ext cx="78483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主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连系动词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表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(S+V+P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The weather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is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very col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主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不及物动词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(S+Vi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He 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laughed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主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及物动词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宾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(S+V+O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like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Chinese food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76720" y="1828800"/>
            <a:ext cx="2667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P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057400" y="4038480"/>
            <a:ext cx="5335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Vi</a:t>
            </a:r>
            <a:endParaRPr b="1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066680" y="6095880"/>
            <a:ext cx="5335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Vt</a:t>
            </a:r>
            <a:endParaRPr b="1" lang="en-US" sz="40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971800" y="6095880"/>
            <a:ext cx="2667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O</a:t>
            </a:r>
            <a:endParaRPr b="1" lang="en-US" sz="40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vert"/>
    <p:sndAc>
      <p:stSnd>
        <p:snd r:embed="rId9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990720"/>
            <a:ext cx="8305920" cy="52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4)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主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及物动词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间接宾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直接宾语    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S+V+IO+D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She taught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them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physics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5)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主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及物动词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宾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宾语补足语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S+V+O+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We must keep the room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warm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124080" y="3200400"/>
            <a:ext cx="5335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IO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724280" y="3200400"/>
            <a:ext cx="5335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DO</a:t>
            </a:r>
            <a:endParaRPr b="1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019920" y="6095880"/>
            <a:ext cx="2667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C</a:t>
            </a:r>
            <a:endParaRPr b="1" lang="en-US" sz="40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vert"/>
    <p:sndAc>
      <p:stSnd>
        <p:snd r:embed="rId7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请说出下列句子类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447920"/>
            <a:ext cx="5639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.Summer is com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.They won’t let me g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.He showed me a new TV s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.She knows what to d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5.The weather is very col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7320" y="1523880"/>
            <a:ext cx="115308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S+V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6600" y="2286000"/>
            <a:ext cx="161784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S+V+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6600" y="3048120"/>
            <a:ext cx="276696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S+V+IO+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5560" y="4343400"/>
            <a:ext cx="164232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S+V+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5560" y="5029200"/>
            <a:ext cx="156600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S+V+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2057400"/>
            <a:ext cx="268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+V+P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+Vi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+V+O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+V+IO+DO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+V+O+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7620120" y="5715000"/>
            <a:ext cx="733320" cy="762120"/>
          </a:xfrm>
          <a:custGeom>
            <a:avLst/>
            <a:gdLst>
              <a:gd name="textAreaLeft" fmla="*/ 98280 w 733320"/>
              <a:gd name="textAreaRight" fmla="*/ 635040 w 733320"/>
              <a:gd name="textAreaTop" fmla="*/ 131760 h 762120"/>
              <a:gd name="textAreaBottom" fmla="*/ 56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67" stAng="-5400000" swAng="5400000"/>
                <a:lnTo>
                  <a:pt x="21600" y="12199"/>
                </a:lnTo>
                <a:arcTo wR="21600" hR="7467" stAng="0" swAng="1039604"/>
                <a:lnTo>
                  <a:pt x="16035" y="19136"/>
                </a:lnTo>
                <a:lnTo>
                  <a:pt x="0" y="17299"/>
                </a:lnTo>
                <a:lnTo>
                  <a:pt x="16035" y="10534"/>
                </a:lnTo>
                <a:lnTo>
                  <a:pt x="16035" y="12469"/>
                </a:lnTo>
                <a:arcTo wR="21600" hR="7467" stAng="1039604" swAng="-644334"/>
                <a:lnTo>
                  <a:pt x="20487" y="9833"/>
                </a:lnTo>
                <a:arcTo wR="21600" hR="7467" stAng="-395270" swAng="-5004730"/>
                <a:close/>
              </a:path>
              <a:path fill="darkenLess" w="21600" h="21600">
                <a:moveTo>
                  <a:pt x="0" y="0"/>
                </a:moveTo>
                <a:arcTo wR="21600" hR="7467" stAng="-5400000" swAng="5400000"/>
                <a:lnTo>
                  <a:pt x="21600" y="12199"/>
                </a:lnTo>
                <a:arcTo wR="21600" hR="7467" stAng="0" swAng="-395270"/>
                <a:lnTo>
                  <a:pt x="20487" y="9833"/>
                </a:lnTo>
                <a:arcTo wR="21600" hR="7467" stAng="-395270" swAng="-500473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22240" y="1471680"/>
            <a:ext cx="748368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并列句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(compound sentence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把两个或几个简单句用</a:t>
            </a:r>
            <a:r>
              <a:rPr b="0" lang="zh-CN" sz="6600" spc="-1" strike="noStrike">
                <a:solidFill>
                  <a:srgbClr val="ffff66"/>
                </a:solidFill>
                <a:latin typeface="Times New Roman"/>
              </a:rPr>
              <a:t>并列连词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连接起来，则成为一个并列句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31680"/>
            <a:ext cx="9144000" cy="67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I turned on the TV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I watched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I turned on the TV  </a:t>
            </a:r>
            <a:r>
              <a:rPr b="1" i="1" lang="zh-CN" sz="4800" spc="-1" strike="noStrike">
                <a:solidFill>
                  <a:srgbClr val="66ff33"/>
                </a:solidFill>
                <a:latin typeface="Times New Roman"/>
              </a:rPr>
              <a:t>and</a:t>
            </a: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watched it.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I bought my sister a   pres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She didn’t  like it.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I bought my sister a  present,</a:t>
            </a:r>
            <a:r>
              <a:rPr b="1" i="1" lang="zh-CN" sz="4800" spc="-1" strike="noStrike">
                <a:solidFill>
                  <a:srgbClr val="66ff33"/>
                </a:solidFill>
                <a:latin typeface="Times New Roman"/>
              </a:rPr>
              <a:t>but</a:t>
            </a: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she didn’t  like it.</a:t>
            </a:r>
            <a:r>
              <a:rPr b="0" i="1" lang="zh-CN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1676520"/>
            <a:ext cx="2286000" cy="685800"/>
          </a:xfrm>
          <a:prstGeom prst="wedgeEllipseCallout">
            <a:avLst>
              <a:gd name="adj1" fmla="val -82152"/>
              <a:gd name="adj2" fmla="val 849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并列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0800" y="4648320"/>
            <a:ext cx="2286000" cy="685800"/>
          </a:xfrm>
          <a:prstGeom prst="wedgeEllipseCallout">
            <a:avLst>
              <a:gd name="adj1" fmla="val -58680"/>
              <a:gd name="adj2" fmla="val 993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并列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21:59:21Z</dcterms:created>
  <dc:creator>Legend User</dc:creator>
  <dc:description/>
  <dc:language>en-US</dc:language>
  <cp:lastModifiedBy>Legend User</cp:lastModifiedBy>
  <dcterms:modified xsi:type="dcterms:W3CDTF">2002-05-23T22:26:18Z</dcterms:modified>
  <cp:revision>69</cp:revision>
  <dc:subject/>
  <dc:title>PowerPoint 演示文稿</dc:title>
</cp:coreProperties>
</file>